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7B23-BE97-4719-8ED4-76E3C5CC7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FF82-6BC1-4A56-BFA5-D709167C1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C64A-A7CF-4F60-B3A9-DD937F122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F1B0-0021-4465-8688-DE1B7D045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A5800-4767-43E0-B060-3D1A200430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E8B7F-3B8B-48D5-ACF2-2ABDE04C1D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8E2EB-CBFE-43BB-BAF5-3A6E2287EA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0817F-75CF-43DC-98C5-D5081D066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0228-1D0D-47E1-817A-F5E7BB162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75DBA-86FA-4AF1-A944-AEB4DC1BD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A41D7-36A6-47F6-B3B0-3A8D5FF96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0000-7927-44BA-A0DD-320274736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FC3F-9484-46A8-8110-10E6516733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0616D-9ADF-4339-A9BA-976B3C190C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A3E35-1C8A-4898-B410-20DFB2311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C4001-F32B-419C-8174-8945019B04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8FB36-6020-48C3-AFF1-47D60A9D6D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1AA06-414E-4B72-AB04-8674B6B7BC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2080-1E84-4D4F-8C6A-FE25648276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8CFF-EE85-48C2-804A-CDADF9B0C6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C3646-07F2-43DF-BBAC-BDAAED038F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8DC65-6E1E-485C-8971-B3AABC951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8739-0A54-4068-8F22-DC2147753D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8A55C-D69B-4E7C-9ABF-5A680E03C0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570A-1A54-468B-B0B1-00DDBF59A7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2F220-C435-404D-BC9B-3DC8A11836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E4779-5BD5-4819-92AF-81771456C9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EEDB8-9F87-427D-8BB0-A513A1F3F4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39D4B-2D0B-46BB-8B77-CA900E4987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A9730-10F3-4C7A-B9AE-0600BDACD8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22AEF-46E2-4F88-8782-7B3EE4B569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89F6B-76D4-432D-B381-F2FDE4451A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2DD39-939C-4595-9F43-C41630349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6C98-B415-415D-B4FF-0352F4772B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D94F6-BA72-4863-86E0-30DCDF3038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00E50-09A7-4923-8BC9-17037D2B23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FCAC8-ACB1-4D58-90DB-8FD8FC725F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2BC56-B6BF-4631-ADE3-FBD9288F53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C3FB6-202B-46B9-953B-B351E83204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64F7BE-E20A-4867-899F-EBDBFAFC30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87E7F-7353-425A-B27D-7BAC1D6E79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526E6-3327-4F01-9174-6D40E2DB47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C4920-35BC-415C-A4F9-14ECDFBE6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CD98-D8D5-4531-918A-1EB379AB4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AC2C-FC87-480B-992A-4D9871DAC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3081-9C62-46DE-9CC3-383B4A26D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8341-45C4-41ED-A2CE-323E54B0A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5A08-8312-49C7-923E-79B43165C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02FC-2441-4C29-A797-2E05FCF8C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DBFE-DAE9-43B8-AD47-732076D5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B71A-929B-47EE-AD2B-6CADE92A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B70A-1B53-46E6-81CB-26930185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Encoding Techniques fo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On-Chip Communic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Architectur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Figures from book chapter 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910-2FE7-4EE0-A4DD-6C8673F4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9E7-55E5-4D6F-B054-584148FE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Documents and Settings\sudeep\Desktop\book images\images009.png"/>
          <p:cNvPicPr/>
          <p:nvPr/>
        </p:nvPicPr>
        <p:blipFill>
          <a:blip r:embed="rId1"/>
          <a:stretch/>
        </p:blipFill>
        <p:spPr>
          <a:xfrm>
            <a:off x="1676520" y="1676520"/>
            <a:ext cx="65912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AB70-AAAC-40D3-A7E3-8A7C85FB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Documents and Settings\sudeep\Desktop\book images\images010.png"/>
          <p:cNvPicPr/>
          <p:nvPr/>
        </p:nvPicPr>
        <p:blipFill>
          <a:blip r:embed="rId1"/>
          <a:stretch/>
        </p:blipFill>
        <p:spPr>
          <a:xfrm>
            <a:off x="2819520" y="1752480"/>
            <a:ext cx="404784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D2D-1B18-4CF4-AA0A-54BAC731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sudeep\Desktop\book images\images011.png"/>
          <p:cNvPicPr/>
          <p:nvPr/>
        </p:nvPicPr>
        <p:blipFill>
          <a:blip r:embed="rId1"/>
          <a:stretch/>
        </p:blipFill>
        <p:spPr>
          <a:xfrm>
            <a:off x="2286000" y="1523880"/>
            <a:ext cx="4881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120A-D5F0-40F1-8DBD-B7529A8F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Documents and Settings\sudeep\Desktop\book images\images012.png"/>
          <p:cNvPicPr/>
          <p:nvPr/>
        </p:nvPicPr>
        <p:blipFill>
          <a:blip r:embed="rId1"/>
          <a:stretch/>
        </p:blipFill>
        <p:spPr>
          <a:xfrm>
            <a:off x="1814400" y="1295280"/>
            <a:ext cx="61898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6BA-01EA-4A1D-BDCD-88272281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Documents and Settings\sudeep\Desktop\book images\images013.png"/>
          <p:cNvPicPr/>
          <p:nvPr/>
        </p:nvPicPr>
        <p:blipFill>
          <a:blip r:embed="rId1"/>
          <a:stretch/>
        </p:blipFill>
        <p:spPr>
          <a:xfrm>
            <a:off x="2057400" y="1752480"/>
            <a:ext cx="48672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6C08-2FA8-4E6C-A162-46944B367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Documents and Settings\sudeep\Desktop\book images\images014.png"/>
          <p:cNvPicPr/>
          <p:nvPr/>
        </p:nvPicPr>
        <p:blipFill>
          <a:blip r:embed="rId1"/>
          <a:stretch/>
        </p:blipFill>
        <p:spPr>
          <a:xfrm>
            <a:off x="1371600" y="1828800"/>
            <a:ext cx="73533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6BF-3A95-4516-8220-34D5A7C1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Documents and Settings\sudeep\Desktop\book images\images015.png"/>
          <p:cNvPicPr/>
          <p:nvPr/>
        </p:nvPicPr>
        <p:blipFill>
          <a:blip r:embed="rId1"/>
          <a:stretch/>
        </p:blipFill>
        <p:spPr>
          <a:xfrm>
            <a:off x="1523880" y="1752480"/>
            <a:ext cx="6802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448-835D-4BD7-B325-F1C95989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Documents and Settings\sudeep\Desktop\book images\images016.png"/>
          <p:cNvPicPr/>
          <p:nvPr/>
        </p:nvPicPr>
        <p:blipFill>
          <a:blip r:embed="rId1"/>
          <a:stretch/>
        </p:blipFill>
        <p:spPr>
          <a:xfrm>
            <a:off x="1371600" y="1828800"/>
            <a:ext cx="73105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9C2B-934F-4F59-9FE1-ACFD3B1E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Documents and Settings\sudeep\Desktop\book images\images017.png"/>
          <p:cNvPicPr/>
          <p:nvPr/>
        </p:nvPicPr>
        <p:blipFill>
          <a:blip r:embed="rId1"/>
          <a:stretch/>
        </p:blipFill>
        <p:spPr>
          <a:xfrm>
            <a:off x="2057400" y="1219320"/>
            <a:ext cx="5896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C2B-7B75-4D51-8798-8FC0B840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Documents and Settings\sudeep\Desktop\book images\images018.png"/>
          <p:cNvPicPr/>
          <p:nvPr/>
        </p:nvPicPr>
        <p:blipFill>
          <a:blip r:embed="rId1"/>
          <a:stretch/>
        </p:blipFill>
        <p:spPr>
          <a:xfrm>
            <a:off x="2209680" y="914400"/>
            <a:ext cx="5419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F941-A94A-459E-90CF-CED2F16F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Documents and Settings\sudeep\Desktop\book images\images001.png"/>
          <p:cNvPicPr/>
          <p:nvPr/>
        </p:nvPicPr>
        <p:blipFill>
          <a:blip r:embed="rId1"/>
          <a:stretch/>
        </p:blipFill>
        <p:spPr>
          <a:xfrm>
            <a:off x="2514600" y="914400"/>
            <a:ext cx="41148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B7C4-6676-44C8-B061-E408D2BA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Documents and Settings\sudeep\Desktop\book images\images019.png"/>
          <p:cNvPicPr/>
          <p:nvPr/>
        </p:nvPicPr>
        <p:blipFill>
          <a:blip r:embed="rId1"/>
          <a:stretch/>
        </p:blipFill>
        <p:spPr>
          <a:xfrm>
            <a:off x="2971800" y="1600200"/>
            <a:ext cx="38955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049A-D8EC-43AF-A219-EA58D664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sudeep\Desktop\book images\images020.png"/>
          <p:cNvPicPr/>
          <p:nvPr/>
        </p:nvPicPr>
        <p:blipFill>
          <a:blip r:embed="rId1"/>
          <a:stretch/>
        </p:blipFill>
        <p:spPr>
          <a:xfrm>
            <a:off x="2590920" y="1752480"/>
            <a:ext cx="42638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F38-5CD0-427F-9632-1CB38A16B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C:\Documents and Settings\sudeep\Desktop\book images\images021.png"/>
          <p:cNvPicPr/>
          <p:nvPr/>
        </p:nvPicPr>
        <p:blipFill>
          <a:blip r:embed="rId1"/>
          <a:stretch/>
        </p:blipFill>
        <p:spPr>
          <a:xfrm>
            <a:off x="1295280" y="2514600"/>
            <a:ext cx="73170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2E5-81AD-4B96-9D92-510BB71C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Documents and Settings\sudeep\Desktop\book images\images022.png"/>
          <p:cNvPicPr/>
          <p:nvPr/>
        </p:nvPicPr>
        <p:blipFill>
          <a:blip r:embed="rId1"/>
          <a:stretch/>
        </p:blipFill>
        <p:spPr>
          <a:xfrm>
            <a:off x="1447920" y="2209680"/>
            <a:ext cx="70722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FE3-4155-4A47-B471-FB97AEE0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Documents and Settings\sudeep\Desktop\book images\images023.png"/>
          <p:cNvPicPr/>
          <p:nvPr/>
        </p:nvPicPr>
        <p:blipFill>
          <a:blip r:embed="rId1"/>
          <a:stretch/>
        </p:blipFill>
        <p:spPr>
          <a:xfrm>
            <a:off x="1828800" y="380880"/>
            <a:ext cx="60199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47B-BE51-4652-8E03-634AD582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sudeep\Desktop\book images\images002.png"/>
          <p:cNvPicPr/>
          <p:nvPr/>
        </p:nvPicPr>
        <p:blipFill>
          <a:blip r:embed="rId1"/>
          <a:stretch/>
        </p:blipFill>
        <p:spPr>
          <a:xfrm>
            <a:off x="1752480" y="2514600"/>
            <a:ext cx="65944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D8F-DA67-41B5-8E0D-76CEBAC3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sudeep\Desktop\book images\images003.png"/>
          <p:cNvPicPr/>
          <p:nvPr/>
        </p:nvPicPr>
        <p:blipFill>
          <a:blip r:embed="rId1"/>
          <a:stretch/>
        </p:blipFill>
        <p:spPr>
          <a:xfrm>
            <a:off x="1828800" y="2362320"/>
            <a:ext cx="5873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F935-4D7D-4130-8068-47728B2E2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Documents and Settings\sudeep\Desktop\book images\images004.png"/>
          <p:cNvPicPr/>
          <p:nvPr/>
        </p:nvPicPr>
        <p:blipFill>
          <a:blip r:embed="rId1"/>
          <a:stretch/>
        </p:blipFill>
        <p:spPr>
          <a:xfrm>
            <a:off x="2209680" y="1752480"/>
            <a:ext cx="5438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6852-6AC7-4DFF-9D79-50468B97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sudeep\Desktop\book images\images005.png"/>
          <p:cNvPicPr/>
          <p:nvPr/>
        </p:nvPicPr>
        <p:blipFill>
          <a:blip r:embed="rId1"/>
          <a:stretch/>
        </p:blipFill>
        <p:spPr>
          <a:xfrm>
            <a:off x="1600200" y="2133720"/>
            <a:ext cx="6708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9208-B34B-40F2-98F1-A3FA7973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sudeep\Desktop\book images\images006.png"/>
          <p:cNvPicPr/>
          <p:nvPr/>
        </p:nvPicPr>
        <p:blipFill>
          <a:blip r:embed="rId1"/>
          <a:stretch/>
        </p:blipFill>
        <p:spPr>
          <a:xfrm>
            <a:off x="1981080" y="762120"/>
            <a:ext cx="54579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8D4-C33A-4DC3-B7FC-A3C10B4A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Documents and Settings\sudeep\Desktop\book images\images007.png"/>
          <p:cNvPicPr/>
          <p:nvPr/>
        </p:nvPicPr>
        <p:blipFill>
          <a:blip r:embed="rId1"/>
          <a:stretch/>
        </p:blipFill>
        <p:spPr>
          <a:xfrm>
            <a:off x="1219320" y="2895480"/>
            <a:ext cx="74959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561C-9289-476A-A1E2-B4529B5F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C:\Documents and Settings\sudeep\Desktop\book images\images008.png"/>
          <p:cNvPicPr/>
          <p:nvPr/>
        </p:nvPicPr>
        <p:blipFill>
          <a:blip r:embed="rId1"/>
          <a:stretch/>
        </p:blipFill>
        <p:spPr>
          <a:xfrm>
            <a:off x="1447920" y="1600200"/>
            <a:ext cx="68738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 Pasricha</cp:lastModifiedBy>
  <dcterms:modified xsi:type="dcterms:W3CDTF">2009-02-11T17:57:38Z</dcterms:modified>
  <cp:revision>573</cp:revision>
  <dc:subject/>
  <dc:title>On Chip Communication Architectures</dc:title>
</cp:coreProperties>
</file>