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4.jpeg" ContentType="image/jpeg"/>
  <Override PartName="/ppt/media/image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DF2A4C-9748-4A55-9CBE-43F2111126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2F7F8A-54E1-437F-B2E2-9DEE273C2F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B8BD29-3A25-4A2E-96DE-612CF8C120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7C9457-5ADE-4CDE-AD8F-BDD4A85606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CEF92F-6470-4343-A18B-9ED3171DD3F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7C19D1-0B13-4CE9-81BB-3B1C772EAF4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FE6D01-6D37-4596-841A-C8B8D429D00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5A7183-93BA-492A-9053-B7782F870EA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478D6C-8A7C-4860-86DF-FDE50AE5BFB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39B0EB-4F49-49DF-A89F-82102AFD022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B15696-CA10-47A3-88CD-03E9F8DAE87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DC0F48-9178-448C-B28B-C5EA5A09FB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F0A59D-D3AE-4133-A6C2-1445CE91CA4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FF743E-0287-48D6-B461-4C481084C91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0B1D70-0589-4096-9B16-5B7691588CD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997475-8784-44F4-9D20-2C0542A3791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EA55A8-8578-493D-9B0B-4FE11D6C0A5B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E8278D-94EC-4EED-954F-FE3706E49C7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67664C-A870-476C-990A-3741A6193C0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656B68-02B1-4451-B105-9178DF71BBF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CF6123-DD3F-4C12-BBFF-3ED992758EF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389210-0B52-47B8-8C95-C1BD3712DDC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3651D3-35D0-4D30-B6E6-EA52D3B611E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04275C-45AE-4302-92DD-343A7BD3384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50DB90-E297-4897-83C0-963E306E76C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4A20C9-2C16-47A1-84EF-0E873D30595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AC45F2-6DE8-483D-B9CD-A7CF31C11C8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130CE0-F7A0-4019-84F6-D4242EB4873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3D21CA-930B-4C2B-A864-0B22F2FA608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B01BE5-8ABC-4CF9-B5C3-BCD796183F58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6978FE2-F02E-4EB4-B6E1-3FEB6B8C37E3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8E3166C-B59B-42AD-A424-8AE6800226C0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E5DEE05-6D03-44D2-98FA-097DBA3E0C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7967A0-C2CF-4183-8C01-A5E308EF0588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EC20170-3495-47B2-B451-0FD685EA852C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757C217-3A2B-440D-A6A8-DC0C261A8ED0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A56F970-803E-48D7-BA6E-D3590F08A80F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5D320EA-D420-48E3-B3E9-BF2642D1AF90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9A52FCF-691F-4EF5-829E-6BFB20A161A1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EA238E8-6F49-47B3-9A08-FB9B38D57DF9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6870941-DFD7-4BAB-A453-62AC729CB0C2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D2E1F0B-4066-4060-B908-7EA8B6BD0131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4FD3626-8728-4D53-8BFB-F629CE846E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9FA0EC-061F-4985-89F8-36B543FD11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C4E3F3-A0E2-4769-95D6-54CC04F4D6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D1865E-B22A-49E8-BEC0-4EA3F39B72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348A6E-82F0-4C0E-B421-8F61602220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1FB52A-D30E-40CD-BCCB-D9281EBB4E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sldNum" idx="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AC5A0-7B2A-444C-AE49-3C7AE77A27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0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Oval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5" name="Oval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Ov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3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4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5861B-552E-4BB0-8D8E-0CD1E96250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101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Num" idx="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AEEC0-09BC-4852-92BA-A3DC4C9930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ftr" idx="6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148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Num" idx="7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1AC8D-1CDE-4AE1-8A34-603A67FB37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572314"/>
                </a:solidFill>
                <a:latin typeface="Gill Sans MT"/>
              </a:rPr>
              <a:t>On-Chip Communication Architectur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295280" y="3200400"/>
            <a:ext cx="6400800" cy="32004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320e04"/>
                </a:solidFill>
                <a:latin typeface="Gill Sans MT"/>
              </a:rPr>
              <a:t>Verification and Security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320e04"/>
                </a:solidFill>
                <a:latin typeface="Gill Sans MT"/>
              </a:rPr>
              <a:t>Issues in On-Chip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320e04"/>
                </a:solidFill>
                <a:latin typeface="Gill Sans MT"/>
              </a:rPr>
              <a:t>Communication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320e04"/>
                </a:solidFill>
                <a:latin typeface="Gill Sans MT"/>
              </a:rPr>
              <a:t>Architecture Design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20e04"/>
                </a:solidFill>
                <a:latin typeface="Gill Sans MT"/>
              </a:rPr>
              <a:t>ICS 295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20e04"/>
                </a:solidFill>
                <a:latin typeface="Gill Sans MT"/>
              </a:rPr>
              <a:t>Sudeep Pasricha and Nikil Dut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20e04"/>
                </a:solidFill>
                <a:latin typeface="Gill Sans MT"/>
              </a:rPr>
              <a:t>Figures from book chapter 10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94" name="Picture 5" descr=""/>
          <p:cNvPicPr/>
          <p:nvPr/>
        </p:nvPicPr>
        <p:blipFill>
          <a:blip r:embed="rId1"/>
          <a:stretch/>
        </p:blipFill>
        <p:spPr>
          <a:xfrm>
            <a:off x="6000840" y="1828800"/>
            <a:ext cx="3143160" cy="3143160"/>
          </a:xfrm>
          <a:prstGeom prst="rect">
            <a:avLst/>
          </a:prstGeom>
          <a:ln w="0">
            <a:noFill/>
          </a:ln>
        </p:spPr>
      </p:pic>
      <p:sp>
        <p:nvSpPr>
          <p:cNvPr id="195" name="Slide Number Placeholder 5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F5EC5-8CA6-4ABF-B1A0-4959ACF166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Footer Placeholder 6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E541E-CD0A-462A-8323-41A0E2B7CA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4" descr="C:\Documents and Settings\sudeep\Desktop\book images\images009.png"/>
          <p:cNvPicPr/>
          <p:nvPr/>
        </p:nvPicPr>
        <p:blipFill>
          <a:blip r:embed="rId1"/>
          <a:stretch/>
        </p:blipFill>
        <p:spPr>
          <a:xfrm>
            <a:off x="3147840" y="1928880"/>
            <a:ext cx="284832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8ADC6-FFD7-4278-B058-D355E94BBE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4" descr="C:\Documents and Settings\sudeep\Desktop\book images\images010.png"/>
          <p:cNvPicPr/>
          <p:nvPr/>
        </p:nvPicPr>
        <p:blipFill>
          <a:blip r:embed="rId1"/>
          <a:stretch/>
        </p:blipFill>
        <p:spPr>
          <a:xfrm>
            <a:off x="2467080" y="1924200"/>
            <a:ext cx="4209840" cy="300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D14F5-0AC7-4E2A-BDEE-DEF87BA0E5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4" descr="C:\Documents and Settings\sudeep\Desktop\book images\images011.png"/>
          <p:cNvPicPr/>
          <p:nvPr/>
        </p:nvPicPr>
        <p:blipFill>
          <a:blip r:embed="rId1"/>
          <a:stretch/>
        </p:blipFill>
        <p:spPr>
          <a:xfrm>
            <a:off x="1905120" y="1457280"/>
            <a:ext cx="5333760" cy="39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A18E6-8BAF-43B9-BDA0-EE0A417C37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4" descr="C:\Documents and Settings\sudeep\Desktop\book images\images012.png"/>
          <p:cNvPicPr/>
          <p:nvPr/>
        </p:nvPicPr>
        <p:blipFill>
          <a:blip r:embed="rId1"/>
          <a:stretch/>
        </p:blipFill>
        <p:spPr>
          <a:xfrm>
            <a:off x="2138400" y="2057400"/>
            <a:ext cx="48672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9DA61-0524-4BE0-941C-B2ECEB4016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4" descr="C:\Documents and Settings\sudeep\Desktop\book images\images013.png"/>
          <p:cNvPicPr/>
          <p:nvPr/>
        </p:nvPicPr>
        <p:blipFill>
          <a:blip r:embed="rId1"/>
          <a:stretch/>
        </p:blipFill>
        <p:spPr>
          <a:xfrm>
            <a:off x="2419200" y="2371680"/>
            <a:ext cx="4305600" cy="21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77F17-7602-4C07-A815-34C5826C00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4" descr="C:\Documents and Settings\sudeep\Desktop\book images\images014.png"/>
          <p:cNvPicPr/>
          <p:nvPr/>
        </p:nvPicPr>
        <p:blipFill>
          <a:blip r:embed="rId1"/>
          <a:stretch/>
        </p:blipFill>
        <p:spPr>
          <a:xfrm>
            <a:off x="2619360" y="2309760"/>
            <a:ext cx="3905280" cy="22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387A2-E8E9-453D-8E54-F5B100AA2B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4" descr="C:\Documents and Settings\sudeep\Desktop\book images\images015.png"/>
          <p:cNvPicPr/>
          <p:nvPr/>
        </p:nvPicPr>
        <p:blipFill>
          <a:blip r:embed="rId1"/>
          <a:stretch/>
        </p:blipFill>
        <p:spPr>
          <a:xfrm>
            <a:off x="1943280" y="1609560"/>
            <a:ext cx="5257800" cy="36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70334-5501-4841-AB7F-9346F8E1CA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4" descr="C:\Documents and Settings\sudeep\Desktop\book images\images016.png"/>
          <p:cNvPicPr/>
          <p:nvPr/>
        </p:nvPicPr>
        <p:blipFill>
          <a:blip r:embed="rId1"/>
          <a:stretch/>
        </p:blipFill>
        <p:spPr>
          <a:xfrm>
            <a:off x="1952640" y="600120"/>
            <a:ext cx="5238720" cy="56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6BFFA-85C7-42C1-8C55-EC0034D101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4" descr="C:\Documents and Settings\sudeep\Desktop\book images\images017.png"/>
          <p:cNvPicPr/>
          <p:nvPr/>
        </p:nvPicPr>
        <p:blipFill>
          <a:blip r:embed="rId1"/>
          <a:stretch/>
        </p:blipFill>
        <p:spPr>
          <a:xfrm>
            <a:off x="1824120" y="1400040"/>
            <a:ext cx="5495760" cy="40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C6882-12A2-477D-99B2-2353218D55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4" descr="C:\Documents and Settings\sudeep\Desktop\book images\images018.png"/>
          <p:cNvPicPr/>
          <p:nvPr/>
        </p:nvPicPr>
        <p:blipFill>
          <a:blip r:embed="rId1"/>
          <a:stretch/>
        </p:blipFill>
        <p:spPr>
          <a:xfrm>
            <a:off x="1900080" y="2319480"/>
            <a:ext cx="5343840" cy="22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8F734-39A7-4859-BD6F-30A28F94B3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4" descr="C:\Documents and Settings\sudeep\Desktop\book images\images001.png"/>
          <p:cNvPicPr/>
          <p:nvPr/>
        </p:nvPicPr>
        <p:blipFill>
          <a:blip r:embed="rId1"/>
          <a:stretch/>
        </p:blipFill>
        <p:spPr>
          <a:xfrm>
            <a:off x="2462040" y="1581120"/>
            <a:ext cx="4219920" cy="36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37C27-29D2-4566-96E3-A5BA293B56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4" descr="C:\Documents and Settings\sudeep\Desktop\book images\images002.png"/>
          <p:cNvPicPr/>
          <p:nvPr/>
        </p:nvPicPr>
        <p:blipFill>
          <a:blip r:embed="rId1"/>
          <a:stretch/>
        </p:blipFill>
        <p:spPr>
          <a:xfrm>
            <a:off x="2000160" y="1219320"/>
            <a:ext cx="514368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EDEC0-4EF7-4018-8910-02C419D213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4" descr="C:\Documents and Settings\sudeep\Desktop\book images\images003.png"/>
          <p:cNvPicPr/>
          <p:nvPr/>
        </p:nvPicPr>
        <p:blipFill>
          <a:blip r:embed="rId1"/>
          <a:stretch/>
        </p:blipFill>
        <p:spPr>
          <a:xfrm>
            <a:off x="2771640" y="2357280"/>
            <a:ext cx="3600720" cy="21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08FAB-F688-4449-9310-DC6691C534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4" descr="C:\Documents and Settings\sudeep\Desktop\book images\images004.png"/>
          <p:cNvPicPr/>
          <p:nvPr/>
        </p:nvPicPr>
        <p:blipFill>
          <a:blip r:embed="rId1"/>
          <a:stretch/>
        </p:blipFill>
        <p:spPr>
          <a:xfrm>
            <a:off x="1800360" y="1976400"/>
            <a:ext cx="5543280" cy="29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A13B8-13D0-4F4F-AA55-751D829CA6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4" descr="C:\Documents and Settings\sudeep\Desktop\book images\images005.png"/>
          <p:cNvPicPr/>
          <p:nvPr/>
        </p:nvPicPr>
        <p:blipFill>
          <a:blip r:embed="rId1"/>
          <a:stretch/>
        </p:blipFill>
        <p:spPr>
          <a:xfrm>
            <a:off x="1657440" y="1604880"/>
            <a:ext cx="5829120" cy="36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621B9-7120-450B-9DB8-C87F5F2E9A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4" descr="C:\Documents and Settings\sudeep\Desktop\book images\images006.png"/>
          <p:cNvPicPr/>
          <p:nvPr/>
        </p:nvPicPr>
        <p:blipFill>
          <a:blip r:embed="rId1"/>
          <a:stretch/>
        </p:blipFill>
        <p:spPr>
          <a:xfrm>
            <a:off x="1785960" y="1928880"/>
            <a:ext cx="557208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CCFE4-A03C-4D2E-BA67-57D0474CB9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4" descr="C:\Documents and Settings\sudeep\Desktop\book images\images007.png"/>
          <p:cNvPicPr/>
          <p:nvPr/>
        </p:nvPicPr>
        <p:blipFill>
          <a:blip r:embed="rId1"/>
          <a:stretch/>
        </p:blipFill>
        <p:spPr>
          <a:xfrm>
            <a:off x="3048120" y="2057400"/>
            <a:ext cx="304776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F757E-267B-4752-B5DF-73FF642F34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4" descr="C:\Documents and Settings\sudeep\Desktop\book images\images008.png"/>
          <p:cNvPicPr/>
          <p:nvPr/>
        </p:nvPicPr>
        <p:blipFill>
          <a:blip r:embed="rId1"/>
          <a:stretch/>
        </p:blipFill>
        <p:spPr>
          <a:xfrm>
            <a:off x="1952640" y="2276640"/>
            <a:ext cx="5238720" cy="23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Sudeep Pasricha</cp:lastModifiedBy>
  <dcterms:modified xsi:type="dcterms:W3CDTF">2009-02-11T18:38:28Z</dcterms:modified>
  <cp:revision>574</cp:revision>
  <dc:subject/>
  <dc:title>On Chip Communication Architectures</dc:title>
</cp:coreProperties>
</file>