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11.wmf" ContentType="image/x-wmf"/>
  <Override PartName="/ppt/media/image53.png" ContentType="image/png"/>
  <Override PartName="/ppt/media/image10.wmf" ContentType="image/x-wmf"/>
  <Override PartName="/ppt/media/image52.png" ContentType="image/png"/>
  <Override PartName="/ppt/media/image51.png" ContentType="image/png"/>
  <Override PartName="/ppt/media/image4.jpeg" ContentType="image/jpe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9.png" ContentType="image/png"/>
  <Override PartName="/ppt/media/image38.png" ContentType="image/png"/>
  <Override PartName="/ppt/media/image37.png" ContentType="image/png"/>
  <Override PartName="/ppt/media/image36.png" ContentType="image/png"/>
  <Override PartName="/ppt/media/image20.png" ContentType="image/png"/>
  <Override PartName="/ppt/media/image57.png" ContentType="image/png"/>
  <Override PartName="/ppt/media/image19.png" ContentType="image/png"/>
  <Override PartName="/ppt/media/image61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18.png" ContentType="image/png"/>
  <Override PartName="/ppt/media/image24.png" ContentType="image/png"/>
  <Override PartName="/ppt/media/image62.png" ContentType="image/png"/>
  <Override PartName="/ppt/media/image63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9.wmf" ContentType="image/x-wmf"/>
  <Override PartName="/ppt/media/image41.png" ContentType="image/png"/>
  <Override PartName="/ppt/media/image29.png" ContentType="image/png"/>
  <Override PartName="/ppt/media/image71.png" ContentType="image/png"/>
  <Override PartName="/ppt/media/image66.png" ContentType="image/png"/>
  <Override PartName="/ppt/media/image77.png" ContentType="image/png"/>
  <Override PartName="/ppt/media/image8.wmf" ContentType="image/x-wmf"/>
  <Override PartName="/ppt/media/image40.png" ContentType="image/png"/>
  <Override PartName="/ppt/media/image76.png" ContentType="image/png"/>
  <Override PartName="/ppt/media/image7.wmf" ContentType="image/x-wmf"/>
  <Override PartName="/ppt/media/image75.png" ContentType="image/png"/>
  <Override PartName="/ppt/media/image6.wmf" ContentType="image/x-wmf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16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50.png" ContentType="image/png"/>
  <Override PartName="/ppt/media/image12.png" ContentType="image/png"/>
  <Override PartName="/ppt/media/image49.png" ContentType="image/png"/>
  <Override PartName="/ppt/media/image1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3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C89C-95A3-45A2-A45F-CD9CD39E4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A2F6-45C2-492F-99D5-BA3298C53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940E-00D6-4A01-A27E-A1C90345F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3393-A09B-40F6-A006-DD9C23689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CB042-8366-47D8-8FFC-F0E154954B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2BA3B-9DA6-4879-9D24-5E2E797BDE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ABA2E-01D3-421E-BAB7-265C2DEEB7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9B28E-B7C2-4D48-B2F2-ECF68905B2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92CA3-9AFB-4903-AEFD-420B7255D9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C4F6B-CF6B-4E88-BAD8-331DC18F37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DD124-FE41-449E-8561-54EC105FA7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54E0-66D7-4034-8CD9-A08683C36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69369-84DB-4F4C-902C-0E7DA574F6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2CDB8-FEB7-4950-8103-97372BC365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614BC-0A93-4FD7-9894-04E2D39E1F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953A8-0483-4FA4-929D-C16564B8AB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3C98E-9C3D-4149-8D74-759F498CBA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2A34E-A3F5-4FA7-A9B0-85DE8DBABE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23B70-F64D-4715-BB50-09E6BBF14D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6CBC1-D528-4C22-A654-E32E6468A5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03A64-C4FD-4CA9-828E-45A037D013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75D1F-2BD3-40DE-ADB3-1F94F3EBD0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3ED4-B8FF-4D61-9354-B1B1ADD807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25049-DBD5-4531-A4DC-7258D28371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D381A-B530-4C88-BB7B-3E3457A171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29953-5847-4218-893E-E6E9BB94C6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477E6-3993-4728-9E8B-6F18B7358D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01CA7-A903-472A-A867-6EB3A8B2AA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373D9-A5BC-45AB-80E4-429C548CC1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3FD50-3056-4DCC-ABDF-9EB69B1B4D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513367-CC3C-474D-A249-8839DC3D1F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251BBD-0AFA-41C1-A145-5A6C7E4C9B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C14683-2384-493A-8A8E-76421BA6D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1307-787D-4F29-BB3A-33D6BB4C3E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A0AB2E-FE1F-417B-85EC-69356C3A58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59B085-EC69-491F-9C2B-C1C6218519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FC7302-29A7-4B02-9230-2FE303FB7E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AE4053-66C0-49C7-8BC0-16D9640D7B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3DFB64-D4CD-4BD1-B8EE-667524C479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223304-38D1-4E89-A115-A39FF5E4B2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3F5A5B-18D8-4CEA-AF48-45BA1F61A1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15CAA-93CF-47BA-960E-03CC90CDBE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27C66-24C6-4144-8DBA-D4C6DC6AC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AEC6-80C6-49C1-955B-9FF43B193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E864-9150-4BD6-A0C8-4304CB4AF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C98B-8287-4864-9E2C-119603243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ACBA-E623-47A6-ADBE-44733DDAE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28F0-19A0-4162-B62C-8F77B0744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5BBC-4492-4CC2-8C99-2DB4C6DF1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0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5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42F6-C134-4B2F-B8CF-16F74FEEF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CF1C-2BD8-4F6D-B524-AED2DC02A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3FC1-ACD2-457D-895D-E3C2E7919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On-Chip Communication Archite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Synthesis Techniq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ICS 29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udeep Pasricha and Nikil Dut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lides based on book chapter 6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000840" y="1828800"/>
            <a:ext cx="3143160" cy="314316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930C-108C-4528-A85D-2D327280C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opology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42640" y="1294920"/>
            <a:ext cx="7791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ivate slave cre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king a slave private to a master is possible if the master is the only one accessing the slav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moves a slave from the shared bus, which reduces the fanout by one for all the signals driven by the AMBA logi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FC5C-88F4-4AB4-9C37-F7B7D229D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rcRect l="0" t="4380" r="0" b="0"/>
          <a:stretch/>
        </p:blipFill>
        <p:spPr>
          <a:xfrm>
            <a:off x="5334120" y="3200400"/>
            <a:ext cx="3133440" cy="3324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1219320" y="3133800"/>
            <a:ext cx="3379680" cy="341928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8"/>
          <p:cNvCxnSpPr/>
          <p:nvPr/>
        </p:nvCxnSpPr>
        <p:spPr>
          <a:xfrm>
            <a:off x="4571640" y="4648320"/>
            <a:ext cx="61020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opology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2640" y="1143000"/>
            <a:ext cx="779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lave iso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ving a slave to another layer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F319-C91B-4B7D-9025-D50226B38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2249640" cy="2276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4286160" y="1905120"/>
            <a:ext cx="4781520" cy="4581360"/>
          </a:xfrm>
          <a:prstGeom prst="rect">
            <a:avLst/>
          </a:prstGeom>
          <a:ln w="0">
            <a:noFill/>
          </a:ln>
        </p:spPr>
      </p:pic>
      <p:cxnSp>
        <p:nvCxnSpPr>
          <p:cNvPr id="259" name="Straight Arrow Connector 10"/>
          <p:cNvCxnSpPr/>
          <p:nvPr/>
        </p:nvCxnSpPr>
        <p:spPr>
          <a:xfrm>
            <a:off x="3657240" y="3200400"/>
            <a:ext cx="61020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opology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142640" y="1143000"/>
            <a:ext cx="779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ouping mast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ving masters to another layer to reduce arbitration conflict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CF28-AF02-4642-B875-24F5AA3BF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2800440" y="2666880"/>
            <a:ext cx="6191280" cy="3733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2286000" cy="2313000"/>
          </a:xfrm>
          <a:prstGeom prst="rect">
            <a:avLst/>
          </a:prstGeom>
          <a:ln w="0">
            <a:noFill/>
          </a:ln>
        </p:spPr>
      </p:pic>
      <p:cxnSp>
        <p:nvCxnSpPr>
          <p:cNvPr id="266" name="Elbow Connector 15"/>
          <p:cNvCxnSpPr/>
          <p:nvPr/>
        </p:nvCxnSpPr>
        <p:spPr>
          <a:xfrm flipH="1" flipV="1" rot="10800000">
            <a:off x="1980720" y="4647960"/>
            <a:ext cx="686520" cy="533880"/>
          </a:xfrm>
          <a:prstGeom prst="bentConnector3">
            <a:avLst>
              <a:gd name="adj1" fmla="val -4407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opology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42640" y="14475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nthesis heurist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itially, all masters and slaves are mapped to a single lay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ivate slave creation transformation is applied for all eligible slav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case a latency violation exists for a master, slave isolation transformation is applied to the slowest slav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violation persists, grouping masters transformation is perform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y transferring masters with less stringent latency requirements to a new laye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ce a solution that satisfies latency constraints is obtained, slave isolation and grouping masters transformations are perform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o reduce powe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t every iteration power of current solution is calculated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y using probability-based formulations to estimate switching activity on the wir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nsformations are carried out till no more improvement is obtain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7E8F-D863-4A66-8BC0-90FBE0343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opology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96CC-18CF-4504-8113-AB2D0A253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3078360" cy="2771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5184720" y="1828800"/>
            <a:ext cx="3933720" cy="4600440"/>
          </a:xfrm>
          <a:prstGeom prst="rect">
            <a:avLst/>
          </a:prstGeom>
          <a:ln w="0">
            <a:noFill/>
          </a:ln>
        </p:spPr>
      </p:pic>
      <p:cxnSp>
        <p:nvCxnSpPr>
          <p:cNvPr id="276" name="Straight Arrow Connector 7"/>
          <p:cNvCxnSpPr/>
          <p:nvPr/>
        </p:nvCxnSpPr>
        <p:spPr>
          <a:xfrm>
            <a:off x="4571640" y="3733920"/>
            <a:ext cx="61020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Content Placeholder 2"/>
          <p:cNvSpPr/>
          <p:nvPr/>
        </p:nvSpPr>
        <p:spPr>
          <a:xfrm>
            <a:off x="990720" y="1143000"/>
            <a:ext cx="80769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uristic was implemented in C and appli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Sobel Transform S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29.6% less po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opology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6632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rali et al. [DATE ‘05] proposed a methodology for STBus crossbar (matrix) synthe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ared to a full crossbar, a partial crossbar ha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wer communication components (buses, arbiters, decoders, etc.), lower area, reduced power consump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al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sign a minimal cost partial crossbar bus architecture for a given MPSoC applic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erage and maximum packet latencies must lie within acceptable bounds from the latencies obtained for a full crossba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4145-19E2-407C-A82B-3DE1F1B9F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9930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opology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90720" y="13712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hase 1: SystemC simu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indow-based traffic analysis -&gt; window size is parametriz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hase 2: Preprocessing to identif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erlapping critical traffic streams to be mapped to separate bu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rgets with large traffic overlap in a window to map to separate bu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x. no. of targets to be connected to a bus (to bound max. latency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hase 3: MILP based partial crossbar gene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0B91-4CAA-4B08-8BB9-A044E0FD8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69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opology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ed methodology to synthetic MPSoC appl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65AC-C0C6-40C7-BD25-88E28A792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6048360" cy="168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1447920" y="4114800"/>
            <a:ext cx="3809880" cy="2449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3"/>
          <a:stretch/>
        </p:blipFill>
        <p:spPr>
          <a:xfrm>
            <a:off x="5470560" y="4038480"/>
            <a:ext cx="3139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opology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payasuwan et al. [DATE ‘04] proposed a simulated annealing (SA)-based approach to synthesize a hierarchical shared bus architecture topol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st function accounts for criteria such as number of buses, communication conflict, and bus utiliz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A based optimization depends on weights in cost func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o et al. [ASPDAC ‘07] presented an SA-based approach for synthesizing a cascaded crossba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ology synthesis for segmented bus was presented by Guo et al. [ASPDAC ‘06] 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btain a solution with minimum wire ener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nerate a set of solutions to trade-off chip area, energy, dela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1320-FC49-4CB4-A2AA-28443AA8E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pology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Protocol Parameter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pology and Protocol Parameter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hysically aware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-synthesis with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AD0A-2DB5-49CD-81E4-E248DD2A1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pology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tocol Parameter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pology and Protocol Parameter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hysically aware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-synthesis with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09E7-14DB-49CD-9EF8-F36658106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tocol Parameter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142640" y="1294920"/>
            <a:ext cx="779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s-based communication architectures are characterized by several protocol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 widths, bus clock frequencies, transaction burst sizes, arbitration schemes, buffer siz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 parameter synthesis determines values for one or more parameter for a fixed topol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ile satisfying constraints of the applica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rly work in protocol parameter synthesis focused on determining bus wid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rayan et al. [DATE ‘94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 simple shared bus architectu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rade-off bus width with system performa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o arbitration assumed; traffic conflict on shared bus ignor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A5EF-4D79-49E5-A78E-E1A973E7E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tocol Parameter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 MT"/>
              </a:rPr>
              <a:t>Lahiri et al. [ICCAD ’00] proposed an approach t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 bus protocol parameters as well as component mapping on buses to improve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E887-EEE0-4594-A37E-DB2622C58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650232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1905120" y="4419720"/>
            <a:ext cx="6553080" cy="132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tocol Parameter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EAF9-B66A-4B2D-8C39-CB585076C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624816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tocol Parameter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90720" y="12193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tep 1: Co-simulate entire system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suming completely parallel (conflict-free) comm. between co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enerate execution tra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tep 2: save traces as a comm. analysis graph (CAG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tep 3: Performance analysis to generate comm. graph (CG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presents statistics gathered by performance analys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ngle weight derived for each ed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42BC-1EA4-4874-882F-4D2533EB0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43200" y="3962520"/>
            <a:ext cx="44197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tocol Parameter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9072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tep 4: Generate initial component mapping to bus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alyze C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lculate demand from component on comm. archite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emand of component = sum of weights of outgoing edg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range components in a descending order of dema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ank buses in comm. architecture by analyzing topology templ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igher rank is given to buses that have higher performance and are well connected to the rest of the bu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lect highest ranked component and map to bus with maximum interaction level; repeat till no more components lef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tep 5: Generate initial protocol paramet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gh arbitration priority for higher ranked compon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ximum block transfer size calculated as weighted average of the size of transactions between components on the b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2E1F-83FD-47F2-AA20-EBFE8EF88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tocol Parameter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tep 7: Generate transformations/moves to improve performan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reate communication conflict graph (CCG) where edges between components represent communication overlap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nged congestion levels used to recalculate time taken for transac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ove with maximum time reduction (potential gain) is select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peat till no more improvement possib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D750-1C2F-423A-A133-55167F744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3274920" cy="3268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28749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tocol Parameter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294920"/>
            <a:ext cx="749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TM: cell forwarding unit of an output queued ATM switch, with a fixed topology having three buses connected by two bridg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YS: simple communication system with two buses connected by a single brid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D73B-06D0-4BCD-BCBD-CC375D7AC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645660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tocol Parameter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142640" y="1294920"/>
            <a:ext cx="7791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in et al. [DATE ‘04] proposed a methodology to automatically determine slot schedule for a time division multiple access (TDMA)-based arbitration sche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466F-AC07-4C63-B3F9-8366CEEA2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4514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tocol Parameter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ive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meet throughput requirements for mast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8855-6456-42CE-936B-A96D29256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50292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tocol Parameter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ive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meet throughput and latency requirements for mast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1C35-80D0-45D9-9F61-FFB5064B0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319480" y="2514600"/>
            <a:ext cx="5224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igning on-chip communication architectures is becoming more and more challeng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50080" indent="-203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reasing number of components in today's systems translates into more inter-component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-dimensional design constrain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50080" indent="-2034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formance, reli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0080" indent="-2034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, cost, area, time-to-mar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ystem designers need techniques that c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50080" indent="-203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timize for individual design go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0080" indent="-203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 design decisions to provide a good balance between other design go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D4C8-6F6D-4C83-B56B-1ABA792D9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tocol Parameter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218960" y="11430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results with following GA parameters: crossover rate of 70%, mutation rate of 25%, population size of 80%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DDA9-10C1-4140-B817-5F8BA0AD9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4419360" cy="27842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1523880" y="5334120"/>
            <a:ext cx="7158240" cy="100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6632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pology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tocol Parameter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Topology and Protocol Parameter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hysically aware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-synthesis with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E1AC-4FF0-4B55-8003-DA83E8082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pology and Protocol Parameter Synthesi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like previous approaches, a few approaches consider both topology and protocol parameter synthesis simultaneous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comprehensive synthes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ndey et al. [FPLA ‘05] proposed a technique to simultaneously synthesize hierarchical shared bus topology and width of data bus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ile satisfying the performance constrai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ing integer linear programming (ILP) formul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sricha et al. [ASPDAC ‘05] proposed a technique to automate synthesis of hierarchical bus topology and multiple protocol paramet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bus widths, bus clock speeds, OO buffer sizes, DMA burst siz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ing several heurist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C7E5-3355-4595-83BB-2D91CB4F4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pology and Protocol Parameter Synthesi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sricha et al. [ASPDAC ‘06] proposed automated topology and parameter synthesis methodology for bus matrix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al: minimal cost partial bus matrix tailored to appl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as fewer busses (consequently fewer arbiters, decoders, buffer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aximizes bus utiliz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duces implementation cost, area and power dissip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EF52-B2FF-4021-B21E-568B5FCEE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066680" y="4200480"/>
            <a:ext cx="3810240" cy="2200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2"/>
          <a:stretch/>
        </p:blipFill>
        <p:spPr>
          <a:xfrm>
            <a:off x="5257800" y="4200480"/>
            <a:ext cx="3705120" cy="2200320"/>
          </a:xfrm>
          <a:prstGeom prst="rect">
            <a:avLst/>
          </a:prstGeom>
          <a:ln w="0">
            <a:noFill/>
          </a:ln>
        </p:spPr>
      </p:pic>
      <p:sp>
        <p:nvSpPr>
          <p:cNvPr id="372" name="Right Arrow 8"/>
          <p:cNvSpPr/>
          <p:nvPr/>
        </p:nvSpPr>
        <p:spPr>
          <a:xfrm>
            <a:off x="4800600" y="5191200"/>
            <a:ext cx="533520" cy="30456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ff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pology and Protocol Parameter Synthesi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142640" y="1143000"/>
            <a:ext cx="779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PSoC designs have performance constraints that can be represented in terms of Data Throughput Constrai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ion Throughput Graph, CTG = G(V,A) incorporates SoC components and throughput constrai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roughput Constraint Path (TCP) is a CTG sub-grap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AC7D-66D6-4F94-8E82-6642FEC2E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43434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pology and Protocol Parameter Synthesi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ion Parameter Constraint Set (Ψ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d to ensure that approach generates realistic communication architectur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straints are in the form of a discrete set of valid values for protocol parameters to be synthesiz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, specifying that bus clock frequency for a bus can only be multiples of 33 MHz, up to a maximum of 330 MHz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designer to bias synthesis process based on knowledge of design and technology being targe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6A13-FA02-43C0-AA4D-2D167A306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pology and Protocol Parameter Synthesi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2537-044B-486A-A976-0DC63BBFB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7913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pology and Protocol Parameter Synthesi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66320" y="1294920"/>
            <a:ext cx="7867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&amp;B Goal: cluster slave modules to minimize matrix cos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rt by clustering two slave clusters at a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itially, each slave cluster has only one slav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wever, the total number of clustering configurations possible for n slaves is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+ (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Gill Sans MT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+ (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Gill Sans MT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Gill Sans MT"/>
              </a:rPr>
              <a:t>n-2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+ … + (n! x (n-1)!)/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Gill Sans MT"/>
              </a:rPr>
              <a:t>(n-1)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xtremely large number for even medium sized SoCs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quickly prune out invalid clustering configurations and converge on an optimal solution, use a powerful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ounding fun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ounding fun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lled after every clustering oper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es lookup table to discard duplicate clustering op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iscards all non-beneficial clustering ops (i.e. no savings in no. of busse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iscards incompatible clustering op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.g. mergers of busses with conflicting bus speed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iscards clustering which cannot theoretically support b/w requiremen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2B7A-C051-4A96-97FF-6A42921D0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pology and Protocol Parameter Synthesi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294920"/>
            <a:ext cx="749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rimental results on four MPSoC applications from the networking doma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gnificant matrix component sav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.6x to 9x when compared with a full bus matrix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1EF3-DF9F-4481-9A16-862E5BB03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5181480" cy="28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pology and Protocol Parameter Synthesi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142640" y="1143000"/>
            <a:ext cx="779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thodology extended by Pasricha et al. [CODES+ISSS ‘06] to synthesize bus matrix topology and protocol paramet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ith the incorporation of energy estimation models for bus wires and bus logic compon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al: generate multiple candidate bus matrix solutions, on which to perform a power-performance trade-off analy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thodology applied to an MPSoC appl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9ED5-97AD-497A-98F8-BD8B951B7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1447920" y="4419720"/>
            <a:ext cx="74278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66320" y="1447920"/>
            <a:ext cx="3429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loration and synthesis techniques can broadly be classified into 3 categorie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tatic, dynamic, hybri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mercial toolkits available for standard bus architectures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MBA Designer/Design Kit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Bus GenKi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onics Studi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t very useful for automating exploration and synthesizing communication architectures that satisfy diverse design constrai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D286-B519-46E3-82B1-5F0C3E7B1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500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pology and Protocol Parameter Synthesi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9582-E89D-4035-AD98-F516EE9FE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065240" y="1143000"/>
            <a:ext cx="3352680" cy="5562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325760" cy="166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5" name="TextBox 7"/>
          <p:cNvSpPr/>
          <p:nvPr/>
        </p:nvSpPr>
        <p:spPr>
          <a:xfrm>
            <a:off x="2061000" y="63244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8"/>
          <p:cNvSpPr/>
          <p:nvPr/>
        </p:nvSpPr>
        <p:spPr>
          <a:xfrm>
            <a:off x="6291000" y="1143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3"/>
          <a:stretch/>
        </p:blipFill>
        <p:spPr>
          <a:xfrm>
            <a:off x="4572000" y="4038480"/>
            <a:ext cx="434484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8" name="TextBox 10"/>
          <p:cNvSpPr/>
          <p:nvPr/>
        </p:nvSpPr>
        <p:spPr>
          <a:xfrm>
            <a:off x="5257800" y="335268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p to 20% in power and 40% in performance possible trade-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1"/>
          <p:cNvSpPr/>
          <p:nvPr/>
        </p:nvSpPr>
        <p:spPr>
          <a:xfrm>
            <a:off x="5257800" y="586728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p to 8% in runtime and 15% in energy possible trade-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pology and Protocol Parameter Synthesi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34960" y="1294920"/>
            <a:ext cx="749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sricha et al. [VLSID ‘08] further extended this synthesis methodology by incorporating a PVT (process, voltage, temperature) variation aware power estimation techniqu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orporating PVT variation-awareness in the system level bus matrix synthesis technique resulted in a set of curves for power and energy in the trade-off graph outpu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stead of a single curve for power and ener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ed for a more accurate power characterization in the face of PVT variations early in the design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nabling designers to make more informed decisions when selecting a bus matrix configur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5074-8788-4AC2-8ED1-D5BBB1E25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pology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tocol Parameter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pology and Protocol Parameter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Physically aware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-synthesis with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F379-A2FD-4DF9-B653-B995CBE85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hysically-aware Synthesi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st synthesis approaches design the communication architecture without considering physical implementation issues that can influence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ch as the layout of the components on the chip or the lengths and routing of the bus wires interconnecting compon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hysical level information can be extremely important to guarantee that the synthesis results are reli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ever, such physical level information is typically available much later in the design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llenging to abstract up this information to early in the design flow during communication architecture desig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few approaches have looked at this problem of physically aware synthe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2C37-1704-4EC9-B128-2330A9B88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hysically-aware Synthesi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06632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ck et al. [DATE ‘99] proposed physically aware topology synthesis technique to ensure hard real-time communication deadlines between components were satisfi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d a high level floorplanner to create a block placement, and estimate global wiring delay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enetic algorithm (GA) was used to iterate over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ifferent bus topology configurations having low contentio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ask assignments on componen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rinic et al. [ICCAD ‘00] and Meguerdichian et al. [DAC ‘01] used a high level floorplanner to determine design feasibility during bus topology synthe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pared estimates of wire length with upper bound on wire leng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es not account for varying capacitive loads of components on a b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D114-6F21-4494-A1FA-DABC487E6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Physically-aware Synthesi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142640" y="1447920"/>
            <a:ext cx="7791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payasuwan et al. [ICCD ‘03] proposed a topology synthesis framework that used a high level floorplanner to obtain wire length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engths are incorporated into an SA cost function that is used to synthesize bus top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A minimizes the cost function, and selects a topology solution with low total wire lengt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uo et al. [ASPDAC ‘06] used a high level floorplanner during segmented bus topology synthe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loorplanner aims to reduce length of critical wires with high switching activity to reduce wire energy consump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asricha et al. [CODES+ISSS ‘06] used a high level floorplanner to obtain wire length for estimating wire ener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ring bus matrix topology and parameter synthes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A74E-399A-4B98-9F27-3F9223C1C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hysically-aware Synthesi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90720" y="11430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sricha et al. [DAC ‘05] proposed physically aware hierarchical bus topology and protocol parameter synthesis technique (FABSY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etects and eliminates clock cycle timing viola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 meet performance constraints, bus clk speed set to 333 MHz (3 ns cycle tim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fter layout, signal dela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3.5 ns, which violates 3 ns clock timing constraint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dverse effect on cost, complexity, constraint satisfiabili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 eliminate such violations, designers use repeaters, pipeline elemen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n severely affect performance, pow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quires considerable manual RTL re-work, re-verific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DD15-7E38-4CE2-8FB6-9A7F10C4F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7"/>
          <p:cNvSpPr/>
          <p:nvPr/>
        </p:nvSpPr>
        <p:spPr>
          <a:xfrm>
            <a:off x="2424240" y="2178000"/>
            <a:ext cx="4052880" cy="25131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2451240" y="4005360"/>
            <a:ext cx="914400" cy="6649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4419720" y="2906640"/>
            <a:ext cx="645840" cy="52704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4446720" y="3440160"/>
            <a:ext cx="622080" cy="3157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503520" y="3746520"/>
            <a:ext cx="1979640" cy="92088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276720" y="2906640"/>
            <a:ext cx="1172880" cy="82548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2451240" y="3274920"/>
            <a:ext cx="615960" cy="7207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078520" y="2252520"/>
            <a:ext cx="1366560" cy="114948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5"/>
          <p:cNvSpPr/>
          <p:nvPr/>
        </p:nvSpPr>
        <p:spPr>
          <a:xfrm>
            <a:off x="4327560" y="2252520"/>
            <a:ext cx="731880" cy="31608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6"/>
          <p:cNvSpPr/>
          <p:nvPr/>
        </p:nvSpPr>
        <p:spPr>
          <a:xfrm>
            <a:off x="4327560" y="2584440"/>
            <a:ext cx="738000" cy="3175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T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7"/>
          <p:cNvSpPr/>
          <p:nvPr/>
        </p:nvSpPr>
        <p:spPr>
          <a:xfrm>
            <a:off x="3276720" y="2236680"/>
            <a:ext cx="1044360" cy="50004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8"/>
          <p:cNvSpPr/>
          <p:nvPr/>
        </p:nvSpPr>
        <p:spPr>
          <a:xfrm>
            <a:off x="2451240" y="2220840"/>
            <a:ext cx="820440" cy="10303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9"/>
          <p:cNvSpPr/>
          <p:nvPr/>
        </p:nvSpPr>
        <p:spPr>
          <a:xfrm>
            <a:off x="3276720" y="2770200"/>
            <a:ext cx="314280" cy="12060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0"/>
          <p:cNvSpPr/>
          <p:nvPr/>
        </p:nvSpPr>
        <p:spPr>
          <a:xfrm>
            <a:off x="3368520" y="4478400"/>
            <a:ext cx="127080" cy="1951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1" descr=""/>
          <p:cNvPicPr/>
          <p:nvPr/>
        </p:nvPicPr>
        <p:blipFill>
          <a:blip r:embed="rId1"/>
          <a:stretch/>
        </p:blipFill>
        <p:spPr>
          <a:xfrm>
            <a:off x="2363760" y="2133720"/>
            <a:ext cx="4192560" cy="950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2" descr=""/>
          <p:cNvPicPr/>
          <p:nvPr/>
        </p:nvPicPr>
        <p:blipFill>
          <a:blip r:embed="rId2"/>
          <a:stretch/>
        </p:blipFill>
        <p:spPr>
          <a:xfrm>
            <a:off x="6478560" y="2176560"/>
            <a:ext cx="76320" cy="26017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3" descr=""/>
          <p:cNvPicPr/>
          <p:nvPr/>
        </p:nvPicPr>
        <p:blipFill>
          <a:blip r:embed="rId3"/>
          <a:stretch/>
        </p:blipFill>
        <p:spPr>
          <a:xfrm>
            <a:off x="2362320" y="2176560"/>
            <a:ext cx="74520" cy="2565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4" descr=""/>
          <p:cNvPicPr/>
          <p:nvPr/>
        </p:nvPicPr>
        <p:blipFill>
          <a:blip r:embed="rId4"/>
          <a:stretch/>
        </p:blipFill>
        <p:spPr>
          <a:xfrm>
            <a:off x="2362320" y="4691160"/>
            <a:ext cx="4179600" cy="9360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35"/>
          <p:cNvSpPr/>
          <p:nvPr/>
        </p:nvSpPr>
        <p:spPr>
          <a:xfrm>
            <a:off x="5479920" y="3424320"/>
            <a:ext cx="966960" cy="124776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6"/>
          <p:cNvSpPr/>
          <p:nvPr/>
        </p:nvSpPr>
        <p:spPr>
          <a:xfrm>
            <a:off x="6858360" y="3352680"/>
            <a:ext cx="16819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 floor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7"/>
          <p:cNvSpPr/>
          <p:nvPr/>
        </p:nvSpPr>
        <p:spPr>
          <a:xfrm rot="19768800">
            <a:off x="3200400" y="3580920"/>
            <a:ext cx="1371600" cy="228600"/>
          </a:xfrm>
          <a:prstGeom prst="leftRightArrow">
            <a:avLst>
              <a:gd name="adj1" fmla="val 50000"/>
              <a:gd name="adj2" fmla="val 11944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765"/>
                                      </p:to>
                                    </p:animClr>
                                    <p:set>
                                      <p:cBhvr>
                                        <p:cTn id="76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765"/>
                                      </p:to>
                                    </p:animClr>
                                    <p:set>
                                      <p:cBhvr>
                                        <p:cTn id="7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hysically-aware Synthesi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FF71-55D4-4E9C-BAF3-9094A77BC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6400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hysically-aware Synthesi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434960" y="1371240"/>
            <a:ext cx="7499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bus mapp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6978-04D0-43EB-833C-E88A3F77F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504960" cy="19461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5607000" cy="238140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6"/>
          <p:cNvSpPr/>
          <p:nvPr/>
        </p:nvSpPr>
        <p:spPr>
          <a:xfrm>
            <a:off x="7253280" y="312408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7877880" y="349560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hysically-aware Synthesi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371240"/>
            <a:ext cx="7499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tate topol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9A87-07D9-4D6D-B556-44809DFB6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105520" cy="2168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2"/>
          <a:stretch/>
        </p:blipFill>
        <p:spPr>
          <a:xfrm>
            <a:off x="1371600" y="4267080"/>
            <a:ext cx="5200560" cy="2257560"/>
          </a:xfrm>
          <a:prstGeom prst="rect">
            <a:avLst/>
          </a:prstGeom>
          <a:ln w="0">
            <a:noFill/>
          </a:ln>
        </p:spPr>
      </p:pic>
      <p:sp>
        <p:nvSpPr>
          <p:cNvPr id="473" name="AutoShape 7"/>
          <p:cNvSpPr/>
          <p:nvPr/>
        </p:nvSpPr>
        <p:spPr>
          <a:xfrm>
            <a:off x="6781680" y="320040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7391520" y="32004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/or migrate 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s Architecture Synthes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cess of designing a bus architecture topology and/or its protocol parameters to satisfy application constrai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A47A-63E5-4ED6-9576-C67392F81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dac1"/>
          <p:cNvPicPr/>
          <p:nvPr/>
        </p:nvPicPr>
        <p:blipFill>
          <a:blip r:embed="rId1"/>
          <a:srcRect l="1190" t="3102" r="42262" b="33333"/>
          <a:stretch/>
        </p:blipFill>
        <p:spPr>
          <a:xfrm>
            <a:off x="1074600" y="2438280"/>
            <a:ext cx="2659320" cy="160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dac2"/>
          <p:cNvPicPr/>
          <p:nvPr/>
        </p:nvPicPr>
        <p:blipFill>
          <a:blip r:embed="rId2"/>
          <a:srcRect l="0" t="5790" r="25313" b="20026"/>
          <a:stretch/>
        </p:blipFill>
        <p:spPr>
          <a:xfrm>
            <a:off x="5380200" y="2379600"/>
            <a:ext cx="3687480" cy="19638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/>
          <p:cNvSpPr/>
          <p:nvPr/>
        </p:nvSpPr>
        <p:spPr>
          <a:xfrm>
            <a:off x="3763800" y="3124080"/>
            <a:ext cx="1417680" cy="366840"/>
          </a:xfrm>
          <a:prstGeom prst="rightArrow">
            <a:avLst>
              <a:gd name="adj1" fmla="val 56944"/>
              <a:gd name="adj2" fmla="val 64928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512160" y="2514600"/>
            <a:ext cx="181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740760" y="3657600"/>
            <a:ext cx="13831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 rot="10800000">
            <a:off x="4800240" y="3809520"/>
            <a:ext cx="4249800" cy="2514600"/>
          </a:xfrm>
          <a:prstGeom prst="wedgeRoundRectCallout">
            <a:avLst>
              <a:gd name="adj1" fmla="val -5912"/>
              <a:gd name="adj2" fmla="val 6020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dac4"/>
          <p:cNvPicPr/>
          <p:nvPr/>
        </p:nvPicPr>
        <p:blipFill>
          <a:blip r:embed="rId3"/>
          <a:srcRect l="0" t="8656" r="25124" b="19123"/>
          <a:stretch/>
        </p:blipFill>
        <p:spPr>
          <a:xfrm>
            <a:off x="5153040" y="4307040"/>
            <a:ext cx="3579840" cy="1850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dac4"/>
          <p:cNvPicPr/>
          <p:nvPr/>
        </p:nvPicPr>
        <p:blipFill>
          <a:blip r:embed="rId4"/>
          <a:srcRect l="2269" t="8887" r="25361" b="31990"/>
          <a:stretch/>
        </p:blipFill>
        <p:spPr>
          <a:xfrm>
            <a:off x="5043600" y="4514760"/>
            <a:ext cx="3687480" cy="1614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dac7"/>
          <p:cNvPicPr/>
          <p:nvPr/>
        </p:nvPicPr>
        <p:blipFill>
          <a:blip r:embed="rId5"/>
          <a:srcRect l="1313" t="8656" r="25124" b="19123"/>
          <a:stretch/>
        </p:blipFill>
        <p:spPr>
          <a:xfrm>
            <a:off x="4941720" y="4233960"/>
            <a:ext cx="3978360" cy="1954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dac8"/>
          <p:cNvPicPr/>
          <p:nvPr/>
        </p:nvPicPr>
        <p:blipFill>
          <a:blip r:embed="rId6"/>
          <a:srcRect l="1302" t="8887" r="21305" b="19328"/>
          <a:stretch/>
        </p:blipFill>
        <p:spPr>
          <a:xfrm>
            <a:off x="5076720" y="4309920"/>
            <a:ext cx="3743280" cy="18608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5"/>
          <p:cNvSpPr/>
          <p:nvPr/>
        </p:nvSpPr>
        <p:spPr>
          <a:xfrm>
            <a:off x="5895000" y="3886200"/>
            <a:ext cx="2046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dc765"/>
                </a:solidFill>
                <a:latin typeface="Arial"/>
              </a:rPr>
              <a:t>Topology Sp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1"/>
          <p:cNvSpPr/>
          <p:nvPr/>
        </p:nvSpPr>
        <p:spPr>
          <a:xfrm rot="10800000">
            <a:off x="1066320" y="3962160"/>
            <a:ext cx="3581640" cy="2361960"/>
          </a:xfrm>
          <a:prstGeom prst="wedgeRoundRectCallout">
            <a:avLst>
              <a:gd name="adj1" fmla="val -69050"/>
              <a:gd name="adj2" fmla="val 7184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1613160" y="4359240"/>
            <a:ext cx="24775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bitration strateg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ata bus wid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us clock frequenc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uffer siz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1671120" y="3962520"/>
            <a:ext cx="2134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dc765"/>
                </a:solidFill>
                <a:latin typeface="Arial"/>
              </a:rPr>
              <a:t>Parameter Sp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hysically-aware Synthesi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434960" y="1371240"/>
            <a:ext cx="7499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tate topol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10FF-A00D-4FA5-9F4D-273C3F991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6781680" y="320040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9"/>
          <p:cNvSpPr/>
          <p:nvPr/>
        </p:nvSpPr>
        <p:spPr>
          <a:xfrm>
            <a:off x="7391520" y="32004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/or migrate 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143000" y="1901880"/>
            <a:ext cx="5334120" cy="22129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1305000" y="4295880"/>
            <a:ext cx="51721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Physically-aware Synthesi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6632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a timing violation is detect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CPs that have components on buses with violations flagg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edback loop is used to go back and attempt to eliminate viol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rst the TCP that has components on the violated bus with the largest load capacitance on its pins is selected from the flagged TCP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ince cumulative capacitive load of components directly contributes to increasing signal propagation dela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components are iteratively migrated to another existing b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r a new bus if migration to existing buses causes TCP constraint viola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there is still a violation, another flagged TCP is selected and its components migrated away from the violated b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other way used to eliminate clock cycle violations is to reduce bus clock frequenc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creases cycle tim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A3D0-BBFA-4DC2-82C2-6C35E1BBE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Physically-aware Synthesi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434960" y="1294920"/>
            <a:ext cx="749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nthesized hierarchical bus archite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7B21-189E-41CE-B63D-DD4ACF05A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5200560" cy="2143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"/>
          <p:cNvPicPr/>
          <p:nvPr/>
        </p:nvPicPr>
        <p:blipFill>
          <a:blip r:embed="rId2"/>
          <a:stretch/>
        </p:blipFill>
        <p:spPr>
          <a:xfrm>
            <a:off x="1143000" y="4483080"/>
            <a:ext cx="4114800" cy="20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3" name=""/>
          <p:cNvGraphicFramePr/>
          <p:nvPr/>
        </p:nvGraphicFramePr>
        <p:xfrm>
          <a:off x="5334120" y="4711680"/>
          <a:ext cx="3657600" cy="1371600"/>
        </p:xfrm>
        <a:graphic>
          <a:graphicData uri="http://schemas.openxmlformats.org/drawingml/2006/table">
            <a:tbl>
              <a:tblPr/>
              <a:tblGrid>
                <a:gridCol w="1023840"/>
                <a:gridCol w="695160"/>
                <a:gridCol w="630360"/>
                <a:gridCol w="642960"/>
                <a:gridCol w="665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i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s 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s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b prio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1 &gt; M3 &gt; M2 (stati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hysically-aware Synthesi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434960" y="1294920"/>
            <a:ext cx="749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rimental stu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063B-EE48-4799-9EFC-FE0C1099E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4952880" cy="32288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4146480" y="1828800"/>
            <a:ext cx="484524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0" name="TextBox 7"/>
          <p:cNvSpPr/>
          <p:nvPr/>
        </p:nvSpPr>
        <p:spPr>
          <a:xfrm>
            <a:off x="5794920" y="58672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8"/>
          <p:cNvSpPr/>
          <p:nvPr/>
        </p:nvSpPr>
        <p:spPr>
          <a:xfrm>
            <a:off x="7324920" y="13716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raint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hysically-aware Synthesi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2D5F-81BC-42B9-90D3-02A2031DA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5843880" cy="160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6" name="Picture 2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4267080" cy="24890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"/>
          <p:cNvPicPr/>
          <p:nvPr/>
        </p:nvPicPr>
        <p:blipFill>
          <a:blip r:embed="rId3"/>
          <a:stretch/>
        </p:blipFill>
        <p:spPr>
          <a:xfrm>
            <a:off x="5667480" y="1828800"/>
            <a:ext cx="3171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Physically-aware Synthesi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Quality of the FABSYN synthesis solution was compared with other synthesis appro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itial: solution with just 2 buses (initial mappin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BS: synthesis approach without integrated floorplann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ual: designer driven manual synthesis approach with floorplann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6B81-B5E2-428E-B16D-8596C28EB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1306440" y="3733920"/>
            <a:ext cx="760896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pology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tocol Parameter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pology and Protocol Parameter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hysically aware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o-synthesis with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38A2-D6C2-48D2-A11C-305760ECC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-synthesis with Mem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ory can take up a large chunk of on-chip area, as much as 70% in some c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timates indicate that this will go up to 90% in coming yea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ety of different memory types available to satisfy storage requirements in MPSoC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Ms, SRAMs, EPROMs, EEPROMs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l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Ms -&gt; larger memory requirements, slower, cheap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RAMs -&gt; smaller memory requirements, faster, expensiv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PROMs and EEPROMs -&gt; read-only da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ral tradeoffs during memory architecture synthe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RAM vs. DRA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st vs. performance vs. are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rts vs. number of memory bloc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06B3-90E4-4362-99DC-A4B65CB4C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-synthesis with Mem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ory architecture synthesis determines th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umber, type, size of the memories in the syst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plication data mapping to memor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ory architecture significantly contributes to data traffic on communication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 of memory architecture has a substantial influence on communication architecture desig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itionally, in platform-based design, memory synthesis is performed before communication architecture synthe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an lead to inferior design decis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1543-3730-4D7C-960C-17A319C48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-synthesis with Mem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5EA1-8633-4209-8A25-BD9B01342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ontent Placeholder 2"/>
          <p:cNvSpPr/>
          <p:nvPr/>
        </p:nvSpPr>
        <p:spPr>
          <a:xfrm>
            <a:off x="990720" y="1219320"/>
            <a:ext cx="4343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tivational study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richa et al. [DATE ‘06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2600">
              <a:lnSpc>
                <a:spcPct val="10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MPSoC memory and comm. architecture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3124080" cy="32403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"/>
          <p:cNvPicPr/>
          <p:nvPr/>
        </p:nvPicPr>
        <p:blipFill>
          <a:blip r:embed="rId2"/>
          <a:stretch/>
        </p:blipFill>
        <p:spPr>
          <a:xfrm>
            <a:off x="5867280" y="1371600"/>
            <a:ext cx="2934000" cy="22446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"/>
          <p:cNvPicPr/>
          <p:nvPr/>
        </p:nvPicPr>
        <p:blipFill>
          <a:blip r:embed="rId3"/>
          <a:stretch/>
        </p:blipFill>
        <p:spPr>
          <a:xfrm>
            <a:off x="5867280" y="3809880"/>
            <a:ext cx="2791080" cy="2562480"/>
          </a:xfrm>
          <a:prstGeom prst="rect">
            <a:avLst/>
          </a:prstGeom>
          <a:ln w="0">
            <a:noFill/>
          </a:ln>
        </p:spPr>
      </p:pic>
      <p:sp>
        <p:nvSpPr>
          <p:cNvPr id="532" name="Right Arrow 12"/>
          <p:cNvSpPr/>
          <p:nvPr/>
        </p:nvSpPr>
        <p:spPr>
          <a:xfrm rot="19913400">
            <a:off x="4723920" y="29988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ight Arrow 13"/>
          <p:cNvSpPr/>
          <p:nvPr/>
        </p:nvSpPr>
        <p:spPr>
          <a:xfrm rot="1508400">
            <a:off x="4738320" y="400968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4"/>
          <p:cNvSpPr/>
          <p:nvPr/>
        </p:nvSpPr>
        <p:spPr>
          <a:xfrm>
            <a:off x="4498920" y="44197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-synth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5"/>
          <p:cNvSpPr/>
          <p:nvPr/>
        </p:nvSpPr>
        <p:spPr>
          <a:xfrm>
            <a:off x="4574160" y="236232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a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3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Topology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tocol Parameter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pology and Protocol Parameter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hysically aware 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-synthesis with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B57A-325C-456A-A3B2-F3A0809C0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-synthesis with Mem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066320" y="11430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halan et al. [SASIMI ‘03] proposed a tool to automatically generate a full crossbar and a dynamic memory management uni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run et al. [DATE ‘02] considered the system connectivity topology early in the design flow, in conjunction with memory exploration, for simple processor–memory system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ost active access patterns extracted from application data structu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ifferent memory architecture configurations that can match needs of access patterns are obtained, assuming a simple connectivity mod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ext, different comm. architectures are considered for these memory architecture configurations, and the most suitable interconnect and memory architecture is selected from a pareto-optimal curv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rinivasan et al. [DATE ‘05] presented an approach to simultaneously consider bus topology splitting and memory bank partitioning during synthe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th the goal of reducing system ener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20BE-013C-475E-9061-F0BB7F738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-synthesis with Mem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14264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asricha et al. [DATE ‘06] proposed the COSMECA methodology for memory and comm. architecture synthe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ynthesize bus matrix topology and protocol paramet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al: obtain a least cost system, having minimal number of buses while satisfying performance and memory area constrai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SMECA selects memory blocks from a library populated by several types of memor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-chip SRAMs, DRAMs, EPROMs, EEPROMs, …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ch memory type can have variants in library, having differen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pacities, areas, ports, operating frequencies and access ti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mory synthesis in COSMEC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lects appropriate physical memories from libra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ps application arrays, scalars to physical memories selected from libra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6D0E-A531-4AC8-AD79-1D51D4954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-synthesis with Mem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434960" y="1294920"/>
            <a:ext cx="749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memory requirements are initially represented by abstract data blocks (DBs) in a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CT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Bs are initially grouped together into virtual memo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ABD6-66EF-42EA-810E-60A6E963F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279072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-synthesis with Mem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434960" y="1294920"/>
            <a:ext cx="749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Bs are merged at this initial step only if they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ilar edges (i.e., edges from the same masters) a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n-overlapping acc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equently, the enhanced CTG with VMs is used as an input to a branch and bound based bus matrix synthesis framework to generate minimal cost sol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4FD5-F0CE-4432-B63E-2FAC539BC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638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-synthesis with Mem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907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uristic used to map VMs to physical memories from libra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nds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olutions that satisfy memory area and performance constraints of desig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nerate memory access traces that are used to determine the extent of access overlap of VMs at each slave access point (SAP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fter simulating best solu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f the overlap is below a user defined overlap threshold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T,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the VMs are merg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1EAE-3C67-4523-BD9D-42A3683F2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3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3283200" cy="19717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" descr=""/>
          <p:cNvPicPr/>
          <p:nvPr/>
        </p:nvPicPr>
        <p:blipFill>
          <a:blip r:embed="rId2"/>
          <a:stretch/>
        </p:blipFill>
        <p:spPr>
          <a:xfrm>
            <a:off x="1143000" y="4724280"/>
            <a:ext cx="4255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-synthesis with Mem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06632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Ms are then mapped to physical memories from libra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lly, best memory from the library is selected for a VM that fits capacity requirements and has max. port bandwidth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erformance constraints are not met even for the memory with best performance, the matrix solution is discar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0080" indent="-203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next best matrix solution from the set of (ranked) matrix solutions is selec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erformance constraints and memory area constraints are met, the solution is added to the final solution datab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xt, to lower memory area, VMs at SAPs are randomly selected and the mapped physical memory replaced with one that meets capacity requirements and has lower are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0080" indent="-203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violation detected, then move is reversed, otherwise solution is kep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50080" indent="-203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cedure repeated iteratively till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olutions obtain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8A31-2755-4C0A-945C-81DA6313F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-synthesis with Mem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434960" y="1294920"/>
            <a:ext cx="749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riments with MPSoC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own below: PYTHON application synthes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95B8-8F34-4B5D-930E-4B9C32A2D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3441960" cy="28479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2"/>
          <a:stretch/>
        </p:blipFill>
        <p:spPr>
          <a:xfrm>
            <a:off x="4629240" y="2209680"/>
            <a:ext cx="4314600" cy="3048120"/>
          </a:xfrm>
          <a:prstGeom prst="rect">
            <a:avLst/>
          </a:prstGeom>
          <a:ln w="0">
            <a:noFill/>
          </a:ln>
        </p:spPr>
      </p:pic>
      <p:sp>
        <p:nvSpPr>
          <p:cNvPr id="570" name="Right Arrow 7"/>
          <p:cNvSpPr/>
          <p:nvPr/>
        </p:nvSpPr>
        <p:spPr>
          <a:xfrm>
            <a:off x="4038480" y="3352680"/>
            <a:ext cx="9144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7" descr=""/>
          <p:cNvPicPr/>
          <p:nvPr/>
        </p:nvPicPr>
        <p:blipFill>
          <a:blip r:embed="rId3"/>
          <a:stretch/>
        </p:blipFill>
        <p:spPr>
          <a:xfrm>
            <a:off x="1143000" y="5257800"/>
            <a:ext cx="3657600" cy="128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-synthesis with Mem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6632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e-off curve between number of buses and memory are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pact of threshold valu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3FEF-438D-47C6-9968-5A2EF1B1C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487692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7" name="Picture 2" descr=""/>
          <p:cNvPicPr/>
          <p:nvPr/>
        </p:nvPicPr>
        <p:blipFill>
          <a:blip r:embed="rId2"/>
          <a:stretch/>
        </p:blipFill>
        <p:spPr>
          <a:xfrm>
            <a:off x="2971800" y="4419720"/>
            <a:ext cx="4876920" cy="197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-synthesis with Mem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SMECA saves 25–40% in the number of buses in the matrix and from 17–29% in memory area compared to traditional approa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2E7B-83EB-46D4-8894-95044C6D7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3733920" cy="19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5105520" y="2438280"/>
            <a:ext cx="3809880" cy="19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4" name="Picture 2" descr=""/>
          <p:cNvPicPr/>
          <p:nvPr/>
        </p:nvPicPr>
        <p:blipFill>
          <a:blip r:embed="rId3"/>
          <a:stretch/>
        </p:blipFill>
        <p:spPr>
          <a:xfrm>
            <a:off x="1600200" y="4800600"/>
            <a:ext cx="6862680" cy="156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-synthesis with Mem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yer et al. [CODES+ISSS ‘07] attempted to extend COSMECA by adding layout-awareness during co-synthe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-synthesis is performed using a SA-based algorith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ults indicate 20–27% cost reduction for a synthetic DSP software pipeline case study by using the approach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ared to an approach that separately allocates memory and synthesizes bus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few limit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nly bus topology synthesis is performed – bus parameter synthesis is neglec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emory synthesis does not consider different memory types - only SRAM memories are suppor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FD43-7CDB-4DA7-A41A-EE46635CC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opology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14264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ology of a bus-based on-chip communication architecture determi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umber of buses in the syst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ner in which they are interconnected to each oth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w components are allocated to the bu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rly work focused on allocating inter-component comm. to buses for distributed real-time embedde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Yen et al.[ICCAD ‘95] proposed techniques to estimate comm. delay on a bus using static analysis for a system with periodic tas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ssigned a PE to existing bus, or created a new bus to meet task deadlin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rtega et al. [ICCAD ‘98] explored mapping of PEs in to a set of off-chip bus architecture configurations (shared buses or point-to-point) and protocols (such as CAN or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C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xplored different performance vs. cost tradeoff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1A57-FA1D-4D67-8D2A-EA8C00779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mma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ers need techniques that can efficiently explore the increasingly intractable comm. architecture design sp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satisfy and optimize constraints during comm. architecture desig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nted research on techniques for efficient bus-based communication architecture synthe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cope to extend synthesis techniques for emerging applic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lot of open problems still remain to be solved, especially in the areas of low level physical and circuit level synthesis approaches (refer book chapter for more detail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ire metal layer assign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ire sizing optim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ductance esti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ing-driven floorplann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ield wire insertion algorith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1FC0-EE85-42BC-B262-4750F6F14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sp>
        <p:nvSpPr>
          <p:cNvPr id="59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EB74-94A9-4E1C-9F11-A18288370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opology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veris et al. [DATE ‘04] proposed a bus topology synthesis technique to reduce bus power consumption while meeting latency constrai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MBA AHB bus archite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ple FIFO arbitr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ynamic power reduc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witching activity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is taken as 0.5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data bus, and a lower value for address bu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trol wire switching is ignor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ch master has a latency constraint that determines number of cycles available to complete a communication oper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12F3-8E7C-4782-83F7-E282114AA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1838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opology Synthe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improve latency response of communication architecture and also reduce power consumption on the bus wires, Liveris et al. proposed using 3 different topology transform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F4F3-CCC0-458B-AD50-BAA83DE79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049560" y="3048120"/>
            <a:ext cx="33796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udeep</cp:lastModifiedBy>
  <dcterms:modified xsi:type="dcterms:W3CDTF">2008-05-08T20:27:10Z</dcterms:modified>
  <cp:revision>460</cp:revision>
  <dc:subject/>
  <dc:title>On Chip Communication Architectures</dc:title>
</cp:coreProperties>
</file>