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C226-8949-4561-8A82-66A579818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CA92-56D3-4D36-BFFF-CF5A7A246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5CC3-9FB4-49EA-8F7D-081E07243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F1B9-EEE5-4EDD-9352-8CAC3740E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4C785-7B50-4F0B-B46D-44B00BE7C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C5EAA-DF96-4231-B765-2A566363B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9787-6B83-4481-81C3-B2E5FEFA3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9C0CA-93F9-44F3-9E64-0DB91AC490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29C1C-7F69-4847-95B3-8C28CCB1E2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6289-DDF9-40E7-9389-0EF2F2939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5DE9-578E-40B8-832B-AA8254F9F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F48B-4648-4B41-A88F-EF29BA2C1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65EF2-C882-4818-A162-83CFE19858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7483-8143-489F-ACB6-9616A05B4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52C04-2B3B-4870-A87B-9D1CF499EE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AB50-E640-4241-908E-84660C0D90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103DE-0055-4648-A3BB-395502EA01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82DB2-7C76-4088-ADCD-0279DF3C74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D3B7E-F717-4A26-9ACD-0FF1673EA5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BC49-07F8-4EEE-9FF8-3068958162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22CEA-D3CF-42CC-B4BD-B38177D5A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71DF-DDBE-480A-A9EF-CDD632D84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32FD-E459-4B2C-9D89-D6C7AA4AC1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B84F-4DC4-4CDD-A004-DE5112D65B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C1EE-0433-4B31-88F3-C9003366F3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0FE4-5F98-4EF8-9876-BA5EC68757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A039-48B9-4D2E-8C02-D9CE89E156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2CFB-577B-44AE-A84E-0763F93555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CD47C-5DD4-468A-BD61-61B2D241C1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693A8-998C-4DB6-BDCF-F59135322B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8B91A-80FF-4880-AD76-791E139126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B16C5-200F-4130-896A-5352F33358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3C2A1-B7C5-4653-BF94-1F06D0206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7EB3-4353-45AA-BEF9-FC37B4B506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72EC6-7219-40D3-A99D-CB1C85C290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9540F-9601-4027-9470-57AC7F61A2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31C33-B450-44A9-A65C-8426FEE2A5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6F0C1-F9E1-493B-9442-0719AF7633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CFD1A-C385-4131-8A06-36A507D370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87E1A-6202-43CC-A29F-B0D8077D1F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DCF09-F206-46EE-9A15-7C7E246F35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50891-2678-422C-8E1E-517E2F7466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17DDF-5A2F-482F-8F1D-17A96D193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7022-9EF6-4762-B2F0-8291E2AB3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57FD-F0BF-4A3E-AD5A-1DF455B93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D1EE-9C3B-4286-A101-93B3CA8AE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4072-FFCE-46D5-B935-F151576FB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80A9-14AC-46B3-BE38-475DD9588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D07-15D2-441E-8B2D-E265A368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CBB-B793-4D48-99A9-6D54187E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4FC-C175-43B6-A55A-0D53B1DC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E00-678B-44B9-8A7C-D808C06CA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Models for Perform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Explo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021-B92D-452E-88EB-AB9C8943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18A-D06A-4CE4-89F5-75A74237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ter/Receiver delay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369680" y="1981080"/>
            <a:ext cx="46080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– number of cycles to put data 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– frequency of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771560" y="6095880"/>
            <a:ext cx="57830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 timing results of transmitter/receiver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tle 1"/>
          <p:cNvSpPr/>
          <p:nvPr/>
        </p:nvSpPr>
        <p:spPr>
          <a:xfrm>
            <a:off x="158760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2210040" cy="87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rcRect l="1416" t="0" r="1593" b="11456"/>
          <a:stretch/>
        </p:blipFill>
        <p:spPr>
          <a:xfrm>
            <a:off x="1768320" y="2895480"/>
            <a:ext cx="626292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D31-F9AB-4CA4-8E87-963DECB6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tle 1"/>
          <p:cNvSpPr/>
          <p:nvPr/>
        </p:nvSpPr>
        <p:spPr>
          <a:xfrm>
            <a:off x="158760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990720" y="1447920"/>
            <a:ext cx="81532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nnel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414480" y="1981080"/>
            <a:ext cx="22471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lay for one bi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824480" y="6248520"/>
            <a:ext cx="44953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 timing results of channe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2209680" y="2584440"/>
            <a:ext cx="5791320" cy="71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WI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wire de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witc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PG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FPGA de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P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memory 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1219680" y="259092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18328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rcRect l="1978" t="0" r="1760" b="1726"/>
          <a:stretch/>
        </p:blipFill>
        <p:spPr>
          <a:xfrm>
            <a:off x="1828800" y="3332160"/>
            <a:ext cx="6218280" cy="28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345A-4D43-4ED8-A199-B6145C12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158760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160020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rcRect l="1690" t="0" r="1736" b="4000"/>
          <a:stretch/>
        </p:blipFill>
        <p:spPr>
          <a:xfrm>
            <a:off x="1274760" y="2666880"/>
            <a:ext cx="730584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0423-B42E-42C9-9F79-812A7269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le 1"/>
          <p:cNvSpPr/>
          <p:nvPr/>
        </p:nvSpPr>
        <p:spPr>
          <a:xfrm>
            <a:off x="158760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219320" y="1530360"/>
            <a:ext cx="76960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tal communication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for a single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for pipelined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296856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4953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o et al. [SLIP 2006] proposed analytical performance model for AMBA 2.0 AHB single shared bus and hierarchical shared bus architec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tency of shared b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number of data items to be transferr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ill Sans MT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umber of masters on the bu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= fixed burst siz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 = probability of single mode transfers on shared bu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U =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age of the bus, and is a probability of continuing single transfers, in a pipelined manner (helping to reduce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7B0-51CD-40AE-93B4-E1027D5C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1935000" y="3124080"/>
            <a:ext cx="2889360" cy="533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022640" cy="60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3"/>
          <a:stretch/>
        </p:blipFill>
        <p:spPr>
          <a:xfrm>
            <a:off x="6194520" y="3246480"/>
            <a:ext cx="264456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Right Brace 9"/>
          <p:cNvSpPr/>
          <p:nvPr/>
        </p:nvSpPr>
        <p:spPr>
          <a:xfrm>
            <a:off x="5904000" y="3200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38080"/>
              <a:gd name="textAreaBottom" fmla="*/ 832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34960" y="1447560"/>
            <a:ext cx="770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tency of hierarchical shared b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= number of layers (or buses) in hierarchical shared bus architectu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A =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bability of the path of the data transfer passing through a brid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𝛼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bridge factor; represents latency overhead caused by using brid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sumptions of model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lave does not introduce any wait sta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and address phases occur in the sam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appropriate A, S and U values, an accuracy of 96% and 85% was obtained compared to a simulation-based approach for shared bus and hierarchical b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D941-C330-4BB9-8635-3DB1EE02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562720" cy="6094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4285800" y="199692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mitations of Static Performanc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stimation Metho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34960" y="1447560"/>
            <a:ext cx="770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 several assumptions that depend on application functionality and are not so easy to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, probabilistic values for parameters, single cycle arbitration for all transfers, 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able to account for non-deterministic traffic generation by the components on the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not predict dynamic component (e.g., memory access) delay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not easily account for other sources of dynamic delays, due t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x arbitration and traffic congestion, cache misses, burst interruptions, interface buffer overflows, the effects of advanced bus architecture features such as SPLIT/OO transaction completion, et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mited applicability for most medium- to large-scale So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ful for obtaining worst case performance boun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provide (conservative) performance estimates early in design flo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9EB-9B64-4257-9AC1-0968AD35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70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(Simulation-based) Communication Architecture Performance Estimation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e application; capture application specific eff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ral modeling abstractions used by design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de-off simulation speed, modeling effort and accur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810-E4A5-46E9-BB06-50DB7AE9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2522520" y="2819520"/>
            <a:ext cx="540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ycle Accurate (CA)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B30-2606-49CF-93DD-A415E959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6603840" y="2133720"/>
            <a:ext cx="2286000" cy="6984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6616800" y="4038480"/>
            <a:ext cx="2286000" cy="78768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629400" y="5105520"/>
            <a:ext cx="2286000" cy="685800"/>
          </a:xfrm>
          <a:prstGeom prst="cube">
            <a:avLst>
              <a:gd name="adj" fmla="val 1164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6553080" y="1219320"/>
            <a:ext cx="236232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43000" y="1219320"/>
            <a:ext cx="4495680" cy="541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219320" y="4267080"/>
            <a:ext cx="44956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tailed system debug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ime consuming to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- /1 to /3 RT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oo slow for exploring SoC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- 100x 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5105520" y="5194440"/>
            <a:ext cx="1371600" cy="533160"/>
          </a:xfrm>
          <a:prstGeom prst="leftArrow">
            <a:avLst>
              <a:gd name="adj1" fmla="val 50000"/>
              <a:gd name="adj2" fmla="val 6431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1295280" y="1752480"/>
            <a:ext cx="1447920" cy="1828800"/>
          </a:xfrm>
          <a:prstGeom prst="rect">
            <a:avLst/>
          </a:prstGeom>
          <a:noFill/>
          <a:ln w="28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1 = a +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G = d&lt;&lt;var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HREQ.se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 = REG4 |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3048120" y="2286000"/>
            <a:ext cx="609480" cy="914400"/>
          </a:xfrm>
          <a:prstGeom prst="rect">
            <a:avLst/>
          </a:prstGeom>
          <a:solidFill>
            <a:srgbClr val="4f27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3962520" y="1752480"/>
            <a:ext cx="144756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se CTR_W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= 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|=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_RG = in|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2743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7"/>
          <p:cNvSpPr/>
          <p:nvPr/>
        </p:nvSpPr>
        <p:spPr>
          <a:xfrm>
            <a:off x="27432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2743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9"/>
          <p:cNvSpPr/>
          <p:nvPr/>
        </p:nvSpPr>
        <p:spPr>
          <a:xfrm>
            <a:off x="36576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36576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3657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2"/>
          <p:cNvSpPr/>
          <p:nvPr/>
        </p:nvSpPr>
        <p:spPr>
          <a:xfrm>
            <a:off x="36576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36576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1177920" y="128736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865680" y="128736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6"/>
          <p:cNvSpPr/>
          <p:nvPr/>
        </p:nvSpPr>
        <p:spPr>
          <a:xfrm flipV="1">
            <a:off x="2971800" y="3200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2695680" y="37274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8"/>
          <p:cNvSpPr/>
          <p:nvPr/>
        </p:nvSpPr>
        <p:spPr>
          <a:xfrm>
            <a:off x="2819520" y="2362320"/>
            <a:ext cx="152280" cy="8380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9"/>
          <p:cNvSpPr/>
          <p:nvPr/>
        </p:nvSpPr>
        <p:spPr>
          <a:xfrm>
            <a:off x="6616800" y="3098880"/>
            <a:ext cx="2286000" cy="73656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ycle Accurate (CA) Mode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0C2-C6E3-4833-8D29-09FA2484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990720" y="1523880"/>
            <a:ext cx="815328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hi et al [DATE 2004] used CA models written in SystemC to explore AMBA2 and STBus communication architectures for MPS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4800600" cy="3101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4343400" y="2620800"/>
            <a:ext cx="4724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ic Performance Estimation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tical/Estimation-b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ynamic Performance Estimation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ion-b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ybrid Performance Estimation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/dynamic-b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2CC-CB49-41DD-A4BF-24D89BF03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in Accurate Bus Cycle Accurate 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(PA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0D0-35C5-4687-823C-D008CA24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43000" y="1444680"/>
            <a:ext cx="4495680" cy="510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143000" y="4416480"/>
            <a:ext cx="44956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gh level system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ill time consuming to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- /5 to /10 RT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ill slow for exploring SoC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- 100x to 500x 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295280" y="1978200"/>
            <a:ext cx="14479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1 = a +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G = d&lt;&lt;var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HREQ.set(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 = REG4 |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3, 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048120" y="2511360"/>
            <a:ext cx="609480" cy="914400"/>
          </a:xfrm>
          <a:prstGeom prst="rect">
            <a:avLst/>
          </a:prstGeom>
          <a:solidFill>
            <a:srgbClr val="4f27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962520" y="1978200"/>
            <a:ext cx="144756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se CTR_W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= 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|=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_RG = in|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3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2743200" y="2664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743200" y="2816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743200" y="3044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743200" y="3197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2743200" y="33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3657600" y="2664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4"/>
          <p:cNvSpPr/>
          <p:nvPr/>
        </p:nvSpPr>
        <p:spPr>
          <a:xfrm>
            <a:off x="3657600" y="2816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5"/>
          <p:cNvSpPr/>
          <p:nvPr/>
        </p:nvSpPr>
        <p:spPr>
          <a:xfrm>
            <a:off x="3657600" y="3044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3657600" y="3197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3657600" y="33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3865680" y="15127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1177920" y="15127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743200" y="33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3657600" y="33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 flipV="1">
            <a:off x="2971800" y="34257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2695680" y="3952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4"/>
          <p:cNvSpPr/>
          <p:nvPr/>
        </p:nvSpPr>
        <p:spPr>
          <a:xfrm>
            <a:off x="2819520" y="2587680"/>
            <a:ext cx="152280" cy="8380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6603840" y="2133720"/>
            <a:ext cx="2286000" cy="6984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6616800" y="4038480"/>
            <a:ext cx="2286000" cy="787680"/>
          </a:xfrm>
          <a:prstGeom prst="cube">
            <a:avLst>
              <a:gd name="adj" fmla="val 1164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6629400" y="5105520"/>
            <a:ext cx="228600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>
            <a:off x="5105520" y="4216320"/>
            <a:ext cx="1371600" cy="533520"/>
          </a:xfrm>
          <a:prstGeom prst="leftArrow">
            <a:avLst>
              <a:gd name="adj1" fmla="val 50000"/>
              <a:gd name="adj2" fmla="val 642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1"/>
          <p:cNvSpPr/>
          <p:nvPr/>
        </p:nvSpPr>
        <p:spPr>
          <a:xfrm>
            <a:off x="6616800" y="3098880"/>
            <a:ext cx="2286000" cy="73656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6553080" y="1219320"/>
            <a:ext cx="236232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in Accurate Bus Cycle Accurate </a:t>
            </a: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(PA-BCA) Model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éméria et al. [ASPDAC 2000] used PA-BCA models (also called bus functional models or BFM) to improve simulation speed over CA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the purpose of HW/SW co-verif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deled in System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x speedup if processor ISS model granularity rais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lla et al. [ASPDAC 2005] executed traces of component behavior on a PA-BCA si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much as a 94% speedup over CA simulation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F8BA-FD8A-4322-A4D5-87D0020DA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600" y="228600"/>
            <a:ext cx="7404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203-9BFB-472D-B599-A9388BA7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219320" y="1295280"/>
            <a:ext cx="441936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219320" y="4038480"/>
            <a:ext cx="44956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s Transaction Level Modeling (TLM) techniques to speed up BCA mode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ime to model v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imulation speed generally faster than PA-B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371600" y="1752480"/>
            <a:ext cx="14479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1 = a +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 = d &lt;&lt; var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request(por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 = REG4 |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3, 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HSEL.se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038480" y="1752480"/>
            <a:ext cx="14479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se CTR_W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= 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|=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_RG = in|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3, 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942000" y="128736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1253880" y="128736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304812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730600" y="357516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, transac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2819520" y="205740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3733920" y="281952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2895480" y="1905120"/>
            <a:ext cx="152640" cy="10666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3124080" y="2286000"/>
            <a:ext cx="609840" cy="914400"/>
          </a:xfrm>
          <a:prstGeom prst="rect">
            <a:avLst/>
          </a:prstGeom>
          <a:solidFill>
            <a:srgbClr val="4f27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28195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8"/>
          <p:cNvSpPr/>
          <p:nvPr/>
        </p:nvSpPr>
        <p:spPr>
          <a:xfrm>
            <a:off x="28195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733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3733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28195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28195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3"/>
          <p:cNvSpPr/>
          <p:nvPr/>
        </p:nvSpPr>
        <p:spPr>
          <a:xfrm>
            <a:off x="6680160" y="2133720"/>
            <a:ext cx="2286000" cy="6984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4"/>
          <p:cNvSpPr/>
          <p:nvPr/>
        </p:nvSpPr>
        <p:spPr>
          <a:xfrm>
            <a:off x="6692760" y="4038480"/>
            <a:ext cx="2286000" cy="78768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5"/>
          <p:cNvSpPr/>
          <p:nvPr/>
        </p:nvSpPr>
        <p:spPr>
          <a:xfrm>
            <a:off x="6705720" y="5105520"/>
            <a:ext cx="228600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8"/>
          <p:cNvSpPr/>
          <p:nvPr/>
        </p:nvSpPr>
        <p:spPr>
          <a:xfrm>
            <a:off x="6692760" y="3098880"/>
            <a:ext cx="2286000" cy="736560"/>
          </a:xfrm>
          <a:prstGeom prst="cube">
            <a:avLst>
              <a:gd name="adj" fmla="val 1164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9"/>
          <p:cNvSpPr/>
          <p:nvPr/>
        </p:nvSpPr>
        <p:spPr>
          <a:xfrm>
            <a:off x="5435640" y="3251160"/>
            <a:ext cx="1117440" cy="406440"/>
          </a:xfrm>
          <a:prstGeom prst="leftArrow">
            <a:avLst>
              <a:gd name="adj1" fmla="val 50000"/>
              <a:gd name="adj2" fmla="val 6426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6629400" y="1219320"/>
            <a:ext cx="228600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600200"/>
            <a:ext cx="7709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dari et al. [DATE 2003] modeled AMBA2 AHB, APB using function calls for reads/wri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SystemC 2.0, with clocked threads to capture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addition to read( ) and write( ) transaction functions signals such as HREADY and HRESP were also captur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maintain cycle accurac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ed PA-BCA model of the STBus and a T-BCA model of the AMBA AHB and APB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howed a speedup of between 3x  and 7x  for the T-BCA mod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different traffic profiles on a small SoC testben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0x speedup for T-BCA model over a CA model of AMBA AH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7CB-E5C0-4E3D-96CB-A3F02AC9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952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gawa et al. [DATE 2004] created another T-BCA model variant for the AMBA AHB bus architectu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ing C as the modeling langu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icit low level handshaking semantics with request, response signaling captur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 of about 30x compared to CA model during design space exploration of an AMBA AHB based graphics display S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m et al. [30] used another approach for T-BCA mode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ture signals as function calls, which enables simulation speedup while still maintaining bus cycle accur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d in the Synopsys Cycle Accurate SystemC models for AMBA AHB and AP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6C3-4C24-4FCA-BAED-15840AD3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DAC 2004] proposed the Cycle Count Accurate at Transaction Boundaries (CCATB) modeling abstr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odeled in SystemC, or any other modeling language (C, C++, Java, et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ises modeling abstraction above T-B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overall cycle accuracy, essential for system explo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concepts of transactions from TL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pins model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sion of TLM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ead(), write(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882-114E-4915-9ABE-CEE08A3D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523880"/>
            <a:ext cx="7499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CATB read and write (SystemC 2.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1E91-549C-493C-9A2B-363EF20F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455840" y="1981080"/>
            <a:ext cx="70786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407" name="Straight Arrow Connector 7"/>
          <p:cNvCxnSpPr/>
          <p:nvPr/>
        </p:nvCxnSpPr>
        <p:spPr>
          <a:xfrm flipV="1">
            <a:off x="3352320" y="4723560"/>
            <a:ext cx="8391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8"/>
          <p:cNvCxnSpPr/>
          <p:nvPr/>
        </p:nvCxnSpPr>
        <p:spPr>
          <a:xfrm flipV="1">
            <a:off x="3429000" y="5257080"/>
            <a:ext cx="8388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token structure in CCAT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884A-9DF0-46E2-9BBA-0C5DB085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rcRect l="2302" t="1775" r="2758" b="2726"/>
          <a:stretch/>
        </p:blipFill>
        <p:spPr>
          <a:xfrm>
            <a:off x="1676520" y="2286000"/>
            <a:ext cx="6705360" cy="40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ransaction-based Bus Cycle Accurate (T-BCA) Mode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231-E125-49C4-B12F-625D5240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990720" y="1371600"/>
            <a:ext cx="81532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CATB model captures all delays encountered by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clusters timing delays &amp; minimizes no. of actively simulating 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maximizes opportunity to increment simulation time in bur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952520" y="258120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rge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3275280" y="62326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erfac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55760" y="2581200"/>
            <a:ext cx="39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unication protoco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6913800" y="280980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bitr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303840" y="5975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to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1066680" y="3216240"/>
            <a:ext cx="1295640" cy="623880"/>
          </a:xfrm>
          <a:prstGeom prst="rect">
            <a:avLst/>
          </a:prstGeom>
          <a:gradFill rotWithShape="0">
            <a:gsLst>
              <a:gs pos="0">
                <a:srgbClr val="ffcc66">
                  <a:alpha val="79215"/>
                </a:srgbClr>
              </a:gs>
              <a:gs pos="100000">
                <a:srgbClr val="765e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066680" y="3987720"/>
            <a:ext cx="129564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1"/>
          <p:cNvSpPr/>
          <p:nvPr/>
        </p:nvSpPr>
        <p:spPr>
          <a:xfrm>
            <a:off x="1676520" y="3851280"/>
            <a:ext cx="1440" cy="12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1676520" y="421632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2590920" y="3216240"/>
            <a:ext cx="1295280" cy="623880"/>
          </a:xfrm>
          <a:prstGeom prst="rect">
            <a:avLst/>
          </a:prstGeom>
          <a:gradFill rotWithShape="0">
            <a:gsLst>
              <a:gs pos="0">
                <a:srgbClr val="ffcc66">
                  <a:alpha val="79215"/>
                </a:srgbClr>
              </a:gs>
              <a:gs pos="100000">
                <a:srgbClr val="765e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2590920" y="3987720"/>
            <a:ext cx="129528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5"/>
          <p:cNvSpPr/>
          <p:nvPr/>
        </p:nvSpPr>
        <p:spPr>
          <a:xfrm>
            <a:off x="3200400" y="3851280"/>
            <a:ext cx="1440" cy="12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6"/>
          <p:cNvSpPr/>
          <p:nvPr/>
        </p:nvSpPr>
        <p:spPr>
          <a:xfrm>
            <a:off x="3200400" y="421632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4114800" y="3216240"/>
            <a:ext cx="1295280" cy="623880"/>
          </a:xfrm>
          <a:prstGeom prst="rect">
            <a:avLst/>
          </a:prstGeom>
          <a:solidFill>
            <a:srgbClr val="ff99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4114800" y="3987720"/>
            <a:ext cx="129528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4724280" y="3851280"/>
            <a:ext cx="1800" cy="12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4724280" y="421632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2133720" y="5141880"/>
            <a:ext cx="1295280" cy="852480"/>
          </a:xfrm>
          <a:prstGeom prst="rect">
            <a:avLst/>
          </a:prstGeom>
          <a:solidFill>
            <a:srgbClr val="ff99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2133720" y="4702320"/>
            <a:ext cx="129528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>
            <a:off x="2743200" y="4549680"/>
            <a:ext cx="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111560" y="5129280"/>
            <a:ext cx="1295640" cy="852480"/>
          </a:xfrm>
          <a:prstGeom prst="rect">
            <a:avLst/>
          </a:prstGeom>
          <a:gradFill rotWithShape="0">
            <a:gsLst>
              <a:gs pos="0">
                <a:srgbClr val="ffcc99">
                  <a:alpha val="64313"/>
                </a:srgbClr>
              </a:gs>
              <a:gs pos="100000">
                <a:srgbClr val="765e47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ST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4111560" y="4689360"/>
            <a:ext cx="129564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>
            <a:off x="4721400" y="49006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>
            <a:off x="4721400" y="453708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715000" y="5129280"/>
            <a:ext cx="1295280" cy="533160"/>
          </a:xfrm>
          <a:prstGeom prst="rect">
            <a:avLst/>
          </a:prstGeom>
          <a:gradFill rotWithShape="0">
            <a:gsLst>
              <a:gs pos="0">
                <a:srgbClr val="ffcc66">
                  <a:alpha val="79215"/>
                </a:srgbClr>
              </a:gs>
              <a:gs pos="100000">
                <a:srgbClr val="765e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5715000" y="4689360"/>
            <a:ext cx="129528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324480" y="49006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1"/>
          <p:cNvSpPr/>
          <p:nvPr/>
        </p:nvSpPr>
        <p:spPr>
          <a:xfrm>
            <a:off x="6324480" y="453708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2"/>
          <p:cNvSpPr/>
          <p:nvPr/>
        </p:nvSpPr>
        <p:spPr>
          <a:xfrm>
            <a:off x="7543800" y="4017960"/>
            <a:ext cx="914400" cy="776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5638680" y="5891040"/>
            <a:ext cx="685800" cy="5335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4"/>
          <p:cNvSpPr/>
          <p:nvPr/>
        </p:nvSpPr>
        <p:spPr>
          <a:xfrm>
            <a:off x="6400800" y="5891040"/>
            <a:ext cx="685800" cy="5335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5"/>
          <p:cNvSpPr/>
          <p:nvPr/>
        </p:nvSpPr>
        <p:spPr>
          <a:xfrm>
            <a:off x="6019920" y="56624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6"/>
          <p:cNvSpPr/>
          <p:nvPr/>
        </p:nvSpPr>
        <p:spPr>
          <a:xfrm>
            <a:off x="6705720" y="56624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5715000" y="3216240"/>
            <a:ext cx="1295280" cy="623880"/>
          </a:xfrm>
          <a:prstGeom prst="rect">
            <a:avLst/>
          </a:prstGeom>
          <a:gradFill rotWithShape="0">
            <a:gsLst>
              <a:gs pos="0">
                <a:srgbClr val="ffcc66">
                  <a:alpha val="79215"/>
                </a:srgbClr>
              </a:gs>
              <a:gs pos="100000">
                <a:srgbClr val="765e2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5715000" y="3987720"/>
            <a:ext cx="129528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9"/>
          <p:cNvSpPr/>
          <p:nvPr/>
        </p:nvSpPr>
        <p:spPr>
          <a:xfrm>
            <a:off x="6324480" y="3851280"/>
            <a:ext cx="1800" cy="12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0"/>
          <p:cNvSpPr/>
          <p:nvPr/>
        </p:nvSpPr>
        <p:spPr>
          <a:xfrm>
            <a:off x="6324480" y="421632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1"/>
          <p:cNvSpPr/>
          <p:nvPr/>
        </p:nvSpPr>
        <p:spPr>
          <a:xfrm>
            <a:off x="2743200" y="4913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838080" y="4270320"/>
            <a:ext cx="6705720" cy="325800"/>
            <a:chOff x="838080" y="4270320"/>
            <a:chExt cx="6705720" cy="325800"/>
          </a:xfrm>
        </p:grpSpPr>
        <p:sp>
          <p:nvSpPr>
            <p:cNvPr id="457" name="Rectangle 43"/>
            <p:cNvSpPr/>
            <p:nvPr/>
          </p:nvSpPr>
          <p:spPr>
            <a:xfrm>
              <a:off x="838080" y="4290840"/>
              <a:ext cx="6705720" cy="285840"/>
            </a:xfrm>
            <a:prstGeom prst="rect">
              <a:avLst/>
            </a:prstGeom>
            <a:solidFill>
              <a:srgbClr val="e7dec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2998080" y="4270320"/>
              <a:ext cx="160488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8600" bIns="486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MBA 2.0 B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Line 45"/>
          <p:cNvSpPr/>
          <p:nvPr/>
        </p:nvSpPr>
        <p:spPr>
          <a:xfrm>
            <a:off x="1828800" y="3011400"/>
            <a:ext cx="914400" cy="1424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6"/>
          <p:cNvSpPr/>
          <p:nvPr/>
        </p:nvSpPr>
        <p:spPr>
          <a:xfrm flipH="1">
            <a:off x="5181120" y="2935440"/>
            <a:ext cx="3049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7"/>
          <p:cNvSpPr/>
          <p:nvPr/>
        </p:nvSpPr>
        <p:spPr>
          <a:xfrm>
            <a:off x="7848720" y="3240000"/>
            <a:ext cx="228600" cy="966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8"/>
          <p:cNvSpPr/>
          <p:nvPr/>
        </p:nvSpPr>
        <p:spPr>
          <a:xfrm flipV="1">
            <a:off x="3733920" y="4130640"/>
            <a:ext cx="1523880" cy="1844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9"/>
          <p:cNvSpPr/>
          <p:nvPr/>
        </p:nvSpPr>
        <p:spPr>
          <a:xfrm flipH="1" flipV="1">
            <a:off x="3276360" y="4892760"/>
            <a:ext cx="533160" cy="138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0"/>
          <p:cNvSpPr/>
          <p:nvPr/>
        </p:nvSpPr>
        <p:spPr>
          <a:xfrm flipV="1">
            <a:off x="1295280" y="5441760"/>
            <a:ext cx="9907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811-997A-4AD1-BD44-1D72159E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asting CCATB with Detailed Pin Accurate Abstra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CATB model takes the same amount of time to complete a read/write transaction as a detailed pin-accurat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8" name="Picture 4" descr="timing_diag1"/>
          <p:cNvPicPr/>
          <p:nvPr/>
        </p:nvPicPr>
        <p:blipFill>
          <a:blip r:embed="rId1"/>
          <a:srcRect l="1562" t="3301" r="0" b="11970"/>
          <a:stretch/>
        </p:blipFill>
        <p:spPr>
          <a:xfrm>
            <a:off x="380880" y="2271600"/>
            <a:ext cx="8686800" cy="4294440"/>
          </a:xfrm>
          <a:prstGeom prst="rect">
            <a:avLst/>
          </a:prstGeom>
          <a:ln w="0">
            <a:noFill/>
          </a:ln>
        </p:spPr>
      </p:pic>
      <p:sp>
        <p:nvSpPr>
          <p:cNvPr id="469" name="Line 5"/>
          <p:cNvSpPr/>
          <p:nvPr/>
        </p:nvSpPr>
        <p:spPr>
          <a:xfrm>
            <a:off x="8153280" y="2271600"/>
            <a:ext cx="0" cy="375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1600200" y="2209680"/>
            <a:ext cx="0" cy="3821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1981080" y="5137200"/>
            <a:ext cx="5943600" cy="639720"/>
          </a:xfrm>
          <a:prstGeom prst="wedgeRectCallout">
            <a:avLst>
              <a:gd name="adj1" fmla="val 3740"/>
              <a:gd name="adj2" fmla="val 102111"/>
            </a:avLst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ATB trades off intra-transaction visibility for simulati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34960" y="1295280"/>
            <a:ext cx="7709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-chip communication architectures have numerous sources of del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al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chronization (e.g., handshak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ipeline access, burst transfer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tion mechanis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oss-bridge or cross-clock domain trans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acking/unpacking at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significantly influence SoC performance and are a major bottleneck in many desig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ortant to consider these during SoC explo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359-C42F-4E9E-B1D3-D787A8AD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8B6-BF45-4E12-989C-090A0823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Comparing CCATB with Other Abstraction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2165400" y="6076800"/>
            <a:ext cx="1616040" cy="32256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2730600" y="5838840"/>
            <a:ext cx="38088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139680" y="3544920"/>
            <a:ext cx="5410080" cy="838080"/>
          </a:xfrm>
          <a:prstGeom prst="leftRightArrow">
            <a:avLst>
              <a:gd name="adj1" fmla="val 29509"/>
              <a:gd name="adj2" fmla="val 29408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B System bu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520560" y="3106800"/>
            <a:ext cx="1600200" cy="457200"/>
          </a:xfrm>
          <a:prstGeom prst="cube">
            <a:avLst>
              <a:gd name="adj" fmla="val 15328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926EJ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444600" y="4414680"/>
            <a:ext cx="838080" cy="36540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3720960" y="3137040"/>
            <a:ext cx="1219320" cy="42696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RAM I/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1054080" y="3576600"/>
            <a:ext cx="36684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0"/>
          <p:cNvSpPr/>
          <p:nvPr/>
        </p:nvSpPr>
        <p:spPr>
          <a:xfrm>
            <a:off x="673200" y="4110120"/>
            <a:ext cx="3808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 rot="5400000">
            <a:off x="4912920" y="3203280"/>
            <a:ext cx="38088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2654280" y="3576600"/>
            <a:ext cx="36684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4102200" y="3576600"/>
            <a:ext cx="36648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2273400" y="3122640"/>
            <a:ext cx="1218960" cy="441360"/>
          </a:xfrm>
          <a:prstGeom prst="cube">
            <a:avLst>
              <a:gd name="adj" fmla="val 153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5"/>
          <p:cNvSpPr/>
          <p:nvPr/>
        </p:nvSpPr>
        <p:spPr>
          <a:xfrm>
            <a:off x="3949560" y="4110120"/>
            <a:ext cx="3812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6"/>
          <p:cNvSpPr/>
          <p:nvPr/>
        </p:nvSpPr>
        <p:spPr>
          <a:xfrm>
            <a:off x="1434960" y="4414680"/>
            <a:ext cx="838440" cy="35100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7"/>
          <p:cNvSpPr/>
          <p:nvPr/>
        </p:nvSpPr>
        <p:spPr>
          <a:xfrm>
            <a:off x="1663560" y="4110120"/>
            <a:ext cx="3812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8"/>
          <p:cNvSpPr/>
          <p:nvPr/>
        </p:nvSpPr>
        <p:spPr>
          <a:xfrm>
            <a:off x="2502000" y="4414680"/>
            <a:ext cx="838080" cy="32076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9"/>
          <p:cNvSpPr/>
          <p:nvPr/>
        </p:nvSpPr>
        <p:spPr>
          <a:xfrm>
            <a:off x="2730600" y="4110120"/>
            <a:ext cx="3808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0"/>
          <p:cNvSpPr/>
          <p:nvPr/>
        </p:nvSpPr>
        <p:spPr>
          <a:xfrm>
            <a:off x="5549760" y="3348000"/>
            <a:ext cx="685800" cy="1219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1"/>
          <p:cNvSpPr/>
          <p:nvPr/>
        </p:nvSpPr>
        <p:spPr>
          <a:xfrm rot="16200000">
            <a:off x="5261040" y="3639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B/A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2"/>
          <p:cNvSpPr/>
          <p:nvPr/>
        </p:nvSpPr>
        <p:spPr>
          <a:xfrm>
            <a:off x="6235560" y="3562200"/>
            <a:ext cx="2529000" cy="990720"/>
          </a:xfrm>
          <a:prstGeom prst="leftRightArrow">
            <a:avLst>
              <a:gd name="adj1" fmla="val 29491"/>
              <a:gd name="adj2" fmla="val 23671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B peripheral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3"/>
          <p:cNvSpPr/>
          <p:nvPr/>
        </p:nvSpPr>
        <p:spPr>
          <a:xfrm>
            <a:off x="6572160" y="3305160"/>
            <a:ext cx="762120" cy="30492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769080" y="3624120"/>
            <a:ext cx="285840" cy="243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7410600" y="3290760"/>
            <a:ext cx="761760" cy="31932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7607160" y="3624120"/>
            <a:ext cx="285840" cy="243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540480" y="4552920"/>
            <a:ext cx="762120" cy="33516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769080" y="4248000"/>
            <a:ext cx="285840" cy="304920"/>
          </a:xfrm>
          <a:prstGeom prst="upDownArrow">
            <a:avLst>
              <a:gd name="adj1" fmla="val 50000"/>
              <a:gd name="adj2" fmla="val 212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7454880" y="4552920"/>
            <a:ext cx="762120" cy="32076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0"/>
          <p:cNvSpPr/>
          <p:nvPr/>
        </p:nvSpPr>
        <p:spPr>
          <a:xfrm>
            <a:off x="7683480" y="4248000"/>
            <a:ext cx="285840" cy="304920"/>
          </a:xfrm>
          <a:prstGeom prst="upDownArrow">
            <a:avLst>
              <a:gd name="adj1" fmla="val 50000"/>
              <a:gd name="adj2" fmla="val 21236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1"/>
          <p:cNvSpPr/>
          <p:nvPr/>
        </p:nvSpPr>
        <p:spPr>
          <a:xfrm>
            <a:off x="3568680" y="4414680"/>
            <a:ext cx="1219320" cy="33336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2"/>
          <p:cNvSpPr/>
          <p:nvPr/>
        </p:nvSpPr>
        <p:spPr>
          <a:xfrm>
            <a:off x="3944880" y="4764240"/>
            <a:ext cx="3808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4859280" y="4038480"/>
            <a:ext cx="380880" cy="1478160"/>
          </a:xfrm>
          <a:prstGeom prst="upDownArrow">
            <a:avLst>
              <a:gd name="adj1" fmla="val 54167"/>
              <a:gd name="adj2" fmla="val 3234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4"/>
          <p:cNvSpPr/>
          <p:nvPr/>
        </p:nvSpPr>
        <p:spPr>
          <a:xfrm rot="5400000">
            <a:off x="4825800" y="5157720"/>
            <a:ext cx="533160" cy="1219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5"/>
          <p:cNvSpPr/>
          <p:nvPr/>
        </p:nvSpPr>
        <p:spPr>
          <a:xfrm>
            <a:off x="4543560" y="5467320"/>
            <a:ext cx="11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B/A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382680" y="5272200"/>
            <a:ext cx="4100400" cy="855720"/>
          </a:xfrm>
          <a:prstGeom prst="leftRightArrow">
            <a:avLst>
              <a:gd name="adj1" fmla="val 29509"/>
              <a:gd name="adj2" fmla="val 21829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B System bu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1130400" y="5348160"/>
            <a:ext cx="38088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673200" y="6076800"/>
            <a:ext cx="838080" cy="33516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9"/>
          <p:cNvSpPr/>
          <p:nvPr/>
        </p:nvSpPr>
        <p:spPr>
          <a:xfrm>
            <a:off x="2349360" y="4983120"/>
            <a:ext cx="1387440" cy="35100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g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0"/>
          <p:cNvSpPr/>
          <p:nvPr/>
        </p:nvSpPr>
        <p:spPr>
          <a:xfrm>
            <a:off x="2730600" y="5343480"/>
            <a:ext cx="380880" cy="23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41"/>
          <p:cNvSpPr/>
          <p:nvPr/>
        </p:nvSpPr>
        <p:spPr>
          <a:xfrm>
            <a:off x="749160" y="4983120"/>
            <a:ext cx="1219320" cy="351000"/>
          </a:xfrm>
          <a:prstGeom prst="cube">
            <a:avLst>
              <a:gd name="adj" fmla="val 153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2"/>
          <p:cNvSpPr/>
          <p:nvPr/>
        </p:nvSpPr>
        <p:spPr>
          <a:xfrm>
            <a:off x="901800" y="5838840"/>
            <a:ext cx="380880" cy="219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3"/>
          <p:cNvSpPr/>
          <p:nvPr/>
        </p:nvSpPr>
        <p:spPr>
          <a:xfrm rot="16200000">
            <a:off x="3754080" y="6114600"/>
            <a:ext cx="3812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5702400" y="5334120"/>
            <a:ext cx="3352680" cy="838080"/>
          </a:xfrm>
          <a:prstGeom prst="leftRightArrow">
            <a:avLst>
              <a:gd name="adj1" fmla="val 27648"/>
              <a:gd name="adj2" fmla="val 30688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B System bu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6540480" y="5411880"/>
            <a:ext cx="380880" cy="212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6159600" y="6119640"/>
            <a:ext cx="838080" cy="289080"/>
          </a:xfrm>
          <a:prstGeom prst="cube">
            <a:avLst>
              <a:gd name="adj" fmla="val 153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7"/>
          <p:cNvSpPr/>
          <p:nvPr/>
        </p:nvSpPr>
        <p:spPr>
          <a:xfrm>
            <a:off x="7450200" y="5075280"/>
            <a:ext cx="1270080" cy="33480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g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8"/>
          <p:cNvSpPr/>
          <p:nvPr/>
        </p:nvSpPr>
        <p:spPr>
          <a:xfrm>
            <a:off x="7912080" y="5411880"/>
            <a:ext cx="380880" cy="212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9"/>
          <p:cNvSpPr/>
          <p:nvPr/>
        </p:nvSpPr>
        <p:spPr>
          <a:xfrm>
            <a:off x="6175440" y="5075280"/>
            <a:ext cx="1163520" cy="334800"/>
          </a:xfrm>
          <a:prstGeom prst="cube">
            <a:avLst>
              <a:gd name="adj" fmla="val 153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0"/>
          <p:cNvSpPr/>
          <p:nvPr/>
        </p:nvSpPr>
        <p:spPr>
          <a:xfrm>
            <a:off x="6388200" y="5896080"/>
            <a:ext cx="380880" cy="223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1"/>
          <p:cNvSpPr/>
          <p:nvPr/>
        </p:nvSpPr>
        <p:spPr>
          <a:xfrm>
            <a:off x="7256520" y="6119640"/>
            <a:ext cx="1433520" cy="289080"/>
          </a:xfrm>
          <a:prstGeom prst="cube">
            <a:avLst>
              <a:gd name="adj" fmla="val 153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g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2"/>
          <p:cNvSpPr/>
          <p:nvPr/>
        </p:nvSpPr>
        <p:spPr>
          <a:xfrm>
            <a:off x="7912080" y="5896080"/>
            <a:ext cx="38088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3"/>
          <p:cNvSpPr/>
          <p:nvPr/>
        </p:nvSpPr>
        <p:spPr>
          <a:xfrm rot="16200000">
            <a:off x="8178840" y="4559400"/>
            <a:ext cx="3808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ed </a:t>
            </a:r>
            <a:r>
              <a:rPr b="0" lang="en-US" sz="2000" spc="-1" strike="noStrike">
                <a:solidFill>
                  <a:srgbClr val="003399"/>
                </a:solidFill>
                <a:latin typeface="Gill Sans MT"/>
              </a:rPr>
              <a:t>CCAT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erformance with </a:t>
            </a:r>
            <a:r>
              <a:rPr b="0" lang="en-US" sz="2000" spc="-1" strike="noStrike">
                <a:solidFill>
                  <a:srgbClr val="ff3399"/>
                </a:solidFill>
                <a:latin typeface="Gill Sans MT"/>
              </a:rPr>
              <a:t>PA-BC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000" spc="-1" strike="noStrike">
                <a:solidFill>
                  <a:srgbClr val="ff6600"/>
                </a:solidFill>
                <a:latin typeface="Gill Sans MT"/>
              </a:rPr>
              <a:t>T-BC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 effect of changing system complexity on simulation sp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rt with simple SoC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eratively add components to increase complex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sure simulation speed at each iter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6" name="Picture 55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7620120" y="1600200"/>
            <a:ext cx="13064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8B1-4C3C-4595-A76F-84C44720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rcRect l="2102" t="3516" r="17895" b="5262"/>
          <a:stretch/>
        </p:blipFill>
        <p:spPr>
          <a:xfrm>
            <a:off x="2286000" y="914400"/>
            <a:ext cx="5029200" cy="30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9" name=""/>
          <p:cNvGraphicFramePr/>
          <p:nvPr/>
        </p:nvGraphicFramePr>
        <p:xfrm>
          <a:off x="1371600" y="4603680"/>
          <a:ext cx="7315200" cy="1362240"/>
        </p:xfrm>
        <a:graphic>
          <a:graphicData uri="http://schemas.openxmlformats.org/drawingml/2006/table">
            <a:tbl>
              <a:tblPr/>
              <a:tblGrid>
                <a:gridCol w="1932120"/>
                <a:gridCol w="3152520"/>
                <a:gridCol w="2230560"/>
              </a:tblGrid>
              <a:tr h="3891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del Abs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verage CCATB speedup (x tim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odeling Eff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43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CAT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~3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-B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~4 day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-B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~1.5 w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AutoShape 26"/>
          <p:cNvSpPr/>
          <p:nvPr/>
        </p:nvSpPr>
        <p:spPr>
          <a:xfrm>
            <a:off x="1098720" y="6093000"/>
            <a:ext cx="7831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b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ATB takes less time to model than other ab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27"/>
          <p:cNvSpPr/>
          <p:nvPr/>
        </p:nvSpPr>
        <p:spPr>
          <a:xfrm>
            <a:off x="1141560" y="3962520"/>
            <a:ext cx="7773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b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ATB consistently faster than PA-BCA and T-B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1066680" y="0"/>
            <a:ext cx="80773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Comparing CCATB with Other Abstr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5" descr=""/>
          <p:cNvPicPr/>
          <p:nvPr/>
        </p:nvPicPr>
        <p:blipFill>
          <a:blip r:embed="rId2"/>
          <a:srcRect l="0" t="0" r="0" b="16522"/>
          <a:stretch/>
        </p:blipFill>
        <p:spPr>
          <a:xfrm>
            <a:off x="7620120" y="838080"/>
            <a:ext cx="13064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Transaction Level Model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FF7-3F95-4D5F-872B-5F24C9A2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219320" y="1219320"/>
            <a:ext cx="4495680" cy="541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219320" y="4114800"/>
            <a:ext cx="44956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gh level system validation and embedded softwar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ast to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- /10 to /50  RT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ast simulation speed, but model not too detailed for exploring SoC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- &gt;&gt;1000x R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1371600" y="1752480"/>
            <a:ext cx="14479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r1 = a +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 = d &lt;&lt; var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request(por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 = REG4 |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124080" y="2286000"/>
            <a:ext cx="609840" cy="9144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4038480" y="1752480"/>
            <a:ext cx="14479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se CTR_W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= 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TR_WR |=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_RG = in|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wa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3942000" y="128736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1253880" y="128736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 flipV="1">
            <a:off x="304812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2781720" y="357516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2819520" y="205740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2819520" y="281952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4"/>
          <p:cNvSpPr/>
          <p:nvPr/>
        </p:nvSpPr>
        <p:spPr>
          <a:xfrm>
            <a:off x="3733920" y="281952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5"/>
          <p:cNvSpPr/>
          <p:nvPr/>
        </p:nvSpPr>
        <p:spPr>
          <a:xfrm>
            <a:off x="2895480" y="1752480"/>
            <a:ext cx="152640" cy="121932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3002760" y="1731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7"/>
          <p:cNvSpPr/>
          <p:nvPr/>
        </p:nvSpPr>
        <p:spPr>
          <a:xfrm>
            <a:off x="6680160" y="2133720"/>
            <a:ext cx="2286000" cy="698400"/>
          </a:xfrm>
          <a:prstGeom prst="cube">
            <a:avLst>
              <a:gd name="adj" fmla="val 1164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8"/>
          <p:cNvSpPr/>
          <p:nvPr/>
        </p:nvSpPr>
        <p:spPr>
          <a:xfrm>
            <a:off x="6692760" y="4038480"/>
            <a:ext cx="2286000" cy="78768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9"/>
          <p:cNvSpPr/>
          <p:nvPr/>
        </p:nvSpPr>
        <p:spPr>
          <a:xfrm>
            <a:off x="6705720" y="5105520"/>
            <a:ext cx="228600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6692760" y="3098880"/>
            <a:ext cx="2286000" cy="73656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-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3"/>
          <p:cNvSpPr/>
          <p:nvPr/>
        </p:nvSpPr>
        <p:spPr>
          <a:xfrm>
            <a:off x="5435640" y="2273400"/>
            <a:ext cx="1117440" cy="546120"/>
          </a:xfrm>
          <a:prstGeom prst="leftArrow">
            <a:avLst>
              <a:gd name="adj1" fmla="val 50000"/>
              <a:gd name="adj2" fmla="val 6427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6553080" y="1219320"/>
            <a:ext cx="2362320" cy="685800"/>
          </a:xfrm>
          <a:prstGeom prst="cube">
            <a:avLst>
              <a:gd name="adj" fmla="val 11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ransaction Level Model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M can be thought of as a P2P, zero-time interconnection between system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enable comm. architecture exploration at the TLM level, some approaches incorporate bus protocol structural and timing details in TL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guaranteed to be very accurate in estimating perform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ted-TLM (ATLM) add support for arbitration and shared buses, to capture contention during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richa et al. [SNUG 2002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iyamparambath et al. [ISSOC 2003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hirner et al. [DATE 2006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A0E-2858-4010-9F77-640DFF3A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Transaction Level Model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iyamparambath et al. [ISSOC 2003] annotated ATLM models with bus-protocol-specific timing detai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roduced the near cycle accurate (NCA) bus that has timing annotation to capture bus protocol specific dela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CA abstract bus model automatically calculates the time delay associated with the data trans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its for that time delay before calling the slave interface and writing the data to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 information cap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ernal bus delay cycles (e.g, request, grant, et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peline delay cyc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rst length cyc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537F-9D96-4938-A8C6-C4F582A1C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Transaction Level Model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ill Sans MT"/>
              </a:rPr>
              <a:t>Viaud et al. [DATE 2006]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osed TLM/T (transaction level model with time) abstraction leve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component modeled as a thread, and has a local clo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munication via packets transferred on P2P chann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ffect of arbitration modeled by global interconnect model, which includes all the P2P links interconnecting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clocks of two threads are synchronized every time a packet is sent from one thread to the othe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ulation speed is improved because each (master) component has a local clock, with no need for global synchronization at every system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erimental results on a generic OCP/VCI comm. architecture showed a speedup of 10x to 60x  compared to a PA-BCA model, at a slight loss in accuracy of less than 1%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C54-8CB7-4409-BCA6-CB3F7D75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ransaction Level Model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hirner et al. [CODES+ISSS 2006] proposed result oriented modeling (ROM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del initially predicts time taken to complete a transaction, and corrects prediction if required at the end of prediction peri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rrection accounts for disturbing influences such as transactions from higher priority masters that can lengthen transaction completion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 to the correction mechanism, the model complexity is higher than CCATB and other T-BCA mod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provide speedup for statically scheduled, predictable applications such as real-time CAN-based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01C-3345-49BF-895D-077E3AD0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ling abstractions described till now have had different strengths and weaknesses stemming from inherent trade-off betwe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lexity of details captur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ion accur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ulation sp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ful to have a communication-centric exploration flow that integrates several abstraction leve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 performance exploration with different levels of captured details, accuracy, and simulation speed in an SoC design f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ew pieces of work have proposed such communication-centric design space exploration flow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B960-D344-4338-B1F1-80F13588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wson et al. [DAC 1997] illustrated the use of multiple abstraction levels for communication architecture exploration of an ATM packet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54E2-15AA-4A2F-AE2A-EA662CDE2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563840" y="2590920"/>
            <a:ext cx="63799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nes et al. [DAC 1997] proposed using multiple levels of abstraction for comm. architecture exploration, with the ability to dynamically switch between th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greater exploration flexibility in terms of simulation speed and accur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proach allows a designer to switch from a detailed PA-BCA model to less detailed TLM-like models to speed up explo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Gill Sans MT"/>
              </a:rPr>
              <a:t>Beltrame et al. [DATE 2006] proposed a similar approac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Gill Sans MT"/>
              </a:rPr>
              <a:t>dynamic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itching between BCA, untimed TLM, timed TL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improve simulation speed for explo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1A67-949C-4507-8E17-D593DB7C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unication Architecture Performance Estimation in ESL Design Flo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ABD-FED7-4135-8BB6-626E2AA3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rinen et al. [OCP White Paper 2003] proposed a stack of comm. abstraction layers, each having a different level of detail for modeling comm. in a design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apted for use in the LISA Processor Design Platform, to jointly design and explore processor architecture with an on-chip communication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7C6-4DB7-4EB6-A5AC-6B026D52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716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ogel et al. [CODES+ISSS 2003] made use of 3 of the abstraction levels from the comm. layer stack to explore design of a network processing unit for IP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3282-4C40-45D6-B7FC-503DB850B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rcRect l="1412" t="2616" r="1884" b="2348"/>
          <a:stretch/>
        </p:blipFill>
        <p:spPr>
          <a:xfrm>
            <a:off x="1752480" y="2819520"/>
            <a:ext cx="6659640" cy="35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ple Abstraction Modeling Flow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richa et al. [DAC 2004] proposed another variant of communication-centric design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93C7-7294-4916-9D34-C92A7D33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4197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ybrid performance estimation techniq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bine static and dynamic performance estimation strateg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 up comm. architecture performance estimation while generating accurate performance exploration res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0EE-B8F0-4DC0-92C9-949ED858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735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2193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ahiri et al. [VLSID 2000] proposed a hybrid trace-based comm. architecture performance exploration techn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01A-FE6E-43C8-9561-44EFB245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1676520" y="2001960"/>
            <a:ext cx="6348240" cy="4506840"/>
          </a:xfrm>
          <a:prstGeom prst="rect">
            <a:avLst/>
          </a:prstGeom>
          <a:ln w="0">
            <a:noFill/>
          </a:ln>
        </p:spPr>
      </p:pic>
      <p:sp>
        <p:nvSpPr>
          <p:cNvPr id="611" name="Left Brace 7"/>
          <p:cNvSpPr/>
          <p:nvPr/>
        </p:nvSpPr>
        <p:spPr>
          <a:xfrm>
            <a:off x="1447920" y="2057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752480"/>
              <a:gd name="textAreaBottom" fmla="*/ 17467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eft Brace 8"/>
          <p:cNvSpPr/>
          <p:nvPr/>
        </p:nvSpPr>
        <p:spPr>
          <a:xfrm>
            <a:off x="1447920" y="388620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2590920"/>
              <a:gd name="textAreaBottom" fmla="*/ 258516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59"/>
                </a:cubicBezTo>
                <a:lnTo>
                  <a:pt x="10800" y="10641"/>
                </a:lnTo>
                <a:cubicBezTo>
                  <a:pt x="10800" y="10721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59"/>
                </a:cubicBezTo>
                <a:lnTo>
                  <a:pt x="10800" y="21441"/>
                </a:lnTo>
                <a:cubicBezTo>
                  <a:pt x="10800" y="2152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9"/>
          <p:cNvSpPr/>
          <p:nvPr/>
        </p:nvSpPr>
        <p:spPr>
          <a:xfrm rot="16200000">
            <a:off x="621000" y="289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5a8d"/>
                </a:solidFill>
                <a:latin typeface="Arial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0"/>
          <p:cNvSpPr/>
          <p:nvPr/>
        </p:nvSpPr>
        <p:spPr>
          <a:xfrm rot="16200000">
            <a:off x="786600" y="4970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ce generated from simulation ph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7BE-8314-4814-9ED8-8C7AB16D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527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G generated from simulation tr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B12-F246-446C-9554-66C1A46B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645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gmenting CAG with comm. protocol details in static ph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C1C-0508-485C-98B5-9BDC627C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1661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uracy comparis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887-3BF9-4460-82A5-A0B9BE1A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rcRect l="2739" t="1562" r="3451" b="1444"/>
          <a:stretch/>
        </p:blipFill>
        <p:spPr>
          <a:xfrm>
            <a:off x="1782720" y="1676520"/>
            <a:ext cx="6264360" cy="47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up comparis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5A9B-EE01-4693-B5EA-08A85A89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rcRect l="1636" t="2754" r="1757" b="2676"/>
          <a:stretch/>
        </p:blipFill>
        <p:spPr>
          <a:xfrm>
            <a:off x="1600200" y="2057400"/>
            <a:ext cx="69534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tempts to determine the performance of a system through analy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sed form expressions that capture system performance as a function of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y challenge: determine the right set of system parameters and their intera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xt few sl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view of static performance estimation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C19-6E1B-4BD3-BA54-BA58CF5C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867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Hybrid Performance Estimation Approach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m et al. [CODES+ISSS 2003] proposed another hybrid performance estimatio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ic performance-estimation technique based on a queuing analysis as the first step to prune the design spa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ulation-based approach to accurately explore the reduced design space as the second ste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ic queuing approach insufficient to handle complex bus protocol features (e.g., SPLIT/OO transactions, OO transaction completio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D04-1584-4D28-B977-083287A6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performance estimation techniq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+ enable fast, early performance esti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 unable to account for dynamic effects that can have a significant effect on perform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performance estimation techniq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+ provide accurate and reliable performance result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 can become time consuming for large appli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ybrid performance estimation techniq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bine static and dynamic performance estimation strateg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speed up communication architecture performance estimation while generating accurate performance exploration res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3B59-3EE7-4B8C-A462-9986B9A57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6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4F37-7EDE-4ED8-A159-A0912785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nudsen et al [CODES 1998] presented a high level estimation model for communication throughput for a given protoc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s are estimated for the following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nsmitting driv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ceiving driv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proach assumes pipelined transfers and estimat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rst time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packet splitting/joining time at interf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26B-915D-49AC-8E93-2A62201A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981080" y="2392200"/>
            <a:ext cx="60278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498-4C69-42B0-AC49-5992223C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387840" y="2971800"/>
            <a:ext cx="20721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miss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628320" y="5867280"/>
            <a:ext cx="15613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anne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152800" y="1542960"/>
            <a:ext cx="566712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000160" y="3886200"/>
            <a:ext cx="5924520" cy="194328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3733920" y="2895480"/>
            <a:ext cx="2390760" cy="533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3733920" y="5867280"/>
            <a:ext cx="243828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C734-6CC8-4E2E-B540-0F390DB1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235240" y="1728720"/>
            <a:ext cx="5600520" cy="1352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6655320" y="3176640"/>
            <a:ext cx="1570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3606840" y="3176640"/>
            <a:ext cx="2576520" cy="46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3454560" y="4091040"/>
            <a:ext cx="2744640" cy="4665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2041560" y="4624560"/>
            <a:ext cx="60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total delay (assuming pipelined 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4"/>
          <a:stretch/>
        </p:blipFill>
        <p:spPr>
          <a:xfrm>
            <a:off x="3606840" y="5157720"/>
            <a:ext cx="2243160" cy="557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6118200" y="5310360"/>
            <a:ext cx="25718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tal transmiss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00ED-F811-455A-8A1C-12043104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nner et al [RSP 1999] presented more detailed communication performance estimation mod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mitter, channel, and receiver dela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so considers software, wire delay, protocol latenc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tic Communication Architecture Performance Estimatio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286000" y="3067200"/>
            <a:ext cx="5486400" cy="34351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5"/>
          <p:cNvSpPr/>
          <p:nvPr/>
        </p:nvSpPr>
        <p:spPr>
          <a:xfrm>
            <a:off x="1523880" y="3962520"/>
            <a:ext cx="6629400" cy="1676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4-24T05:33:40Z</dcterms:modified>
  <cp:revision>209</cp:revision>
  <dc:subject/>
  <dc:title>On Chip Communication Architectures</dc:title>
</cp:coreProperties>
</file>