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7C76-4A86-446A-92E1-DA8D3A790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EDB0-B7FB-4218-A763-CA67A1AB0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125A-74DB-4228-AE79-A9028FCCC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E2D1-D9CE-450D-B359-EFA85FD82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6A136-56AD-4FEA-AEC0-35919665E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874A0-95DF-4F8C-8DFB-BAB3783F10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9F55D-9F15-47AB-B85B-FAB04E06EC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5821A-9575-4022-9CD9-4E090467CA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6210-29B5-4E2D-A4EE-1735B0BF34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2A861-4884-4125-AC5D-A90627428B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B06DE-3261-4B03-8A5B-9E24065A5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2C4C-CF3E-4A54-B740-50F2520D5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6447A-3F87-4A26-AD94-76D10E1C54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3B6D2-A7EB-4FA3-B392-AA87A1E685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ABB6D-744D-4CEC-82E2-61DF2A50F2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E37AA-7678-4CE4-9100-43C2DCA42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C3035-1FDD-4CAE-8D84-8A3CF61512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42A4D-DA18-4F38-905D-E008210B37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FC998-2015-4D21-8F28-606CCE4C6F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B0A26-3A9D-4435-B94C-05569FCE8A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7F146-0EB9-40CB-A308-272936559B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5E42C-36A9-42F1-AA66-B927A1C8F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9ECA-BC9B-438E-9E85-C1570EBE48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B6E26-A77F-47C1-908C-4FA3A004E2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B1BAB-61DF-4A05-94FD-22614CB11B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895C0-048A-4A9B-A5D8-03281B5ABA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4453-433E-4D4F-88F9-99B8CEDF2F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440F3-A91B-485D-ADB4-C569EBCBEC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9D7B2-BA4C-4210-9B29-0C584CB3EE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9BAC9-2609-4AC1-AE97-5B62BFEA65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6B907-9FB7-4764-87D8-5685FD2B9F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34C3D-5BFD-408B-93F5-781B68D077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CFF5E-4206-4E9F-9264-DA37F5052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4854-E04F-4446-8553-4669820BAD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6D389-EBDC-476C-8C3C-DE84308D24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6FE07-D040-4DF4-8412-6237FF4730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289C8-0DDF-4A8A-8422-AD8AC65735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17A12-520D-4245-A70E-D7CAA5B0D2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2B3E9-CB7D-4D04-B4A5-97211B754C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B525B2-C34D-4F55-8069-A7EBE17450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2DA19-20A8-47AE-9A32-370EC10FEA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7888A-A9F7-40BC-90DD-616EE28329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A5BD7-9FF5-4F9A-8387-6C5123F35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1FB3-CEFD-450E-A427-A15E38E65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90FD-F753-4F76-AF79-D22BA4390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751D-4E47-4E22-BE70-902286403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BDF4-52D6-48C5-A3DB-7A926E6EA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497B-DB01-42CA-AFC5-8C271A0FE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2FE3-347C-4BAF-B05F-C17E303B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464-5D54-4BE9-A10D-E15BDBED8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4F57-D9DC-44F5-864E-5249B7123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3C2-5650-413C-B62B-EF9681B51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Physical Design Tre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for Interconn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lides based on book chapter 1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EE2A-3538-4840-91AE-938CF706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SM Interconnect Desig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95280" y="14475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, wide interconnects operating at frequencies exceeding a GHz are not accurately characterized by an RC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RLC model is necessary for accur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complex to evalu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ed RLC model (T or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F8B4-7A75-42E5-BF00-DA3722C09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rcRect l="52061" t="69150" r="0" b="5706"/>
          <a:stretch/>
        </p:blipFill>
        <p:spPr>
          <a:xfrm>
            <a:off x="3352680" y="3048120"/>
            <a:ext cx="266724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rcRect l="46995" t="0" r="0" b="0"/>
          <a:stretch/>
        </p:blipFill>
        <p:spPr>
          <a:xfrm>
            <a:off x="3048120" y="4952880"/>
            <a:ext cx="3524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SM Interconnect Desig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66320" y="14475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ngth criteria for including inductance in interconnect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43A-5E39-4618-A6EF-DF3F53B6D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2361960" cy="88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50482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SM Interconnect Desig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equency criteria for including inductance in interconnect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reasing signal frequencies require faster signal transition ti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ulting effect of a decreased signal transition time is a lower limit on the line length, making shorter on-chip interconnects behave inductive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dium length lines can also behave inductively at high signal frequenci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electric material criteria for including inductance in interconnect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e capacitance can be reduced by half of the capacitance of 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th the use of low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electr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pper interconnect has reduced the line resistance by a factor of two to three as compared to alumin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se and other new materials further the need to include line inductance in interconnect mod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1EB6-703E-40DE-A86E-3E59C2F0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SM Interconnect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Low Power High Speed Circuit Desig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wer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D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A487-9D09-4833-AF36-6CD2A738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ow Power High Speed Circuit Design Technique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Speed Circuit Design Goal: Improve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and noise are important when considering design techniques to optimize circuit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ise affects delay, degrades waveform shape, and most importantly, creates the possibility of an erroneous interpretation of the digital sign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DFA7-E2B8-469B-BA64-01A5CA68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286000" y="3886200"/>
            <a:ext cx="51436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MOS Power Dissipation Over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34960" y="1447920"/>
            <a:ext cx="749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MOS Power Diss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 pow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D3A3-FA9B-400A-9AF2-97653E9FF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3372120" cy="2457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355104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5994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MOS Power Dissipation Over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440" y="14475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rt circuit pow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ue to current flow when a conductive path exists from the power rail to ground rai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akage pow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ue to current that flows between the power terminals in the absence of any switch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creasingly dominating overall pow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8B87-7C9B-42C0-A57C-D41D1F17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4667400" y="1447920"/>
            <a:ext cx="4324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Wire Sizing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89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dth of an interconnect affects the power characteristics and propagation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ider a CMOS inverter driving a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C interconnec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 first order model of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599-08AC-4819-BF7C-9D222B73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rcRect l="0" t="0" r="0" b="12204"/>
          <a:stretch/>
        </p:blipFill>
        <p:spPr>
          <a:xfrm>
            <a:off x="1104840" y="3733920"/>
            <a:ext cx="781056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5861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Wire Sizing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189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ing the driver transistor width reduce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reasing the circuit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ding off circuit power and area for higher spe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ing the width of the interconnect to redu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not significantly reduce the delay caused by the RC interconnect impedanc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ce decrease in wire resistance is offset by increase in wire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algorithms have been proposed to determine the optimum wire size that minimizes a target cost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nimizing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ressing reliability issues by reducing clock ske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w approaches for simultaneous driver and wire si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839A-3E17-4A49-B2D6-5A2F58E6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Wire Sizing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eoffs exist betwe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and short-circui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 line inductance-to-resistance ratio increases with wider lines, short-circuit power decreases due to reduction in signal transition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n RC line, short-circuit power remains approximately constant with increasing width (unlike RLC line shown in figur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crease in interconnect resistance offset by an increase in capacit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width of interconnect exceeds a specific limit, short-circuit power increas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nge in the matching characteristics between driver and interconnec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 power increases with width since line capacitance is grea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02BA-E393-4721-BDAD-A0288BA8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3809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SM Interconnect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Power High Speed Circuit Desig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wer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D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B645-DEF7-45E6-BED9-D0A571C5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river Siz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istor sizing techniques aim to lower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der transistors have a few advantages but also several disadvant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+ produce more curr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+ reduce charge time of load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ve greater physical ar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ve larger gate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reased circuit area and pow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areful balance of the current drive and output load is necessary to enhance circuit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optimal transistor size is smaller than the power-delay optimal transisto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B939-C1FE-4F96-94F1-22491ABE3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pered Buff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21896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 important example of transistor sizing is tapered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d to drive large capacitive loa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ists of chain of inverters of gradually increasing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tio of size of an inverter to size of the preceding inverter is the tapering facto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of tapered buffer system is less than delay of a single large inver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B7C-7714-4346-A796-592D48C0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rcRect l="-1715" t="0" r="0" b="11320"/>
          <a:stretch/>
        </p:blipFill>
        <p:spPr>
          <a:xfrm>
            <a:off x="1219320" y="4265640"/>
            <a:ext cx="75438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pered Buff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66680" y="1447920"/>
            <a:ext cx="41911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pendence of the tapered buffer propagation delay on tapering fa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001A-E372-4297-9415-301D4476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5181480" y="773280"/>
            <a:ext cx="3962520" cy="2884320"/>
          </a:xfrm>
          <a:prstGeom prst="rect">
            <a:avLst/>
          </a:prstGeom>
          <a:ln w="0">
            <a:noFill/>
          </a:ln>
        </p:spPr>
      </p:pic>
      <p:sp>
        <p:nvSpPr>
          <p:cNvPr id="299" name="Content Placeholder 2"/>
          <p:cNvSpPr/>
          <p:nvPr/>
        </p:nvSpPr>
        <p:spPr>
          <a:xfrm>
            <a:off x="1066680" y="3581280"/>
            <a:ext cx="80773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minimum delay, optimal number of s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op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= ln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where M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/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is the ratio of the load capacitance to the input capacitance of the initial inverter in th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a, power, and delay strongly dependent o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rade-offs possi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by varying taper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peater Inser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 effective strategy for reducing delay of a long interconnect is to strategically insert buffers along a 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eaters circumvent quadratic increase in interconnect delay by partitioning the line into smaller and approximately equal s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 of section delays is smaller than delay of original path since delay of each section is reduc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ed interconnect delay is partially offset by the additional delay of the inserted repea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0E4-BBBC-489D-9473-8A3FE5BA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0" t="0" r="0" b="25661"/>
          <a:stretch/>
        </p:blipFill>
        <p:spPr>
          <a:xfrm>
            <a:off x="1054080" y="3581280"/>
            <a:ext cx="8064360" cy="849600"/>
          </a:xfrm>
          <a:prstGeom prst="rect">
            <a:avLst/>
          </a:prstGeom>
          <a:ln w="0">
            <a:noFill/>
          </a:ln>
        </p:spPr>
      </p:pic>
      <p:sp>
        <p:nvSpPr>
          <p:cNvPr id="305" name="Right Arrow 6"/>
          <p:cNvSpPr/>
          <p:nvPr/>
        </p:nvSpPr>
        <p:spPr>
          <a:xfrm>
            <a:off x="4419720" y="38862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peater Inser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mal number of repea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mal size of repea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re the total interconnect resistance and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re the input and output repeater resistance and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g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input capacitance of the repea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tting parameter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ccount for rise and fall time of the propagating sign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221C-4E18-409E-978E-3E3714DA1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"/>
          <p:cNvPicPr/>
          <p:nvPr/>
        </p:nvPicPr>
        <p:blipFill>
          <a:blip r:embed="rId1"/>
          <a:stretch/>
        </p:blipFill>
        <p:spPr>
          <a:xfrm>
            <a:off x="3962520" y="1914480"/>
            <a:ext cx="2124000" cy="981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"/>
          <p:cNvPicPr/>
          <p:nvPr/>
        </p:nvPicPr>
        <p:blipFill>
          <a:blip r:embed="rId2"/>
          <a:stretch/>
        </p:blipFill>
        <p:spPr>
          <a:xfrm>
            <a:off x="4017960" y="3200400"/>
            <a:ext cx="18493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peater Inser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189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an RC line, repeater insertion techniques outperform wire si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RLC lines, wire sizing outperforms repeater insertion as the minimum signal propagation delay with no repeaters is small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B9FE-04F4-4FF0-8522-945D4A07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50958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SM Interconnect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Power High Speed Circuit Desig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ower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D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504-6A4D-4130-812E-2CBAA426A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wer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grid consists of a supply, load, and interconnect lines connecting the supply to the lo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onnect lines connecting the power supply to the load are non-ideal with a finite resistance and inductance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,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,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, for the power and ground lines, respective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nge in supply voltages at the load terminal is referred to as power supply noi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6481-A26D-4C64-A157-908EAFF3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51721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wer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supply noise can adversely affect circuit ope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supply variations reduce rail-to-rail power voltage, causing gate-to-source voltage across both NMOS and PMOS transistors to also decre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ing the output drive current of these de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gnal delay increases, compared to delay under nominal power supply volt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noise affects propagating clock and data signals by causing an increase in both delay and delay uncertainty within the data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rely limit the maximum operating frequency of an 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4FD-6979-439A-AFA3-871149E7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wer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distribution network should exhibit a minimal impedance at terminals of the loa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ensure a small variation in the power supply volt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oupling capacitors ensure correct and reliable ope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ed across a system, placed at board, package, and on-chip lev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provide charge when transient current demands on power grid are high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decoupling capacitor provides transient current to the load, effectively reducing the local transient noi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C80-0EB5-4339-9722-996EE647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663560" y="4267080"/>
            <a:ext cx="6924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434960" y="1066680"/>
            <a:ext cx="7499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aller feature size in DSM technology nodes reduces delay of active devi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wever, effect on delay due to the passive interconnects has increased rapid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cal wire delay decreases with feature size due to a reduction in distance among active devi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owever overall speed of current ICs is most often limited by the long distance global interconnec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5755-806B-4D67-996E-D1D0B71D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743200" y="2602080"/>
            <a:ext cx="4638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wer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6320" y="10666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-chip current densities can reach several hundred thousand amperes per sq. cm, leading to electromig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ectromigration is the transport of metal atoms under the force of an electron fl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pletion and accumulation of metal material resulting from atomic flow can lead to formation of extrusions and voids in metal struc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usions and voids can lead to short circuits and open circuit fa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B5C-C4F4-418F-B2FE-AC391A3D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7689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SM Interconnect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Power High Speed Circuit Desig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wer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ock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D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450-EC70-413A-8B28-AF91CE551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a synchronous digital system, the clock signal provides a time reference for movement of data within that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ck signals are typic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aded with the greatest fanou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vel over the longest dist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erate at the highest speeds of any signal, either control or 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ces in the delay of the clock signals ca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rely limit the maximum performance of the entire system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e catastrophic race conditions in which an incorrect data signal may latch within a regis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30D0-5CA4-4CC5-A135-83A1A5283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chronous systems are composed of the following three delay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ory storage el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gic el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ocking circuitry and distribution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um allowable clock perio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CP(min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any two registers in a sequential data path 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672F-C31A-4A51-8831-AC7C31A97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743200" y="4419720"/>
            <a:ext cx="4165560" cy="838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5319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549C-7F34-4499-B9CB-C0FE161B2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848280" cy="3476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5319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90720" y="1219320"/>
            <a:ext cx="794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ally, clocking events occur simultaneously at all regis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ce in the clock signal arrival time between two sequentially adjacent registers is the clock ske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stem-wide or chip-wide clock skew between two non-sequentially adjacent registers, from an analysis viewpoint is meaningl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s no effect on the performance and reliability of a synchronous syst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an be positive or negativ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59CD-C89F-49DC-AA93-63CA88FB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0" t="0" r="11109" b="0"/>
          <a:stretch/>
        </p:blipFill>
        <p:spPr>
          <a:xfrm>
            <a:off x="2514600" y="388620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1896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 positive clock skew the maximum attainable operating frequency is de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formance degrad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 negative clock skew maximum performance of a synchronous system can be improved by decreasing delay of a critical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there is also potential for a race cond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ock skew must be less than the time required fo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signal to leave initial register, propagate through interconnect and combinatorial logic, and successfully set up in the final regist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this condition is not m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stored in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s overwritten by data that had been stored in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and has propagated through the combinatorial log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BD2-F202-44F4-B437-D87FE336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most common strategy for distributing on-chip clock signals is to insert buffers at the clock source and along the clock path, forming a tree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, acting as repeaters, are usually distributed throughout clock network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d buffers serve the double function o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plifying clk signals degraded by distributed interconnect imped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olating the local clock nets from the upstream load imped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96B3-4348-4918-AA09-D1BC8238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286000" y="4495680"/>
            <a:ext cx="5181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 Distribution Techniq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other approach for distributing clock signals utilizes a hierarchy of planar symmetric H-tree or X-tree structures to ensure zero clock skew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y maintaining identical distributed interconn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buffer paths from clock signal source to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ocked regi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ductor widths in H-tree structures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igned to progressively decrease as sign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pagates to lower levels of the hierarch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suring that reflections are minimized at branch poi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awbacks compared to standard clock tre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 capacitance and power dissipation is much greater since total wire length is much long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ficult to implement in high complexity integrated systems which are typically irregular in n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0E48-980B-49EE-B161-FF8D02297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7528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SM Interconnect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Power High Speed Circuit Desig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wer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3D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0E9-6942-40AE-B2D0-B5417B0D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shrinking feature size and larger chip die dimensions, sheer number of interconnects has increased exponenti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onnect capacitance often dominates total gate lo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refore, a large portion of the total transient power is dissipated by these on-chip li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ularly true for those long interconnects that distribute the clock sign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0760" indent="-198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at can dissipate 40–50% of total IC pow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ins achieved in performance with technology scaling are often accompanied by an increase in power diss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additional interconnect layers enhance circuit speed at the expense of higher power consumption due to the larger interconnect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3F3B-A038-4935-BF2E-FFE726ED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D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066680"/>
            <a:ext cx="7499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-D interconnects have been proposed as a way to address increasing line delay and capacitive crosstal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of a third dimension significantly alters distribution of the interconnect length in 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 the number of planes is increased, the length and number of the global (local) interconnects decrease (increas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9458-30BB-43FD-9944-5B7201AD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819520" y="3322800"/>
            <a:ext cx="426708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D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possible to partition a 2-D IC into multiple subsections and stack these sections in the vertical dimen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es corner-to-corner interconnect length significant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ral global interconnects in the upper metallization levels can be transferred to local, smaller aspect ratio metal lay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duces the total number of metal levels within a 3-D circui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increase in the clock frequency is possible as the worst case data path delay can be reduc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suming a constant number of registers along a sequential data path and number of metal lay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ume less power as compared to 2-D ICs as a consequence of the reduced capacitive load of the global interconnect li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E015-DC08-44FB-922C-A481C5BF8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D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-D interconnect system requires inter-plane interconnects that connect signals between vertically stacked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-plane interconnects implemented as through silicon vias (TSV) or 3-D vias can produce the shortest path within a 3-D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 compared to wire bonding, peripheral vertical interconnects, and solder ball arra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ch work is needed to properly characterize and model the interplane TSV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mary technological innovation required to exploit benefits of 3-D integ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DCDE-9AD4-4109-85B2-C9271CB6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m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of properly designing interconnects in the DSM regime increases with each successive technology gene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oice between RC or RLC dependant on several facto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w power, high speed circuit techniques are essential to expand battery lifetime and maintain ambient thermal lev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re and driver sizing, as well as repeater insertion critic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ck and power distribution are important applications of the general interconnect design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ise and skew must be considered during desig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vel techniques such as 3D interconnects in interconnect design can help alleviate challenges in emerging 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longer line lengths, greater line impedances, increased signal dela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115-AF2E-4A5D-8BE8-453F58F14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B91-CE03-4D57-84A2-80D119B36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ly used RC interconnect models are not sufficiently accurate to properly capture signal propagation in lines with fast transition ti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ing inductance (L) in the RC model has become a necessary modif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LC models are therefore becoming increasingly common at the expense of greater computational co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ther to include inductance in the interconnect model at midrange frequencies (~ 1 - 3 GHz) depends on several fa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the length of the line, cross-sectional area of the line, et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 certain conditions, ignoring line inductance may lead to high area and power inefficient circu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694-3854-4757-B8A2-664FDBAD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addition to interconnects among the various on-chip devices, the clock and power distribution networks require significant metal resour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th must span the entire ch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urately modeling the clock, power, and signal nets is a difficult tas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ly complex struc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mally allocating metal to properly design these networks presents an even greater challe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cause of complexity in developing interconnect mod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5A88-0D34-4E35-A7FE-C551EA4E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SM Interconnect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Power High Speed Circuit Desig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wer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 Distribution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D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7A23-F3CD-4DAC-B7F2-0571237A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SM Interconnect Desig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aling of the lateral dimensions in planar devices, such as MOS transistors, has produced improvements in de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consumption and signal propagation delays of long (global) resistive lines hav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urate on-chip interconnect models are requir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determine the signal characteristics and design requirements of high speed DSM interconne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CDA3-4727-452D-9E83-F60693A2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SM Interconnect Desig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95280" y="1294920"/>
            <a:ext cx="7639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local line can be modeled as a single lumped capaci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gnal propagation delay is negligible compared to gate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er lines must include resistive eff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interconnect models often divide the line into sections - distributed impedan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572760" indent="-26532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 or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72760" indent="-26532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ccuracy depends on no. of se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D95-CAA2-435B-A093-270EB693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rcRect l="53429" t="35626" r="0" b="41332"/>
          <a:stretch/>
        </p:blipFill>
        <p:spPr>
          <a:xfrm>
            <a:off x="3962520" y="3429000"/>
            <a:ext cx="259056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rcRect l="53429" t="0" r="0" b="79051"/>
          <a:stretch/>
        </p:blipFill>
        <p:spPr>
          <a:xfrm>
            <a:off x="3962520" y="2133720"/>
            <a:ext cx="259056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rcRect l="0" t="0" r="59887" b="7042"/>
          <a:stretch/>
        </p:blipFill>
        <p:spPr>
          <a:xfrm>
            <a:off x="5867280" y="5029200"/>
            <a:ext cx="2971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</cp:lastModifiedBy>
  <dcterms:modified xsi:type="dcterms:W3CDTF">2008-05-22T19:42:15Z</dcterms:modified>
  <cp:revision>507</cp:revision>
  <dc:subject/>
  <dc:title>On Chip Communication Architectures</dc:title>
</cp:coreProperties>
</file>