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1B0D-E57C-45AA-84E2-9E5684B08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13CE-1C31-43A0-8326-29EFE1348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F59A-8C4C-4897-B144-495780ED2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E2F7-EF42-416F-9AAB-C3D060873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CB7AC-B5D9-4A79-B605-EF8B2413E9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61432-89A1-4BC5-8F96-AB7DF42742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722E9-BB7E-4438-AAF2-37931E6CF5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57B60-939D-4DA5-9055-B0922F34EA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47D11-524E-4563-B53D-09CAED9F7A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880C6-95F0-4AF9-A87D-02790DEEC8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575D6-CE02-4D6E-B5B5-B967FBC40D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084F-4CB5-43D9-A431-0F7AE4EFA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D1A2F-8F75-4D8A-9708-CC831EC5A1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1F3C3-35CD-4914-B6D6-6F9DD5CAD1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F5F1D-6A16-4888-88D2-9ED9D75635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8B6B5-3FC0-4283-A1D9-731C18DF26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753A3-03DB-4F88-B34F-3283D62C57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B6F73-55B3-4ACB-B0F6-F0C0F4D33C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EAD1A-CBFE-4974-A5F0-C0D9246DFE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AF4E2-C916-43FD-ADEA-457EB5F270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3CD8E-2E4C-4D5B-955A-745F33E778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7FC3F-1CC7-4283-B05F-A6858E404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D162-E9FE-4C35-86EB-E8E7A44F05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12B40-1E89-4F59-93DB-2435FE433B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EBECA-74B0-4CD7-B5E3-33FD2BAFA8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3CAC-9FAC-4E94-8046-F3DF7791E5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A87E5-2A71-4D3E-BDD6-BCF7192B84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C35F6-65D3-4D93-BF1D-429CDA2A2E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B46DD-8DCE-43A8-9DAD-3A044F63C6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2CFB2-9D71-4AC8-B2C3-09942F6FB5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CD066-EBFC-4255-90D8-900480E3FB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5F2414-8ECD-4350-A980-CC3D8A43FA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A9F893-D2E0-4E37-90CB-904690DCC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AC0C-8245-4AF3-B0C8-60D4B7D357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37E36-8C61-4914-A7CD-39B898A411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2D402-6411-4E31-9938-B22635D5ED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C5D23-A317-4FDB-AE98-7CE7DC3C0F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28215-0051-4D15-BD9E-CAC9F77423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72776-F30D-4176-9F7D-93E575A7FF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F95EE-9098-46B6-8E57-26393C2431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757F6-78B3-448D-AC7D-F31890EBB5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CFD4F2-269F-4F1F-ABE9-7BBF75825A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76617-19AD-49B7-A042-F782B7B64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EF23-8348-4321-8D6E-8CF5CF432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1A6C-FBB5-4CE4-905B-8A6B8EDFD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F3CA-1E8F-4605-B74F-7F99D3A29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B7A8-9CEC-429D-9CD2-ECE4F2355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F80F-9257-43DD-B276-701D76D80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8713-DD5E-495D-801E-ACE9085AF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ADD0-D660-4F60-9CCD-530ABA198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C118-E482-4CC9-B2EA-13C77EAA8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8C1-8F35-4F48-83EF-160290BB1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lides based on book chapter 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B74F-275D-405B-9679-6AE4A01B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Pipelin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7EF4-9DED-4647-8AA3-CD617373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696080" cy="3738600"/>
          </a:xfrm>
          <a:prstGeom prst="rect">
            <a:avLst/>
          </a:prstGeom>
          <a:ln w="0">
            <a:noFill/>
          </a:ln>
        </p:spPr>
      </p:pic>
      <p:sp>
        <p:nvSpPr>
          <p:cNvPr id="239" name="Line 4"/>
          <p:cNvSpPr/>
          <p:nvPr/>
        </p:nvSpPr>
        <p:spPr>
          <a:xfrm>
            <a:off x="3276720" y="2590920"/>
            <a:ext cx="914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4495680" y="2575080"/>
            <a:ext cx="914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358640" y="563832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ransaction pipelining increases bus bandwid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Architect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57F9-A725-4DFC-BD87-184F7761E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143000" y="1173240"/>
            <a:ext cx="5257800" cy="53499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4643640" y="1082520"/>
            <a:ext cx="3267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entralized arbitration / 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895480" y="1096920"/>
            <a:ext cx="1752840" cy="54100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294600" y="1676520"/>
            <a:ext cx="2819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 unidirectional address bus (HAD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 unidirectional data buses (HWDATA, HR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 any time only 1 active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Arbit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15B9-DAFE-4398-AE28-8233B6C4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143000" y="1281240"/>
            <a:ext cx="7696080" cy="4433760"/>
          </a:xfrm>
          <a:prstGeom prst="rect">
            <a:avLst/>
          </a:prstGeom>
          <a:ln w="0">
            <a:noFill/>
          </a:ln>
        </p:spPr>
      </p:pic>
      <p:sp>
        <p:nvSpPr>
          <p:cNvPr id="253" name="Line 4"/>
          <p:cNvSpPr/>
          <p:nvPr/>
        </p:nvSpPr>
        <p:spPr>
          <a:xfrm flipH="1">
            <a:off x="2285640" y="2386080"/>
            <a:ext cx="1523880" cy="0"/>
          </a:xfrm>
          <a:prstGeom prst="line">
            <a:avLst/>
          </a:prstGeom>
          <a:ln w="316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667240" y="23605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HBREQ_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"/>
          <p:cNvSpPr/>
          <p:nvPr/>
        </p:nvSpPr>
        <p:spPr>
          <a:xfrm flipH="1">
            <a:off x="2653920" y="3745080"/>
            <a:ext cx="1143000" cy="0"/>
          </a:xfrm>
          <a:prstGeom prst="line">
            <a:avLst/>
          </a:prstGeom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2654280" y="2525400"/>
            <a:ext cx="0" cy="1219320"/>
          </a:xfrm>
          <a:prstGeom prst="line">
            <a:avLst/>
          </a:prstGeom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 flipH="1">
            <a:off x="2273400" y="2525760"/>
            <a:ext cx="380880" cy="0"/>
          </a:xfrm>
          <a:prstGeom prst="line">
            <a:avLst/>
          </a:prstGeom>
          <a:ln w="316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616480" y="37195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HBREQ_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2488680" y="5154480"/>
            <a:ext cx="1295640" cy="0"/>
          </a:xfrm>
          <a:prstGeom prst="line">
            <a:avLst/>
          </a:prstGeom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 flipV="1">
            <a:off x="2489040" y="2715840"/>
            <a:ext cx="0" cy="2438280"/>
          </a:xfrm>
          <a:prstGeom prst="line">
            <a:avLst/>
          </a:prstGeom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2"/>
          <p:cNvSpPr/>
          <p:nvPr/>
        </p:nvSpPr>
        <p:spPr>
          <a:xfrm flipH="1">
            <a:off x="2260080" y="2716200"/>
            <a:ext cx="228600" cy="0"/>
          </a:xfrm>
          <a:prstGeom prst="line">
            <a:avLst/>
          </a:prstGeom>
          <a:ln w="316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2667240" y="51292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HBREQ_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1333080" y="2230560"/>
            <a:ext cx="84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b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34960" y="586692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rbitration protocol is specified, but not the arbitration polic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st of Arbitration in AH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7653-3708-46B6-A114-E194B1E20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 flipH="1">
            <a:off x="2665440" y="1509840"/>
            <a:ext cx="380880" cy="761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041480" y="2286000"/>
            <a:ext cx="7931160" cy="32767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246480" y="2465280"/>
            <a:ext cx="1554120" cy="838440"/>
          </a:xfrm>
          <a:prstGeom prst="rect">
            <a:avLst/>
          </a:prstGeom>
          <a:solidFill>
            <a:srgbClr val="ffcc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969280" y="1828800"/>
            <a:ext cx="20962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me for arbi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14600" y="2465280"/>
            <a:ext cx="749160" cy="838440"/>
          </a:xfrm>
          <a:prstGeom prst="rect">
            <a:avLst/>
          </a:prstGeom>
          <a:solidFill>
            <a:srgbClr val="8dc765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 flipH="1">
            <a:off x="5256360" y="1662120"/>
            <a:ext cx="838080" cy="685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0"/>
          <p:cNvSpPr/>
          <p:nvPr/>
        </p:nvSpPr>
        <p:spPr>
          <a:xfrm>
            <a:off x="3046320" y="1509840"/>
            <a:ext cx="2895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6087960" y="137160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ime for handsh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754520" y="2438280"/>
            <a:ext cx="800280" cy="838440"/>
          </a:xfrm>
          <a:prstGeom prst="rect">
            <a:avLst/>
          </a:prstGeom>
          <a:solidFill>
            <a:srgbClr val="8dc765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Pipelined Burst Transf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81D3-B345-457F-989F-F3B44301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645320" cy="3989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434960" y="586692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ursts cut down on arbitration, handshaking time, improving performa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Burst Typ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1E98-F9EB-4F5B-998B-5619AD8FB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7010640" cy="35701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4"/>
          <p:cNvSpPr/>
          <p:nvPr/>
        </p:nvSpPr>
        <p:spPr>
          <a:xfrm>
            <a:off x="1523880" y="2666880"/>
            <a:ext cx="304920" cy="2133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7120 h 2133720"/>
              <a:gd name="textAreaBottom" fmla="*/ 204660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5"/>
                  <a:pt x="10800" y="2829"/>
                </a:cubicBezTo>
                <a:lnTo>
                  <a:pt x="10800" y="7971"/>
                </a:lnTo>
                <a:cubicBezTo>
                  <a:pt x="10800" y="9386"/>
                  <a:pt x="5400" y="10800"/>
                  <a:pt x="0" y="10800"/>
                </a:cubicBezTo>
                <a:cubicBezTo>
                  <a:pt x="5400" y="10800"/>
                  <a:pt x="10800" y="12215"/>
                  <a:pt x="10800" y="13629"/>
                </a:cubicBezTo>
                <a:lnTo>
                  <a:pt x="10800" y="18771"/>
                </a:lnTo>
                <a:cubicBezTo>
                  <a:pt x="10800" y="2018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 rot="16200000">
            <a:off x="-39960" y="354420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xed length bur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71600" y="4952880"/>
            <a:ext cx="7499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4440" indent="-189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remental bursts access sequential loc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 0x64, 0x68, 0x6C, 0x70 for INCR4, transferring 4 byte da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rapping bursts “wrap around” address if starting address is not aligned to total no. of bytes in transf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  0x64, 0x68, 0x6C, 0x60 for WRAP4, transferring 4 byte da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Control Sign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D1F2-63C0-458B-BCCF-2B9922DE4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990720" y="121932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HWRITE 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write transfer when high, read transfer when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HSIZE[2:0] indicates the size of the trans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6226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Control Sign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092D-78FB-433F-9B7C-2D2B6E3EE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43000" y="144792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HPROT[3:0], provide additional information about a bu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6782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Split Transf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583F-460E-4317-8637-218CA80C2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295280" y="1235160"/>
            <a:ext cx="7391520" cy="4592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434960" y="586692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proves bus utiliz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y cause deadlocks if not carefully implemen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Bus Matrix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434960" y="1447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addition to shared bus and hierarchical bus, AHB can be implemented as a bus matr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1824-8BD9-47A2-8E14-480C0828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700884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 Standard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-chip standard bus architect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BA 2.0/3.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M CoreConn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Microelectronics’ ST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nics Smart Interconn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ket based on-chip bus interface stand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P-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4DAE-2B20-43DF-A2FB-33B5846D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PB State Diagra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785D-2624-4BE6-8F1C-8A43C7A37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2813040" y="1295280"/>
            <a:ext cx="3706920" cy="4419720"/>
          </a:xfrm>
          <a:prstGeom prst="rect">
            <a:avLst/>
          </a:prstGeom>
          <a:ln w="0">
            <a:noFill/>
          </a:ln>
        </p:spPr>
      </p:pic>
      <p:sp>
        <p:nvSpPr>
          <p:cNvPr id="313" name="Line 5"/>
          <p:cNvSpPr/>
          <p:nvPr/>
        </p:nvSpPr>
        <p:spPr>
          <a:xfrm flipV="1">
            <a:off x="2203560" y="2742840"/>
            <a:ext cx="20574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 flipH="1">
            <a:off x="5175360" y="34797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 flipH="1">
            <a:off x="5175360" y="46864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069200" y="358128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HB w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ive a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6474600" y="3276720"/>
            <a:ext cx="258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ycle penalt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B peripher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6473520" y="448308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occur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594324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 (multi-cycle) bursts, pipelined transf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-APB Brid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6E40-4533-4BD6-A16B-CA97B460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1028880" y="1422360"/>
            <a:ext cx="7162560" cy="427680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4"/>
          <p:cNvSpPr/>
          <p:nvPr/>
        </p:nvSpPr>
        <p:spPr>
          <a:xfrm>
            <a:off x="952560" y="2413080"/>
            <a:ext cx="253800" cy="2971800"/>
          </a:xfrm>
          <a:custGeom>
            <a:avLst/>
            <a:gdLst>
              <a:gd name="textAreaLeft" fmla="*/ 162360 w 253800"/>
              <a:gd name="textAreaRight" fmla="*/ 254160 w 2538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 rot="16200000">
            <a:off x="-212400" y="360432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HB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872000" y="56610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gh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5238360" y="568476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w power (and perform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MBA 3.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1896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es AXI high performance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pport for separate read address, write address, read data, write data, write response chann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ut of order (OO) transaction comple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xed mode burst suppo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ful for I/O periphera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vanced system cache suppo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cify if transaction is cacheable/bufferabl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cify attributes such as write-back/write-throug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hanced protection suppo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cure/non-secure transaction specifi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clusive access (for semaphore operation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gister slice support for high frequency oper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A8B-D154-4DDF-A008-AF1F7A4C0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vs. AXI Burs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2193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HB Bur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ddress and Data are locked together (single pipeline stage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READY controls intervals of address and da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4D55-C540-46D8-A706-C27DAA38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7138800" cy="1447560"/>
          </a:xfrm>
          <a:prstGeom prst="rect">
            <a:avLst/>
          </a:prstGeom>
          <a:ln w="0">
            <a:noFill/>
          </a:ln>
        </p:spPr>
      </p:pic>
      <p:sp>
        <p:nvSpPr>
          <p:cNvPr id="337" name="Content Placeholder 2"/>
          <p:cNvSpPr/>
          <p:nvPr/>
        </p:nvSpPr>
        <p:spPr>
          <a:xfrm>
            <a:off x="1432080" y="3962520"/>
            <a:ext cx="7499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XI Bu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One Address for entire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67820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vs. AXI Burs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64A-1CCA-4B94-BB96-805BB3ED8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6667560" cy="1904760"/>
          </a:xfrm>
          <a:prstGeom prst="rect">
            <a:avLst/>
          </a:prstGeom>
          <a:ln w="0">
            <a:noFill/>
          </a:ln>
        </p:spPr>
      </p:pic>
      <p:sp>
        <p:nvSpPr>
          <p:cNvPr id="343" name="Content Placeholder 2"/>
          <p:cNvSpPr/>
          <p:nvPr/>
        </p:nvSpPr>
        <p:spPr>
          <a:xfrm>
            <a:off x="1432080" y="1447920"/>
            <a:ext cx="7499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XI Bu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Simultaneous read, writ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Better bus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AXI Out of Order Comple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2193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th AHB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one slave is very slow, all data is held u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LIT transactions provide very limited improveme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723C-779C-434A-A19C-6A0D5F56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tent Placeholder 2"/>
          <p:cNvSpPr/>
          <p:nvPr/>
        </p:nvSpPr>
        <p:spPr>
          <a:xfrm>
            <a:off x="1432080" y="3962520"/>
            <a:ext cx="7499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th AXI Bu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Multiple outstanding addresses, out of order (OO) completion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Fast slaves may return data ahead of slow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629400" cy="1422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60735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Register Slices for Max Frequenc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9CD1-9C93-4B0F-933F-9FC8CB5AA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1219320" y="1379520"/>
            <a:ext cx="77626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gister slices can be applied across any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lows maximu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requency of oper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y matching channe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atency to channel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lows system topology to be matched to performan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601600" y="3978360"/>
            <a:ext cx="78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5638680" y="260676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6"/>
          <p:cNvSpPr/>
          <p:nvPr/>
        </p:nvSpPr>
        <p:spPr>
          <a:xfrm>
            <a:off x="6858000" y="3521160"/>
            <a:ext cx="357120" cy="395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7"/>
          <p:cNvSpPr/>
          <p:nvPr/>
        </p:nvSpPr>
        <p:spPr>
          <a:xfrm flipH="1">
            <a:off x="7467480" y="408456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638680" y="283536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638680" y="306396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ST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5638680" y="329256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5638680" y="355140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2"/>
          <p:cNvSpPr/>
          <p:nvPr/>
        </p:nvSpPr>
        <p:spPr>
          <a:xfrm>
            <a:off x="6477120" y="26827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6477120" y="2911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4"/>
          <p:cNvSpPr/>
          <p:nvPr/>
        </p:nvSpPr>
        <p:spPr>
          <a:xfrm>
            <a:off x="6477120" y="31399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5"/>
          <p:cNvSpPr/>
          <p:nvPr/>
        </p:nvSpPr>
        <p:spPr>
          <a:xfrm>
            <a:off x="6477120" y="3368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>
            <a:off x="6477120" y="362736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8153280" y="2682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8153280" y="29113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9"/>
          <p:cNvSpPr/>
          <p:nvPr/>
        </p:nvSpPr>
        <p:spPr>
          <a:xfrm>
            <a:off x="8153280" y="31399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0"/>
          <p:cNvSpPr/>
          <p:nvPr/>
        </p:nvSpPr>
        <p:spPr>
          <a:xfrm>
            <a:off x="8153280" y="3368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1"/>
          <p:cNvSpPr/>
          <p:nvPr/>
        </p:nvSpPr>
        <p:spPr>
          <a:xfrm>
            <a:off x="8153280" y="36734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7543800" y="2454120"/>
            <a:ext cx="609480" cy="12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 flipV="1">
            <a:off x="7772400" y="3597120"/>
            <a:ext cx="7632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 flipH="1" flipV="1">
            <a:off x="7848360" y="359712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7162920" y="362736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>
            <a:off x="6781680" y="33685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7"/>
          <p:cNvSpPr/>
          <p:nvPr/>
        </p:nvSpPr>
        <p:spPr>
          <a:xfrm>
            <a:off x="6781680" y="31399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8"/>
          <p:cNvSpPr/>
          <p:nvPr/>
        </p:nvSpPr>
        <p:spPr>
          <a:xfrm>
            <a:off x="6781680" y="29113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6781680" y="26827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6477120" y="40845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1"/>
          <p:cNvSpPr/>
          <p:nvPr/>
        </p:nvSpPr>
        <p:spPr>
          <a:xfrm flipV="1">
            <a:off x="6934320" y="370368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2"/>
          <p:cNvSpPr/>
          <p:nvPr/>
        </p:nvSpPr>
        <p:spPr>
          <a:xfrm flipV="1">
            <a:off x="7162920" y="370368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7162920" y="408456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mmary: AHB vs. AX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EAE1-75F2-4AD0-9665-5A83A7A2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76520" y="1292400"/>
            <a:ext cx="651348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B000-B376-4DFE-9D9E-370868F7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 Bus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MBA 2.0, 3.0 (AR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CoreConnect (IB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nics Smart Interconnect (S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Bus (STMicroelectr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shbone (Opencor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valon (Alter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I Bus (OMI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BLE (Univ. of Manchest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reFrame (PalmChip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BM CoreConne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0A8D-5710-42F5-A710-B7A3BA91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448400" cy="40384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"/>
          <p:cNvSpPr/>
          <p:nvPr/>
        </p:nvSpPr>
        <p:spPr>
          <a:xfrm>
            <a:off x="1523880" y="5257800"/>
            <a:ext cx="281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Pipel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urs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pli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ultiple m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505320" y="5273640"/>
            <a:ext cx="312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ow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Burs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ultiple M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5638680" y="5257800"/>
            <a:ext cx="318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Low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1 r/w = 2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 algn="just">
              <a:lnSpc>
                <a:spcPct val="100000"/>
              </a:lnSpc>
              <a:buClr>
                <a:srgbClr val="475a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Ring type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759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y Standard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8960" y="1050840"/>
            <a:ext cx="7715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 components (IPs) have an interface to the outside world consisting of a set of pi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sponsible for sending/receiving addresses, data, contro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and functionality of pins must adhere to a specific interface standar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ortant for seamless integration of SoC IPs – helps avoid integration mismat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.g. 1 - connecting IP with 32 data pins to a 30 bit data bu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.g. 2 - connecting IP supporting data bursts to a bus with no burst suppor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smatches require development of “logic wrappers” at IP interfac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ensure correct data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consuming to create, reduce performance, take up are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CF32-49B1-4215-9B40-58DE76AAE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cessor Local Bus (PLB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 performance synchronous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red address, separate read and write data bu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 for 32-bit address, 16, 32, 64, and 128-bit data bus width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ynamic bus sizing—byte, half-word, word, and double-word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p to 16 masters and any number of slav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–OR implementation stru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ariable or fixed length (16-64 byte) burst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ipelined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LIT transfer sup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lapped read and write transfers (up to 2 transfers per cyc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ralized arbi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cked transfer support for atomic acces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49BF-BBB4-4772-842D-A1F537C95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B Transfer Pha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AD1-DCA4-45C6-82CC-E8E3F350F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050840" y="2514600"/>
            <a:ext cx="7934400" cy="1838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218960" y="480024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dress and data phases are decoupl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verlapped PLB Transf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3C5C-EC1F-4CBD-A7F1-F33CEEE5B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rcRect l="0" t="10578" r="0" b="0"/>
          <a:stretch/>
        </p:blipFill>
        <p:spPr>
          <a:xfrm>
            <a:off x="1676520" y="1143000"/>
            <a:ext cx="6553080" cy="4672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218960" y="5866920"/>
            <a:ext cx="7499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LB allows address and data buses to have different masters at the same ti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B Arbi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34960" y="4114440"/>
            <a:ext cx="7499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 Control Un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ach master drives a 2-bit signal that encodes 4 priority leve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 case of a tie, arbiter uses static or RR schem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e-empts long burst mast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sures high priority requests served with low latenc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C9DB-DD81-47A7-8AB4-60F692C23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51051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-chip Peripheral Bus (OPB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218960" y="1294920"/>
            <a:ext cx="7715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ynchronous bus to connect low performance peripherals and reduce capacitive loading on PL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red address bus, multiple data bu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p to a 64-bit address bus wid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2- or 64-bit read, write data bus width sup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 for multiple mas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 parking (or locking) for reduced transfer laten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quential address transfers (burst mod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ynamic bus sizing—byte, half-word, word, double-word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X-based (or AND–OR) structural implementat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le cycle data transfer between OPB masters and slav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out capability to guarantee low latency for high priority x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728E-6D9C-46E0-B174-63FCE6647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evice Control Register (DCR) Bus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speed synchronous bus, used for on-chip device configuration purpo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ant to off-load the PLB from lower performance status and control read and write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-bit, up to 32-bit address b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2-bit read and write data bu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-cycle minimum read or write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lave bus timeout inhibit capabi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-master arbit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ivileged and non-privileged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isy-chain (serial) or distributed-OR (parallel) bus topolog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1349-6F5A-43E2-84CA-CA46176BB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7D4D-A021-4533-972C-AD55FC470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 Bus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MBA 2.0, 3.0 (AR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reConnect (IB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Sonics Smart Interconnect (S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Bus (STMicroelectr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shbone (Opencor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valon (Alter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I Bus (OMI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BLE (Univ. of Manchest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reFrame (PalmChip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nics Smart Interconne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sts of 3 synchronous bus-based interconnect specif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nicsM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 performance interconnect fabr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nicsL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 performance interconnect fabric, but with less advanced fea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ynapse 322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pheral interconnect designed to connect slower peripheral compon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CD80-E6EF-49B2-982A-5EE1E5D64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nicsM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 performance synchronous bus fabr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ipelined, non-blocking, multi-threaded communication sup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lit/outstanding transactions for high perform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figurable data bus width: 32, 64, or 128 bi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ocket-based connection support, using native OCP 2.0 interfa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andwidth and latency-based arbitration schemes to obtain desired quality of service (QoS) for threa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ister points (RPs) for pipelining long interconnects and providing timing isol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tection mode sup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anced error handling sup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e-grained power management sup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1D2-9029-4E2E-8E58-60B441821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nicsMX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920"/>
            <a:ext cx="749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nicsMX supports full crossbar, partial crossbar, and shared bus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9555-1A02-4E8F-80C2-DDA3E9521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5253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759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y Standard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264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face standards define a specific data transf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cide number and functionality of pins at IP interfa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ke it easy to connect diverse IPs quick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ategories of standards for SoC communic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andard bus architectur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interface between IPs and bus architectur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(at least some) specifics of bus architecture that implements data transfer protoc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cket based bus interface standa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interface between IPs and bus 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eedom w.r.t choice and implementation of bus 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ally, designers want one standard to interconnect all I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reality, several competing standards have emerg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50A7-71C5-43B2-9908-07A0F363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nicsMX Arbit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ighted Q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ailable bandwidth distributed among masters based on ratio of bandwidth weights configured for each mas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ority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s bandwidth-based scheme abov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-2 threads are assigned a static priority (guaranteed servic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ther threads assigned bandwidth weights (best effort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led Q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ynamically switches between three arbitration schemes based on traffic characteris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ic priority (guaranteed servic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andwidth weighted scheme (best-effort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uaranteed Bandwidth allocation (guaranteed servic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01FD-D0C8-4EF3-BB7D-9CB8A20DD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nicsL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5B42-1751-4CB5-9715-11AAEB264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rcRect l="2272" t="16878" r="2627" b="6386"/>
          <a:stretch/>
        </p:blipFill>
        <p:spPr>
          <a:xfrm>
            <a:off x="1371600" y="3825720"/>
            <a:ext cx="724392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0" name="Content Placeholder 2"/>
          <p:cNvSpPr/>
          <p:nvPr/>
        </p:nvSpPr>
        <p:spPr>
          <a:xfrm>
            <a:off x="1434960" y="1447920"/>
            <a:ext cx="7499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 synchronous bus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subset of SonicsMX featur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pipelined, multithreaded, non-blocking communicat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weighted and priority QoS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SPLIT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ynapse 322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ynchronous bus targeted at low bandwidth, physically dispersed peripheral slave c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85C2-F98D-4016-8CEF-62DB2DEC0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4864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ynapse 3220 Fea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 to 4 masters and 63 sla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 to 24-bit configurable address 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figurable data bus widths—8, 16, 32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ir arbitration scheme, with high priority allowed for a single initiator thr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management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lusive (semaphore) access sup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 and recovery—watchdog timer to identify unresponsive peripher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ection mode sup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8AC4-40EA-4D58-B546-B1EAF694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D3B9-535C-4671-8F5C-06D4946AA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 Bus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MBA 2.0, 3.0 (AR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reConnect (IB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nics Smart Interconnect (S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STBus (STMicroelectr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shbone (Opencor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valon (Alter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I Bus (OMI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BLE (Univ. of Manchest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reFrame (PalmChip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B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sts of 3 synchronous bus-based interconnect specif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st protocol meant for peripheral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complex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, SPLIT transa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st advanced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O transactions, transaction labeling/hi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525-262E-4923-8314-18FB6E9B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handshake mech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2-bit address 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bus sizes of 8, 16, 32, 64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ilar to IBM CoreConnect DCR 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AAF2-5A2C-4BE9-9034-6B047FFC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s all Type 1 function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trans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LIT transa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bus sizes up to 256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und op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ADMODWRI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turns read data and locks slave till same master writes to lo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changes data value between master and slav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USH/PUR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sure coherence between local and main memor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served for user defined operation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6738-2014-4BE1-8D08-AB45A398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142640" y="1294920"/>
            <a:ext cx="7791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s all Type 2 function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O transaction comple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only single response/ACK for multiple data transfers (burst mod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0BB7-BDF8-44C5-8DE0-05E924F3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B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6320" y="144756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types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X-based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red, partial or full crossbar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BB17-8629-4F7C-AA02-A28009191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4419720" y="290520"/>
            <a:ext cx="4495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99DB-17AE-40B0-B8BA-19C8C25A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 Bus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MBA 2.0, 3.0 (AR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reConnect (IB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nics Smart Interconnect (S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Bus (STMicroelectr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shbone (Opencor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valon (Alter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I Bus (OMI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BLE (Univ. of Manchest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reFrame (PalmChip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091280" y="2468520"/>
            <a:ext cx="17701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6541920" y="1477800"/>
            <a:ext cx="381240" cy="1722600"/>
          </a:xfrm>
          <a:custGeom>
            <a:avLst/>
            <a:gdLst>
              <a:gd name="textAreaLeft" fmla="*/ 0 w 381240"/>
              <a:gd name="textAreaRight" fmla="*/ 137520 w 381240"/>
              <a:gd name="textAreaTop" fmla="*/ 51840 h 1722600"/>
              <a:gd name="textAreaBottom" fmla="*/ 1670760 h 172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2"/>
                  <a:pt x="10800" y="2084"/>
                </a:cubicBezTo>
                <a:lnTo>
                  <a:pt x="10800" y="8716"/>
                </a:lnTo>
                <a:cubicBezTo>
                  <a:pt x="10800" y="9758"/>
                  <a:pt x="16200" y="10800"/>
                  <a:pt x="21600" y="10800"/>
                </a:cubicBezTo>
                <a:cubicBezTo>
                  <a:pt x="16200" y="10800"/>
                  <a:pt x="10800" y="11842"/>
                  <a:pt x="10800" y="12884"/>
                </a:cubicBezTo>
                <a:lnTo>
                  <a:pt x="10800" y="19516"/>
                </a:lnTo>
                <a:cubicBezTo>
                  <a:pt x="10800" y="20558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Bus Arbit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ic prio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n-preemptiv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grammable prio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tency ba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master has register with max. allowed latency (in clock cycl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value is 0, master must be granted bus access as soon as it requests i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master also has counter loaded with max. latency value when master makes reque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ster counters are decremented at every subsequent 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biter grants access to master with lowest counter val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ase of a tie, static priority is us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3142-2DAA-42BB-B857-24872DCDC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Bus Arbit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dwidth ba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ilar to TDMA/RR sche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ybrid of latency based and programmable priority sche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normal mode, programmable priority scheme is us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sters have max. latency registers, counters (latency based schem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master also has an additional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latency-counter-enabl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this bit is set, and counter value is 0, master is in “panic state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one or more masters in panic state, programmable priority scheme is overridden, and panic state masters granted acces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 ba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-emptive static priority sche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500E-4738-47C2-9BAC-C5E9BF3D9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cket-based Interface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434960" y="1295280"/>
            <a:ext cx="7499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s the interface of compon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es not define bus architecture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ield IP designer from knowledge of interconnection system, and enable same IP to be ported across different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ires Adaptor components to interface with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E139-EF8D-4402-9307-0A0CD73A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2359080" y="3184560"/>
            <a:ext cx="54133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cket-based Interface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34960" y="1371240"/>
            <a:ext cx="7499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 be generic, comprehensive, and configur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capture basic functionality and advanced features of a wide array of bus architecture implemen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aptor (or translational) logic compon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st be created only once for each implementation (e.g. AMB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s area, performance penalties, more design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+ enhances reuse, speeds up design time across many desig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ly used socket-based interface stand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en Core Protocol (OCP) ver 2.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ost popular – used in Sonics Smart Interconnec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SIA Virtual Component Interface (VC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bset of OC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T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oprietar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B7F4-2B5D-430F-B37A-D751DCB84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CP 2.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447560" y="1447920"/>
            <a:ext cx="7499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-to-point synchronous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 architecture indepen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figurable data flow (address, data, control) signals for area-efficient imple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figurable sideband signals to support additional communication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transfer sup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rst transfer sup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O transaction completion sup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threa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718F-A2D2-406C-BB72-4E24E7C6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CP 2.0 Sign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asic sign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ple exten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 byte enables, data byte parity,  error correction codes, et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rst exten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  length, type (WRAP/INCR),  pack/unpack, ACK requirements et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g exten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sign IDs to transactions for reordering suppo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read exten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sign IDs to threads for multi-threading suppo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deband (option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 part of the dataflow pro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vey control and status information such as reset, interrupt, error, and core-specific fla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st (option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 support for scan, clock control, and IEEE 1149.1 (JTA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87E6-E631-4636-AF5F-0F88EA757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CP 2.0 Protocol Hierarch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66320" y="3733560"/>
            <a:ext cx="7867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ata flow </a:t>
            </a:r>
            <a:r>
              <a:rPr b="0" lang="en-US" sz="2200" spc="-1" strike="noStrike">
                <a:solidFill>
                  <a:srgbClr val="009999"/>
                </a:solidFill>
                <a:latin typeface="Gill Sans MT"/>
              </a:rPr>
              <a:t>signal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ombined into </a:t>
            </a:r>
            <a:r>
              <a:rPr b="0" lang="en-US" sz="2200" spc="-1" strike="noStrike">
                <a:solidFill>
                  <a:srgbClr val="0000cc"/>
                </a:solidFill>
                <a:latin typeface="Gill Sans MT"/>
              </a:rPr>
              <a:t>group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of request signals, response signals and data handshake sign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Gill Sans MT"/>
              </a:rPr>
              <a:t>Group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map one-on-one to their corresponding protocol </a:t>
            </a:r>
            <a:r>
              <a:rPr b="0" lang="en-US" sz="2200" spc="-1" strike="noStrike">
                <a:solidFill>
                  <a:srgbClr val="cc0099"/>
                </a:solidFill>
                <a:latin typeface="Gill Sans MT"/>
              </a:rPr>
              <a:t>phas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request, response, handshaking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fferent combinations of protocol </a:t>
            </a:r>
            <a:r>
              <a:rPr b="0" lang="en-US" sz="2200" spc="-1" strike="noStrike">
                <a:solidFill>
                  <a:srgbClr val="cc0099"/>
                </a:solidFill>
                <a:latin typeface="Gill Sans MT"/>
              </a:rPr>
              <a:t>phases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re used by different types of </a:t>
            </a:r>
            <a:r>
              <a:rPr b="0" lang="en-US" sz="2200" spc="-1" strike="noStrike">
                <a:solidFill>
                  <a:srgbClr val="2a6d7d"/>
                </a:solidFill>
                <a:latin typeface="Gill Sans MT"/>
              </a:rPr>
              <a:t>transfer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e.g. ‘single request/multiple data burst’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urst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transaction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are comprised of a set of </a:t>
            </a:r>
            <a:r>
              <a:rPr b="0" lang="en-US" sz="2200" spc="-1" strike="noStrike">
                <a:solidFill>
                  <a:srgbClr val="2a6d7d"/>
                </a:solidFill>
                <a:latin typeface="Gill Sans MT"/>
              </a:rPr>
              <a:t>transfer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linked together having a defined address sequence and no. of transf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F447-A7E6-4887-9C45-79F4BBA9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CP 2.0 Profi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P 2.0 specifies pre-defined configurations of interface called “profiles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sist of OCP interface signals, specific protocol features, and application guideli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sets of profiles are provi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files for new IP cores implementing native OCP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lock data flow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quential undefined length data flow (streaming acces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gister acces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files for designers of bridges between OCP &amp; other bus protoc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mple H-bu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-bus packet wri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-bus packet rea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AFC6-314C-497E-AA62-786178997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ample: SoC with Mixed Profi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EB86-FBEC-4875-B1FD-EA04AAA6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7459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mm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ndards important for seamless integration of SoC I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oid costly integration mismat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ategories of standards for SoC communic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andard bus architectur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interface between IPs and bus architectur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(at least some) specifics of bus architecture that implements data transfer protoc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 AMBA 2.0/3.0, Coreconnect, Sonics Smart Interconnect, STB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cket based bus interface standa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interface between IPs and bus 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 not define bus architecture implementation specif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OCP 2.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 Issue: Robust standards for DSM-aware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53E1-6594-4998-B790-2F13B09A5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142-CA60-4BC1-AD57-49C6D6203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ndard Bus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MBA 2.0, 3.0 (AR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reConnect (IB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nics Smart Interconnect (S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Bus (STMicroelectronic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shbone (Opencor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valon (Alter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I Bus (OMI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BLE (Univ. of Manchest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reFrame (PalmChip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MBA 2.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3F20-A905-46BB-9C2C-473F4D9A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7724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Basic Transf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5A3F-FF6A-4725-A423-C919E35C3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rcRect l="790" t="0" r="4015" b="0"/>
          <a:stretch/>
        </p:blipFill>
        <p:spPr>
          <a:xfrm>
            <a:off x="2209680" y="1295280"/>
            <a:ext cx="5045040" cy="4343400"/>
          </a:xfrm>
          <a:prstGeom prst="rect">
            <a:avLst/>
          </a:prstGeom>
          <a:ln w="0">
            <a:noFill/>
          </a:ln>
        </p:spPr>
      </p:pic>
      <p:sp>
        <p:nvSpPr>
          <p:cNvPr id="225" name="Oval 5"/>
          <p:cNvSpPr/>
          <p:nvPr/>
        </p:nvSpPr>
        <p:spPr>
          <a:xfrm>
            <a:off x="3581280" y="1219320"/>
            <a:ext cx="144792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5029200" y="1219320"/>
            <a:ext cx="144792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34960" y="586692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plit ownership of Address and Data b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HB Basic Transf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2679-3ACF-4E66-A016-7BC1DB89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96440" cy="4305240"/>
          </a:xfrm>
          <a:prstGeom prst="rect">
            <a:avLst/>
          </a:prstGeom>
          <a:ln w="0">
            <a:noFill/>
          </a:ln>
        </p:spPr>
      </p:pic>
      <p:sp>
        <p:nvSpPr>
          <p:cNvPr id="232" name="Oval 5"/>
          <p:cNvSpPr/>
          <p:nvPr/>
        </p:nvSpPr>
        <p:spPr>
          <a:xfrm>
            <a:off x="2590920" y="1447920"/>
            <a:ext cx="1447560" cy="6858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3962520" y="1463760"/>
            <a:ext cx="4038480" cy="6858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34960" y="5867280"/>
            <a:ext cx="7499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ata transfer with slave wait stat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</cp:lastModifiedBy>
  <dcterms:modified xsi:type="dcterms:W3CDTF">2008-04-10T07:04:36Z</dcterms:modified>
  <cp:revision>145</cp:revision>
  <dc:subject/>
  <dc:title>On Chip Communication Architectures</dc:title>
</cp:coreProperties>
</file>