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14BD-4E90-4734-9132-0E55B97EB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B4F3-FFE3-4157-98E2-6B0B5BBE3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25DC6-D8DD-4B1B-B254-81A2A911F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FC71-C64B-4236-97BA-78D4D700A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6DAD9-A9A4-4032-954B-42D17A6726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143FE-0DA1-4156-B060-4DD4BB5592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7958B-21B9-4639-BEB1-A8B7CD7F29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F6342-687C-4A1F-B19A-5555D935DA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3F7B4-F1D7-4AE2-A252-2AB1BDDF95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BFD03-15F9-4CED-B70B-C277AD5BE5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66A29-5411-46D4-A99E-3324E68356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5651F-A6FB-48BB-B9FB-DDB633565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E4F55-23DA-4315-A34E-7003F19C93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7321D-8FE3-489F-95FE-6FA50CCF11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3E2C7-8588-4904-AC65-6084059B2D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79A8C-4516-408F-B4F4-15B39DD4B7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050B5-1AFC-4A91-9C9A-7E12E152433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858C7-BD6C-40B7-A0D9-BB2E8FB412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F76DA-4C05-44AA-BAE3-08D44CC8C4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C3574-B2F5-4362-800B-83DEF25DF0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DB7E4-649E-4823-B7B3-2E2763A4AD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DA36A-9E25-46B7-A428-B81AB6FBD6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70815-CCFD-4594-904D-100615F78A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0FC50-6DF3-4B17-B22D-88FCD47994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1958F-9677-479C-9D85-ECCBCCA9B1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4E3E7-C079-4576-B26A-DE19AB5941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62748-B7CD-4A98-95C3-0EB51C2183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31D48-88AB-4A5D-A3EC-6407995397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5C960-2965-4FFF-99F2-4201010FA57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F0B1F-10AB-4BB4-A023-F2D7FAEBA5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A156AB-38C2-4967-B3D1-1F0184924F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437DF2-F963-4BF5-8E92-7B33C549D60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5599C7-7779-4E23-B976-D88329B3B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5EAC0-A093-4632-8101-44C49E8349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DDCD7C-200B-415E-B99A-EA31506180F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423C2E-92A7-4645-A263-64D9332521A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343C18-6FF3-454B-855B-B35FC8660E2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A0F863-C708-41A1-BAB3-F2F7FC10722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24DAEB-577F-4E82-B851-4AD12E6E12D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060016-098C-418B-9D5B-531AEB8910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DA8360-0AEF-4205-A3A1-10C04DC4015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981DEC-47C9-4823-A32A-053BDE84DFC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A162A8-C0E6-4DCD-8D91-892B1EF15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F1E09-D3CA-4CC1-B8A9-1E3FC2295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FCCE7-7652-4E53-B2C4-470CDD9A7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005B5-2748-42E9-8FFB-6B6A7BF4B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8E5C-F7A8-4402-8A43-B99510886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48358-42C5-4D38-9849-A199E34AF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D495-80CC-49AD-8C08-6FF760A93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0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5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E622-91F5-4010-B6B3-3443138C2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7B20-E0C4-4067-84EB-BEC1B1E98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48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F7FC-2947-476D-BB95-7DB553E76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On-Chip Communication Architectur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0e04"/>
                </a:solidFill>
                <a:latin typeface="Gill Sans MT"/>
              </a:rPr>
              <a:t>Custom Bus-Based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0e04"/>
                </a:solidFill>
                <a:latin typeface="Gill Sans MT"/>
              </a:rPr>
              <a:t>On-Chip Communicatio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0e04"/>
                </a:solidFill>
                <a:latin typeface="Gill Sans MT"/>
              </a:rPr>
              <a:t>Architecture Desig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ICS 29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Sudeep Pasricha and Nikil Du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Figures book chapter 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6000840" y="1828800"/>
            <a:ext cx="3143160" cy="3143160"/>
          </a:xfrm>
          <a:prstGeom prst="rect">
            <a:avLst/>
          </a:prstGeom>
          <a:ln w="0">
            <a:noFill/>
          </a:ln>
        </p:spPr>
      </p:pic>
      <p:sp>
        <p:nvSpPr>
          <p:cNvPr id="195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81B4-168F-4E51-B793-6BAFD203F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251E-A09A-4DEE-BD57-062449233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C:\Documents and Settings\sudeep\Desktop\book images\images011.png"/>
          <p:cNvPicPr/>
          <p:nvPr/>
        </p:nvPicPr>
        <p:blipFill>
          <a:blip r:embed="rId1"/>
          <a:stretch/>
        </p:blipFill>
        <p:spPr>
          <a:xfrm>
            <a:off x="2371680" y="2357280"/>
            <a:ext cx="440064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C2D1-AE60-451C-90B5-B5F50DD4B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C:\Documents and Settings\sudeep\Desktop\book images\images012.png"/>
          <p:cNvPicPr/>
          <p:nvPr/>
        </p:nvPicPr>
        <p:blipFill>
          <a:blip r:embed="rId1"/>
          <a:stretch/>
        </p:blipFill>
        <p:spPr>
          <a:xfrm>
            <a:off x="2314440" y="2300400"/>
            <a:ext cx="451512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89EB-4CE6-4875-8E07-F73C35B48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C:\Documents and Settings\sudeep\Desktop\book images\images013.png"/>
          <p:cNvPicPr/>
          <p:nvPr/>
        </p:nvPicPr>
        <p:blipFill>
          <a:blip r:embed="rId1"/>
          <a:stretch/>
        </p:blipFill>
        <p:spPr>
          <a:xfrm>
            <a:off x="3081240" y="1843200"/>
            <a:ext cx="298152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8FE2-7D70-4680-B807-02D1DA558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C:\Documents and Settings\sudeep\Desktop\book images\images014.png"/>
          <p:cNvPicPr/>
          <p:nvPr/>
        </p:nvPicPr>
        <p:blipFill>
          <a:blip r:embed="rId1"/>
          <a:stretch/>
        </p:blipFill>
        <p:spPr>
          <a:xfrm>
            <a:off x="2505240" y="2023920"/>
            <a:ext cx="413352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C68A-E8EF-4F7D-83E2-D75508A1F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C:\Documents and Settings\sudeep\Desktop\book images\images015.png"/>
          <p:cNvPicPr/>
          <p:nvPr/>
        </p:nvPicPr>
        <p:blipFill>
          <a:blip r:embed="rId1"/>
          <a:stretch/>
        </p:blipFill>
        <p:spPr>
          <a:xfrm>
            <a:off x="2414520" y="2014560"/>
            <a:ext cx="43149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8744-F0C5-4062-BD28-6DB706AD3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C:\Documents and Settings\sudeep\Desktop\book images\images016.png"/>
          <p:cNvPicPr/>
          <p:nvPr/>
        </p:nvPicPr>
        <p:blipFill>
          <a:blip r:embed="rId1"/>
          <a:stretch/>
        </p:blipFill>
        <p:spPr>
          <a:xfrm>
            <a:off x="1795320" y="1824120"/>
            <a:ext cx="55533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7EDF-E853-4C99-AEDA-E0DA2E07B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C:\Documents and Settings\sudeep\Desktop\book images\images017.png"/>
          <p:cNvPicPr/>
          <p:nvPr/>
        </p:nvPicPr>
        <p:blipFill>
          <a:blip r:embed="rId1"/>
          <a:stretch/>
        </p:blipFill>
        <p:spPr>
          <a:xfrm>
            <a:off x="2262240" y="2619360"/>
            <a:ext cx="46195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2766-2DF7-42A1-939C-5526B92D4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C:\Documents and Settings\sudeep\Desktop\book images\images018.png"/>
          <p:cNvPicPr/>
          <p:nvPr/>
        </p:nvPicPr>
        <p:blipFill>
          <a:blip r:embed="rId1"/>
          <a:stretch/>
        </p:blipFill>
        <p:spPr>
          <a:xfrm>
            <a:off x="2324160" y="2200320"/>
            <a:ext cx="44956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C4F9-AF2E-4F2E-B5CC-098B9F728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C:\Documents and Settings\sudeep\Desktop\book images\images019.png"/>
          <p:cNvPicPr/>
          <p:nvPr/>
        </p:nvPicPr>
        <p:blipFill>
          <a:blip r:embed="rId1"/>
          <a:stretch/>
        </p:blipFill>
        <p:spPr>
          <a:xfrm>
            <a:off x="3424320" y="1352520"/>
            <a:ext cx="22953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4728-72E6-4C8C-88BC-9B4B940C8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C:\Documents and Settings\sudeep\Desktop\book images\images020.png"/>
          <p:cNvPicPr/>
          <p:nvPr/>
        </p:nvPicPr>
        <p:blipFill>
          <a:blip r:embed="rId1"/>
          <a:stretch/>
        </p:blipFill>
        <p:spPr>
          <a:xfrm>
            <a:off x="2224080" y="1857240"/>
            <a:ext cx="46958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2A8B-9962-4385-9D8F-259F02D3B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C:\Documents and Settings\sudeep\Desktop\book images\images001.png"/>
          <p:cNvPicPr/>
          <p:nvPr/>
        </p:nvPicPr>
        <p:blipFill>
          <a:blip r:embed="rId1"/>
          <a:stretch/>
        </p:blipFill>
        <p:spPr>
          <a:xfrm>
            <a:off x="2705040" y="1285920"/>
            <a:ext cx="3733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B1C8-1713-4D46-8536-8EC6F0E81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C:\Documents and Settings\sudeep\Desktop\book images\images021.png"/>
          <p:cNvPicPr/>
          <p:nvPr/>
        </p:nvPicPr>
        <p:blipFill>
          <a:blip r:embed="rId1"/>
          <a:stretch/>
        </p:blipFill>
        <p:spPr>
          <a:xfrm>
            <a:off x="1685880" y="2295360"/>
            <a:ext cx="577224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CBAE-5F83-4E69-9453-03768C07E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C:\Documents and Settings\sudeep\Desktop\book images\images022.png"/>
          <p:cNvPicPr/>
          <p:nvPr/>
        </p:nvPicPr>
        <p:blipFill>
          <a:blip r:embed="rId1"/>
          <a:stretch/>
        </p:blipFill>
        <p:spPr>
          <a:xfrm>
            <a:off x="1662120" y="2347920"/>
            <a:ext cx="58197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7F99-D275-46BA-8B23-2CE90234E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C:\Documents and Settings\sudeep\Desktop\book images\images023.png"/>
          <p:cNvPicPr/>
          <p:nvPr/>
        </p:nvPicPr>
        <p:blipFill>
          <a:blip r:embed="rId1"/>
          <a:stretch/>
        </p:blipFill>
        <p:spPr>
          <a:xfrm>
            <a:off x="2500200" y="2190600"/>
            <a:ext cx="414360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6E74-38EE-4B0B-947F-F391D3A1C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C:\Documents and Settings\sudeep\Desktop\book images\images024.png"/>
          <p:cNvPicPr/>
          <p:nvPr/>
        </p:nvPicPr>
        <p:blipFill>
          <a:blip r:embed="rId1"/>
          <a:stretch/>
        </p:blipFill>
        <p:spPr>
          <a:xfrm>
            <a:off x="2781360" y="2347920"/>
            <a:ext cx="35812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3F0D-7DDC-4996-9736-C733B8214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C:\Documents and Settings\sudeep\Desktop\book images\images025.png"/>
          <p:cNvPicPr/>
          <p:nvPr/>
        </p:nvPicPr>
        <p:blipFill>
          <a:blip r:embed="rId1"/>
          <a:stretch/>
        </p:blipFill>
        <p:spPr>
          <a:xfrm>
            <a:off x="1871640" y="1271520"/>
            <a:ext cx="54007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14D9-CB83-4D75-A0CA-FA82AEABC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Documents and Settings\sudeep\Desktop\book images\images026.png"/>
          <p:cNvPicPr/>
          <p:nvPr/>
        </p:nvPicPr>
        <p:blipFill>
          <a:blip r:embed="rId1"/>
          <a:stretch/>
        </p:blipFill>
        <p:spPr>
          <a:xfrm>
            <a:off x="1700280" y="2085840"/>
            <a:ext cx="57434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0183-4F06-406E-BA79-A8222A290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C:\Documents and Settings\sudeep\Desktop\book images\images027.png"/>
          <p:cNvPicPr/>
          <p:nvPr/>
        </p:nvPicPr>
        <p:blipFill>
          <a:blip r:embed="rId1"/>
          <a:stretch/>
        </p:blipFill>
        <p:spPr>
          <a:xfrm>
            <a:off x="1724040" y="1781280"/>
            <a:ext cx="56959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058F-5585-4939-996E-75FD9453B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C:\Documents and Settings\sudeep\Desktop\book images\images028.png"/>
          <p:cNvPicPr/>
          <p:nvPr/>
        </p:nvPicPr>
        <p:blipFill>
          <a:blip r:embed="rId1"/>
          <a:stretch/>
        </p:blipFill>
        <p:spPr>
          <a:xfrm>
            <a:off x="1762200" y="1447920"/>
            <a:ext cx="5619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1A96-16A6-4E24-85E4-BDAFE3896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C:\Documents and Settings\sudeep\Desktop\book images\images029.png"/>
          <p:cNvPicPr/>
          <p:nvPr/>
        </p:nvPicPr>
        <p:blipFill>
          <a:blip r:embed="rId1"/>
          <a:stretch/>
        </p:blipFill>
        <p:spPr>
          <a:xfrm>
            <a:off x="1676520" y="1681200"/>
            <a:ext cx="57909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3E81-014B-4DF8-89D6-8C40ACC85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Documents and Settings\sudeep\Desktop\book images\images030.png"/>
          <p:cNvPicPr/>
          <p:nvPr/>
        </p:nvPicPr>
        <p:blipFill>
          <a:blip r:embed="rId1"/>
          <a:stretch/>
        </p:blipFill>
        <p:spPr>
          <a:xfrm>
            <a:off x="2386080" y="2143080"/>
            <a:ext cx="4371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9ACB-5369-4343-A878-FBACE62FE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C:\Documents and Settings\sudeep\Desktop\book images\images002.png"/>
          <p:cNvPicPr/>
          <p:nvPr/>
        </p:nvPicPr>
        <p:blipFill>
          <a:blip r:embed="rId1"/>
          <a:stretch/>
        </p:blipFill>
        <p:spPr>
          <a:xfrm>
            <a:off x="2405160" y="1714680"/>
            <a:ext cx="4333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5F9C-671C-4E58-B7CD-7E474AF62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Documents and Settings\sudeep\Desktop\book images\images031.png"/>
          <p:cNvPicPr/>
          <p:nvPr/>
        </p:nvPicPr>
        <p:blipFill>
          <a:blip r:embed="rId1"/>
          <a:stretch/>
        </p:blipFill>
        <p:spPr>
          <a:xfrm>
            <a:off x="2448000" y="2209680"/>
            <a:ext cx="4248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1C9D-CA7F-4B60-A875-11B7069FD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Documents and Settings\sudeep\Desktop\book images\images032.png"/>
          <p:cNvPicPr/>
          <p:nvPr/>
        </p:nvPicPr>
        <p:blipFill>
          <a:blip r:embed="rId1"/>
          <a:stretch/>
        </p:blipFill>
        <p:spPr>
          <a:xfrm>
            <a:off x="1719360" y="1704960"/>
            <a:ext cx="57052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8BB9-CE94-4ED0-880D-71BC95CDA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C:\Documents and Settings\sudeep\Desktop\book images\images033.png"/>
          <p:cNvPicPr/>
          <p:nvPr/>
        </p:nvPicPr>
        <p:blipFill>
          <a:blip r:embed="rId1"/>
          <a:stretch/>
        </p:blipFill>
        <p:spPr>
          <a:xfrm>
            <a:off x="2448000" y="2347920"/>
            <a:ext cx="42480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6B47-2F9E-4891-AA99-63B619484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C:\Documents and Settings\sudeep\Desktop\book images\images034.png"/>
          <p:cNvPicPr/>
          <p:nvPr/>
        </p:nvPicPr>
        <p:blipFill>
          <a:blip r:embed="rId1"/>
          <a:stretch/>
        </p:blipFill>
        <p:spPr>
          <a:xfrm>
            <a:off x="1695600" y="2438280"/>
            <a:ext cx="57528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1B6B-8F84-47FF-9D45-4520851A0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C:\Documents and Settings\sudeep\Desktop\book images\images035.png"/>
          <p:cNvPicPr/>
          <p:nvPr/>
        </p:nvPicPr>
        <p:blipFill>
          <a:blip r:embed="rId1"/>
          <a:stretch/>
        </p:blipFill>
        <p:spPr>
          <a:xfrm>
            <a:off x="2443320" y="2262240"/>
            <a:ext cx="42573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511A-2CA8-444B-B7FD-161908E86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C:\Documents and Settings\sudeep\Desktop\book images\images036.png"/>
          <p:cNvPicPr/>
          <p:nvPr/>
        </p:nvPicPr>
        <p:blipFill>
          <a:blip r:embed="rId1"/>
          <a:stretch/>
        </p:blipFill>
        <p:spPr>
          <a:xfrm>
            <a:off x="1762200" y="2462040"/>
            <a:ext cx="5619600" cy="19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7C53-38F5-4614-8B5D-9A6A0F57D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C:\Documents and Settings\sudeep\Desktop\book images\images037.png"/>
          <p:cNvPicPr/>
          <p:nvPr/>
        </p:nvPicPr>
        <p:blipFill>
          <a:blip r:embed="rId1"/>
          <a:stretch/>
        </p:blipFill>
        <p:spPr>
          <a:xfrm>
            <a:off x="1685880" y="2343240"/>
            <a:ext cx="57722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2142-1F9D-4D39-9ECB-E810EF6CF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C:\Documents and Settings\sudeep\Desktop\book images\images038.png"/>
          <p:cNvPicPr/>
          <p:nvPr/>
        </p:nvPicPr>
        <p:blipFill>
          <a:blip r:embed="rId1"/>
          <a:stretch/>
        </p:blipFill>
        <p:spPr>
          <a:xfrm>
            <a:off x="1762200" y="2619360"/>
            <a:ext cx="56196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438D-4938-4612-8366-A9C70D33C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" descr="C:\Documents and Settings\sudeep\Desktop\book images\images039.png"/>
          <p:cNvPicPr/>
          <p:nvPr/>
        </p:nvPicPr>
        <p:blipFill>
          <a:blip r:embed="rId1"/>
          <a:stretch/>
        </p:blipFill>
        <p:spPr>
          <a:xfrm>
            <a:off x="1933560" y="1000080"/>
            <a:ext cx="52768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9A6C-78A6-4DB0-AB15-C35A54868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C:\Documents and Settings\sudeep\Desktop\book images\images040.png"/>
          <p:cNvPicPr/>
          <p:nvPr/>
        </p:nvPicPr>
        <p:blipFill>
          <a:blip r:embed="rId1"/>
          <a:stretch/>
        </p:blipFill>
        <p:spPr>
          <a:xfrm>
            <a:off x="1695600" y="1881360"/>
            <a:ext cx="575280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487C-CA28-49E6-B478-FAD190A73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C:\Documents and Settings\sudeep\Desktop\book images\images003.png"/>
          <p:cNvPicPr/>
          <p:nvPr/>
        </p:nvPicPr>
        <p:blipFill>
          <a:blip r:embed="rId1"/>
          <a:stretch/>
        </p:blipFill>
        <p:spPr>
          <a:xfrm>
            <a:off x="2376360" y="1743120"/>
            <a:ext cx="43912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E7DE-F0EB-4477-A666-6C6213B9B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C:\Documents and Settings\sudeep\Desktop\book images\images041.png"/>
          <p:cNvPicPr/>
          <p:nvPr/>
        </p:nvPicPr>
        <p:blipFill>
          <a:blip r:embed="rId1"/>
          <a:stretch/>
        </p:blipFill>
        <p:spPr>
          <a:xfrm>
            <a:off x="1809720" y="1447920"/>
            <a:ext cx="55245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0117-C7EC-4BCF-9C08-B6A926824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C:\Documents and Settings\sudeep\Desktop\book images\images042.png"/>
          <p:cNvPicPr/>
          <p:nvPr/>
        </p:nvPicPr>
        <p:blipFill>
          <a:blip r:embed="rId1"/>
          <a:stretch/>
        </p:blipFill>
        <p:spPr>
          <a:xfrm>
            <a:off x="1762200" y="2443320"/>
            <a:ext cx="5619600" cy="19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6D6A-F214-41ED-9433-4106FD3A7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C:\Documents and Settings\sudeep\Desktop\book images\images043.png"/>
          <p:cNvPicPr/>
          <p:nvPr/>
        </p:nvPicPr>
        <p:blipFill>
          <a:blip r:embed="rId1"/>
          <a:stretch/>
        </p:blipFill>
        <p:spPr>
          <a:xfrm>
            <a:off x="2328840" y="2219400"/>
            <a:ext cx="448632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8677-5183-4FA7-BBFD-6B80F8ABF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C:\Documents and Settings\sudeep\Desktop\book images\images044.png"/>
          <p:cNvPicPr/>
          <p:nvPr/>
        </p:nvPicPr>
        <p:blipFill>
          <a:blip r:embed="rId1"/>
          <a:stretch/>
        </p:blipFill>
        <p:spPr>
          <a:xfrm>
            <a:off x="1752480" y="1790640"/>
            <a:ext cx="56390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2D05-F172-4EC4-9D7E-DCC8F1102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C:\Documents and Settings\sudeep\Desktop\book images\images004.png"/>
          <p:cNvPicPr/>
          <p:nvPr/>
        </p:nvPicPr>
        <p:blipFill>
          <a:blip r:embed="rId1"/>
          <a:stretch/>
        </p:blipFill>
        <p:spPr>
          <a:xfrm>
            <a:off x="2295360" y="2243160"/>
            <a:ext cx="45532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AD98-2FB7-4C16-9D6E-8094F91ED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C:\Documents and Settings\sudeep\Desktop\book images\images005.png"/>
          <p:cNvPicPr/>
          <p:nvPr/>
        </p:nvPicPr>
        <p:blipFill>
          <a:blip r:embed="rId1"/>
          <a:stretch/>
        </p:blipFill>
        <p:spPr>
          <a:xfrm>
            <a:off x="2181240" y="2519280"/>
            <a:ext cx="47815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5493-39DE-45F0-BA86-108D45589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C:\Documents and Settings\sudeep\Desktop\book images\images006.png"/>
          <p:cNvPicPr/>
          <p:nvPr/>
        </p:nvPicPr>
        <p:blipFill>
          <a:blip r:embed="rId1"/>
          <a:stretch/>
        </p:blipFill>
        <p:spPr>
          <a:xfrm>
            <a:off x="2286000" y="990720"/>
            <a:ext cx="4562640" cy="2028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C:\Documents and Settings\sudeep\Desktop\book images\images007.png"/>
          <p:cNvPicPr/>
          <p:nvPr/>
        </p:nvPicPr>
        <p:blipFill>
          <a:blip r:embed="rId2"/>
          <a:stretch/>
        </p:blipFill>
        <p:spPr>
          <a:xfrm>
            <a:off x="3581280" y="3657600"/>
            <a:ext cx="20671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6F3F-71C7-4549-BF80-AF92FA13D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C:\Documents and Settings\sudeep\Desktop\book images\images008.png"/>
          <p:cNvPicPr/>
          <p:nvPr/>
        </p:nvPicPr>
        <p:blipFill>
          <a:blip r:embed="rId1"/>
          <a:stretch/>
        </p:blipFill>
        <p:spPr>
          <a:xfrm>
            <a:off x="2152800" y="2138400"/>
            <a:ext cx="48384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4864-CB18-4235-96C0-745D390AC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C:\Documents and Settings\sudeep\Desktop\book images\images009.png"/>
          <p:cNvPicPr/>
          <p:nvPr/>
        </p:nvPicPr>
        <p:blipFill>
          <a:blip r:embed="rId1"/>
          <a:stretch/>
        </p:blipFill>
        <p:spPr>
          <a:xfrm>
            <a:off x="2819520" y="1295280"/>
            <a:ext cx="3209760" cy="1105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C:\Documents and Settings\sudeep\Desktop\book images\images010.png"/>
          <p:cNvPicPr/>
          <p:nvPr/>
        </p:nvPicPr>
        <p:blipFill>
          <a:blip r:embed="rId2"/>
          <a:stretch/>
        </p:blipFill>
        <p:spPr>
          <a:xfrm>
            <a:off x="2529000" y="2867040"/>
            <a:ext cx="4086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Sudeep Pasricha</cp:lastModifiedBy>
  <dcterms:modified xsi:type="dcterms:W3CDTF">2009-02-11T18:11:14Z</dcterms:modified>
  <cp:revision>573</cp:revision>
  <dc:subject/>
  <dc:title>On Chip Communication Architectures</dc:title>
</cp:coreProperties>
</file>