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35.png" ContentType="image/png"/>
  <Override PartName="/ppt/media/image27.png" ContentType="image/png"/>
  <Override PartName="/ppt/media/image61.png" ContentType="image/png"/>
  <Override PartName="/ppt/media/image59.wmf" ContentType="image/x-wmf"/>
  <Override PartName="/ppt/media/image24.png" ContentType="image/png"/>
  <Override PartName="/ppt/media/image60.png" ContentType="image/png"/>
  <Override PartName="/ppt/media/image58.wmf" ContentType="image/x-wmf"/>
  <Override PartName="/ppt/media/image23.png" ContentType="image/png"/>
  <Override PartName="/ppt/media/image40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16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34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4.jpeg" ContentType="image/jpe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BA52-2AC2-4F61-A270-7E2DF10F0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6DC1-BC24-4096-949A-80B531124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F8ED-A442-4B05-BCC6-3D2CD3EBE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87F9-32A8-45ED-8FE9-B6FE463A9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BB091-6E68-4D07-B594-82F9B6BB05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2BA43-C513-4AA0-A7E6-28AF320B0A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85C90-BF27-4515-8ED6-B622016859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D2B41-1EC6-48CC-BA90-40A6358DA4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67DBB-4990-4509-A2DF-24B3AEFAB7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E9238-EF58-4E89-B877-9E3F057817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D30A6-E955-4B88-875F-1D6C079DE6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F030-F01F-42BA-9CBF-DA94EC37C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59EEE-7484-4979-82CF-1F7D086543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CC335-E375-4798-AF8D-2CFDAD2D42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90F85-03C9-4D55-873E-B0B60AE3FB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26687-9192-43E8-BE75-97AF3B82A8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8B7EB-4C79-424D-855B-A186AFA3C6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D30BA-DA86-45B3-B37F-85382F02B2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396AC-7511-45FF-9BBF-8015D878A3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71F9E-31A9-4DA3-9038-9DA6C2BA4C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E112B-FAE4-4A5C-A0A0-21F917EBF7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0F9CC-350F-483B-91CE-B1FB06AAEE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CAD6-1C67-4742-9EFE-5F60E873B2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7FE2C-2CD0-4014-B58A-B998027628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3C729-B18D-4678-A59B-AC142743CA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A2CEC-BF6F-43C4-89E5-DD559DE71D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0EBA2-6CA1-4392-9199-D54C6722DB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97C09-4B8F-46AE-A7F1-99AED48CA2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EEE98-22BB-46A6-9097-9F353063C4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E6C71-77FD-4DBA-8836-CEB0E35F3A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E22E4A-3B11-44AE-9061-D34CF2F939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AD6D3C-0C42-445E-B1FA-5587D76429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563895-99C0-4242-BAED-702CBB028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F87CF-72E5-469A-AF46-6701B0DAA8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2A4A66-6338-45AB-A48B-137E4E94A0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9A81CD-F9D9-4C8F-8282-E7993AEC17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230025-8EAD-4748-A1D4-6DD505FA20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179C24-8218-4F63-B8F5-CBC36E1930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58433F-91EF-4293-858D-2E772506BC1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AD2900-F6AB-407F-89AC-904CE45AB9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ABB3E2-B8DB-498A-92EA-B45EA58EF1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4787DD-42FA-46DB-B346-3B15794CEE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B29D20-72E6-4B66-B889-C9808A0D9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1680-D681-4695-9E32-28EF7F4B3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830D-9A52-4CF1-B8F2-F804D41F8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18BF-CE70-462B-ADB3-717E3E2A9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0DD8-67B3-4FF5-8A62-22CD7FE8B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F36FA-93EE-42DB-B988-9EFBF5A83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3B35-75F9-436F-8AA6-88955B6AC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0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5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18F8-F43C-4B8B-A3D5-DEDF29992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A820-0F87-4178-8BC6-ECCD82569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4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3DF6-266B-48F2-B5A0-B9CFCB109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On-Chip Communication Architectur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Models for Power and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Thermal Estim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ICS 295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Sudeep Pasricha and Nikil Dut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Slides based on book chapter 5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6000840" y="1828800"/>
            <a:ext cx="3143160" cy="3143160"/>
          </a:xfrm>
          <a:prstGeom prst="rect">
            <a:avLst/>
          </a:prstGeom>
          <a:ln w="0">
            <a:noFill/>
          </a:ln>
        </p:spPr>
      </p:pic>
      <p:sp>
        <p:nvSpPr>
          <p:cNvPr id="195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6753-A491-4378-BCFE-A97EB6AE3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us Wire Power Mode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Chern et al.  [EDL ‘92] proposed a model for wire capacitanc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ree primary constituents of wire capacita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ine-to-line capacita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ine-to-ground capacita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rossover capacita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 wire on metal layer 2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8C31-01DD-4BBD-86DC-1D1FED497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276640" y="3657600"/>
            <a:ext cx="4941720" cy="2895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4800600" y="3124080"/>
            <a:ext cx="3267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us Wire Power Mode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34960" y="1294920"/>
            <a:ext cx="7499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the model, complex capacitance expressions were der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, line-to-ground capacitance was calculated a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the metal wid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the space between two lines (or wires)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the thickness of the metal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the thickness of dielectric layer between metal lay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ɛ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s the dielectric consta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asurements indicated an accuracy of within 8% for capacitance valu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2959-6766-48A8-84F7-473FE5762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4976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us Wire Power Mode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accurate analytical models (Ho et al. [IEEE 2001]) combine a bottom plate term with a fringing ter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account for field lines originating from edge and top of wi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pacitance can then be modeled by four parallel plate capacitors for the top, bottom, left, and right sides, plus a constant term for fringing capacit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2271-AEF0-4F2F-808F-C954B6DF5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523880" y="4114800"/>
            <a:ext cx="6604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us Wire Power Mode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ertical and horizontal capacitors can have different relative dielectrics for technologies that use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ow K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erials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the wire capacitance is expressed 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pacitances to the left and right have data dependent effective capacitan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left and right neighbors of a wire switch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n opposite direction as the wire, then the effective side capacitances doubl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with the wire, the effective side capacitance approaches zer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s effect is termed as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Miller multiplication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d is modeled by varying the K parameter between 0 and 2 in the equ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9FDB-9D81-4F47-B903-EBD1B61BB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739116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Coupling-Aware Wire Power Model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34960" y="1294920"/>
            <a:ext cx="7499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gnificant amount of work has modeled the capacitive (and inductive) parasitic interactions and coupling of bus wires in DSM technolog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tiriadis et al. [TVLSI 2002] proposed an equivalent capacitive network model for the DSM bu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lumped energy equivalent DSM bus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B3B9-3459-4AE1-B2D6-715EDAE17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143000" y="4114800"/>
            <a:ext cx="3505320" cy="2209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4724280" y="3733920"/>
            <a:ext cx="4191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Coupling-Aware Wire Power Model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energy drawn during a transition, from the power supply by the bus drivers, for a bus with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nes 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                are vectors with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ordinates representing initial and final voltages on bus li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a vector with a 1 in the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osition, and 0 elsewhe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the total capacitance conductance matrix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hich represents the capacitances between the lines and groun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919B-056C-4328-8745-E30676794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3124080" y="2438280"/>
            <a:ext cx="3481560" cy="914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1916280" y="3774960"/>
            <a:ext cx="2057400" cy="3398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3"/>
          <a:stretch/>
        </p:blipFill>
        <p:spPr>
          <a:xfrm>
            <a:off x="4125960" y="3760920"/>
            <a:ext cx="22748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Coupling-Aware Wire Power Model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06632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posed model was simplified to ignore parasitics between non-adjacent li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roximate total capacitance conductance matrix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rameter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pend on CMOS technology used, as well as specific geometry, metal layer, and shielding of the b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C9D0-F22C-4F3A-B679-B27D12703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2514600" y="2232000"/>
            <a:ext cx="4726080" cy="1309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1058760" y="4191120"/>
            <a:ext cx="5311800" cy="1371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3"/>
          <a:stretch/>
        </p:blipFill>
        <p:spPr>
          <a:xfrm>
            <a:off x="6629400" y="4419720"/>
            <a:ext cx="228600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Coupling-Aware Wire Power Model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434960" y="1371240"/>
            <a:ext cx="7499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Kretzschmar et al. [DATE ‘04] proposed an analytical model for power dissipation on a bus, accounting for repeat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ire capacitance per unit length 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518B-5B9B-47C8-A430-EDB946503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87700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2286000" y="5257800"/>
            <a:ext cx="2884320" cy="552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"/>
          <p:cNvPicPr/>
          <p:nvPr/>
        </p:nvPicPr>
        <p:blipFill>
          <a:blip r:embed="rId3"/>
          <a:srcRect l="3570" t="0" r="61934" b="0"/>
          <a:stretch/>
        </p:blipFill>
        <p:spPr>
          <a:xfrm>
            <a:off x="6248520" y="4557600"/>
            <a:ext cx="259056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Coupling-Aware Wire Power Model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erage capacitance of bus is given b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re L is the length of the line and d is the inter-repeater distanc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s power can be obtained by plugging capacitance into the following equat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0E39-E91E-4921-92FD-D15BF673A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1089000" y="2286000"/>
            <a:ext cx="8028000" cy="6858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2"/>
          <a:stretch/>
        </p:blipFill>
        <p:spPr>
          <a:xfrm>
            <a:off x="3200400" y="4937040"/>
            <a:ext cx="312408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Coupling-Aware Wire Power Model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pta et al. [ICCAD 2003] proposed a bus power model for use in high level explo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witching powe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uses a table lookup techniqu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w level transistor simulation used to construct a three-wire lookup table for minimally spaced wires of various length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ives power consumption for each type of transition in the transition s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1126-0838-4F2A-8CA5-0D0510F7E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3990960" cy="7617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1905120" y="5105520"/>
            <a:ext cx="6713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dels for Power Estimation of Wi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dels for Power Estimation of On-Chip Communication Architectu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dels for Thermal Estim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VT variation-aware Power Estim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0437-8FB1-4254-B1D0-492D1218B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Coupling-Aware Wire Power Model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 of vias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vi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umber of via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estimated using interconnect layout with floorplanner and statistical methods, and then counting number of times an interconnect changes dir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a powe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vi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ependent on the layer in which it resi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4869-0D37-4250-AC34-65BFA02BF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3429000" y="2133720"/>
            <a:ext cx="22399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Coupling-Aware Wire Power Model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066320" y="14475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 due to repeaters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repea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 the switching activ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umber of repeaters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re obtained from formulations presented by Kapur et al. [6] and Bakoglu et al. [45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ich give optimal inter-repeater distance for given CMOS technolo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tal number of repeater via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re calculated to be twice the number of repea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nce paths are needed to descend and ascend from substrate where repeaters resid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730E-C350-43B7-8E17-46B004DAC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51051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dels for Power Estimation of Wi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Models for Power Estimation of On-Chip Communication Architectu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dels for Thermal Estim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VT variation-aware Power Estim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9DBC-BB82-4B6E-AB6E-5292BD50E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ower Estimation of On-Chip Communication Architecture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434960" y="1600200"/>
            <a:ext cx="7499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addition to wires, an important component of on-chip communication architectures is bus log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idges, arbiters, decoders, buffer stages, etc. have a significant contribution towards on-chip pow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portant to account for power contribution for both bus logic and bus wi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pecially true for increasingly complex communication architectures being used in multi-core SoC designs tod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BDA7-AC57-419C-A3BF-FB96403ED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ower Estimation of On-Chip Communication Architecture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hiri et al. [CODES+ISSS 2004] proposed gate level power estimation methodology for estimation of logic and bus wire power for AMBA AHB/AP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433E-208A-4519-AEF6-835B197D1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361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ower Estimation of On-Chip Communication Architecture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thodology was used to obtain breakdown of power consumed by various components of the AMBA b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s lines (wires) consume only 14% of overall pow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69AF-1ABB-4E76-BE5A-C52D12DBA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71629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ower Estimation of On-Chip Communication Architecture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asricha et al. [CODES+ISSS 2006] proposed an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ergy macro-model based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ethodology to estimate power for bus matrix communication architectures at the system-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1375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 energy macro-model for a component has two basic eleme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ariables – that represent factors (events) influencing energy consump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45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ntrol (e.g. signal value change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45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ata (e.g. Hamming distance of input data value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45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ructural (e.g. bus width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gression coefficients – that capture correlation between the variables and energy consump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F5CF-DDC8-47B8-90DC-E89B1E84A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743200" y="5562720"/>
            <a:ext cx="3844800" cy="838080"/>
          </a:xfrm>
          <a:prstGeom prst="rect">
            <a:avLst/>
          </a:prstGeom>
          <a:ln w="0">
            <a:noFill/>
          </a:ln>
        </p:spPr>
      </p:pic>
      <p:sp>
        <p:nvSpPr>
          <p:cNvPr id="327" name="TextBox 6"/>
          <p:cNvSpPr/>
          <p:nvPr/>
        </p:nvSpPr>
        <p:spPr>
          <a:xfrm>
            <a:off x="7248960" y="571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ower Estimation of On-Chip Communication Architectur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54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eated energy macro-models for all bus matrix logic compone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put Stag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ecod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tput Stag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rbit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ergy consumption of wires at system-level, is given a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imulated annealing floorplanner for IP placement and wire length estim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Adya et al. [TVLSI 2003]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Berkeley Predictive Technology Model (PTM) for ground, coupling capacita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peater capacitance, leakage power from data shee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ptimal-delay repeater sizing/spac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0" name="Picture 4" descr="CODES1"/>
          <p:cNvPicPr/>
          <p:nvPr/>
        </p:nvPicPr>
        <p:blipFill>
          <a:blip r:embed="rId1"/>
          <a:srcRect l="1861" t="15218" r="16535" b="30085"/>
          <a:stretch/>
        </p:blipFill>
        <p:spPr>
          <a:xfrm>
            <a:off x="6172200" y="2003400"/>
            <a:ext cx="2819520" cy="15778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5"/>
          <p:cNvSpPr/>
          <p:nvPr/>
        </p:nvSpPr>
        <p:spPr>
          <a:xfrm>
            <a:off x="6645240" y="2254320"/>
            <a:ext cx="45720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6635880" y="2927520"/>
            <a:ext cx="45720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6645240" y="2025720"/>
            <a:ext cx="4572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6635880" y="2682720"/>
            <a:ext cx="4572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8001000" y="2178000"/>
            <a:ext cx="4572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0"/>
          <p:cNvSpPr/>
          <p:nvPr/>
        </p:nvSpPr>
        <p:spPr>
          <a:xfrm>
            <a:off x="8001000" y="2558880"/>
            <a:ext cx="4572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7991640" y="2927520"/>
            <a:ext cx="4572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7991640" y="3340080"/>
            <a:ext cx="4572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7991640" y="3235320"/>
            <a:ext cx="457200" cy="152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4"/>
          <p:cNvSpPr/>
          <p:nvPr/>
        </p:nvSpPr>
        <p:spPr>
          <a:xfrm>
            <a:off x="8001000" y="2819520"/>
            <a:ext cx="457200" cy="152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5"/>
          <p:cNvSpPr/>
          <p:nvPr/>
        </p:nvSpPr>
        <p:spPr>
          <a:xfrm>
            <a:off x="7997760" y="2438280"/>
            <a:ext cx="457200" cy="152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6"/>
          <p:cNvSpPr/>
          <p:nvPr/>
        </p:nvSpPr>
        <p:spPr>
          <a:xfrm>
            <a:off x="7994520" y="2041560"/>
            <a:ext cx="457200" cy="152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7"/>
          <p:cNvSpPr/>
          <p:nvPr/>
        </p:nvSpPr>
        <p:spPr>
          <a:xfrm>
            <a:off x="304920" y="2743200"/>
            <a:ext cx="7467480" cy="826920"/>
          </a:xfrm>
          <a:prstGeom prst="wedgeRectCallout">
            <a:avLst>
              <a:gd name="adj1" fmla="val 34472"/>
              <a:gd name="adj2" fmla="val -79138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NP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= 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np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+ 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np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Ψ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load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+ 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np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Ψ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desel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+ 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np3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Ψ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HDi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+ 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np4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Ψ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8"/>
          <p:cNvSpPr/>
          <p:nvPr/>
        </p:nvSpPr>
        <p:spPr>
          <a:xfrm rot="16200000">
            <a:off x="1371600" y="3123720"/>
            <a:ext cx="228600" cy="381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9"/>
          <p:cNvSpPr/>
          <p:nvPr/>
        </p:nvSpPr>
        <p:spPr>
          <a:xfrm rot="16200000">
            <a:off x="2438280" y="281880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20"/>
          <p:cNvSpPr/>
          <p:nvPr/>
        </p:nvSpPr>
        <p:spPr>
          <a:xfrm rot="16200000">
            <a:off x="3924360" y="27810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21"/>
          <p:cNvSpPr/>
          <p:nvPr/>
        </p:nvSpPr>
        <p:spPr>
          <a:xfrm rot="16200000">
            <a:off x="5371920" y="278064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2"/>
          <p:cNvSpPr/>
          <p:nvPr/>
        </p:nvSpPr>
        <p:spPr>
          <a:xfrm rot="16200000">
            <a:off x="6896160" y="27810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3" descr=""/>
          <p:cNvPicPr/>
          <p:nvPr/>
        </p:nvPicPr>
        <p:blipFill>
          <a:blip r:embed="rId2"/>
          <a:stretch/>
        </p:blipFill>
        <p:spPr>
          <a:xfrm>
            <a:off x="1523880" y="4267080"/>
            <a:ext cx="6705720" cy="7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ower Estimation of On-Chip Communication Architecture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6632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thodology overvie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B57E-60B7-4C50-8C73-B7C2C9F27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6354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ower Estimation of On-Chip Communication Architecture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663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cro model template for input buffer component of bus matri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56CB-9287-4C78-B085-48AAA3A56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6172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18960" y="1294920"/>
            <a:ext cx="771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 today is an important multi-processor system-on-chip (MPSoC) design constrai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 mobile applications such as cellular phones, MP3 players, and laptops with fixed battery budge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,  watching several movies on a single battery charge is virtually impossible on today’s devi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 non-portable applications server farm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.g., as much as 2 megawatts for a 25,000 square foot server farm with 8000 serv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future silicon technologies increasing operating frequencies and transistor densities will make power dissipation a major conce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e: Power, Energy used interchangeably from here onwa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821B-B7B7-4D7C-9FCB-345637DE5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ower Estimation of On-Chip Communication Architecture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663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cro model coefficients for bus matrix (180 n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value close to 1 (implies reliable prediction with model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25DC-C0E2-480B-B1C3-C996D801E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rcRect l="3025" t="1945" r="2944" b="3460"/>
          <a:stretch/>
        </p:blipFill>
        <p:spPr>
          <a:xfrm>
            <a:off x="1981080" y="2057400"/>
            <a:ext cx="5639040" cy="383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ower Estimation of On-Chip Communication Architecture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600200"/>
            <a:ext cx="7499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ression coefficients for input stage compon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ross various CMOS technology nodes (180 – 65 nm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asy to retarget methodology to different technology nod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enerate gate level cycle energy numbers with new library for small system testbench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se these to update cycle energy column in the macro-model templat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peat regression analysis (~ few minute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9ACB-FA5E-42AF-B520-34583D014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rcRect l="3141" t="3554" r="3771" b="5056"/>
          <a:stretch/>
        </p:blipFill>
        <p:spPr>
          <a:xfrm>
            <a:off x="2133720" y="2590920"/>
            <a:ext cx="5886360" cy="201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ower Estimation of On-Chip Communication Architecture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600" y="14475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pared accuracy of energy macro-model estimates with gate-level estimates using Synopsys PrimePow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ighly accurate cycle energy estimation that is unaffected by the scaling of technology librari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ximum average cycle energy estimation error only 4.19%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B9D2-702B-4BAF-8D7F-275E24340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600200" y="2278080"/>
            <a:ext cx="709308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ower Estimation of On-Chip Communication Architectur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lugged macro-models into TLM-based bus-cycle accurate (T-BCA) simulation environment in SystemC and compared power waveform accuracy with gate-level estim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ighly correlated waveforms – useful for peak power estim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ssist planning of power grid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D744-6AC0-4CCA-B88D-23CBBDB9E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81848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ower Estimation of On-Chip Communication Architecture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523880"/>
            <a:ext cx="7499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ared CPU time taken for the PrimePower simulation (for gate level cycle energy estimation) with the system level CCATB-based predi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gnificant ~ 2000x speedup possible using system level power estim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077E-D05C-4926-ABC8-F2D92A54F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rcRect l="3063" t="2773" r="3538" b="7560"/>
          <a:stretch/>
        </p:blipFill>
        <p:spPr>
          <a:xfrm>
            <a:off x="1600200" y="3048120"/>
            <a:ext cx="7101000" cy="230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ower Estimation of On-Chip Communication Architectur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ldari et al. [DATE 2003] proposed energy macro models for an AMBA AHB b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dels created for arbiter, decoder, multiplexing log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e.g., decoder macro model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r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≥ 2 is number of slaves attached to deco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first integer number greater than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capacitance of each output nod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equivalent capacitance of one n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1 if H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≥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C4FA-840A-424C-83E4-E0BFD7E12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7634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ower Estimation of On-Chip Communication Architectur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dels were used to create a higher level instruction model for AHB power consump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 main activity modes were identified on the bus: IDLE, READ, WRITE, and IDLE with bus hando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awbacks: did not consider static/leakage power, or power due to bus wi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14B7-E062-400C-9BD1-5C9BE02F2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rcRect l="5079" t="2724" r="5659" b="2724"/>
          <a:stretch/>
        </p:blipFill>
        <p:spPr>
          <a:xfrm>
            <a:off x="2438280" y="3352680"/>
            <a:ext cx="4722840" cy="200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ower Estimation of On-Chip Communication Architecture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na et al. [DATE 2004] proposed macro-models to estimate power consumption for the crossbar (or shared bus) topology-based Type 2 and Type 3 STB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cro-model represents an STBus configuration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 in design space 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s the number of initiators (or master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s the number of targets (or slav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rqr, rp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e the no. of request or response resources,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   p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s the type of arbitration policy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s the total output pin capacita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dp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s the data path width (e.g., 32 or 64 bit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s the protocol mode (either Type 2 or Type 3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D9C0-B241-49E0-8AF1-67DEC2EDE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2286000" y="3436920"/>
            <a:ext cx="557064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ower Estimation of On-Chip Communication Architectur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 dissipation of an STBus configuration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B(n)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ent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(n),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d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rec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(n)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e linear regression coefficient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B(n)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s average base cost of configuration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f nod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sen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n) is additive power of data cells sent from mast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rec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n) is power cost due to data received by the mast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the total number of data cells sent to the slav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the total number of data cells received by the mast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 is the total number of clock cycl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1797-BCD3-4A78-B72C-C15B75A1B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50356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ower Estimation of On-Chip Communication Architecture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434960" y="1447920"/>
            <a:ext cx="7499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del accuracy explored for power estimation of four ARM7TDMI processor initiators and several targets simulated in SystemC (200K cycle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stem level estimation has an average total error of 9%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C906-97FB-4B25-A9C8-4BCB5CBD3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5722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907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ower dissipation has an undesirable thermal side effect of increasing device temperature -&gt; affects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reliability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f MPSoC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liability:  probability that system will operate correctly at any given time of oper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easured by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mean time to failure (MTTF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ed to extend MTTF beyond expected life of a produc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r critical systems used in aircraft control, automotive control, medical equipment, defense applicat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mperature cycles/spikes due to excessive power dissipation caus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pecific failure in components/wir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condary effects such as timing failure and data corrup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chniques to estimate and reduce power consumption are essential for lowering operating temperatu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o that the MTTF is increased  and cooling /packaging costs reduc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594E-4B50-495E-A975-9DC63B21B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dels for Power Estimation of Wi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dels for Power Estimation of On-Chip Communication Architectu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Models for Thermal Estim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VT variation-aware Power Estim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662D-C11E-4BB0-976D-BDFC6C124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Models for Thermal Estimation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663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ermal effects are an inseparable aspect of signal propag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urrent flowing through an interconnect causes power dissip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ubstrate, which is attached to the heat-sink, is typically far away from the interconnect lines (especially global-tier one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at generated by interconnect cannot be efficiently remov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eads to increase in interconnect temperature -&gt; Joule hea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ith aggressive CMOS scaling, low K inter-layer and inter-metal dielectrics (IMDs) have been introduc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reduce RC delay, crosstalk, dynamic power consumption over Si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t low K dielectrics increase interconnect tempera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ave poor thermal conductiviti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creasing no. of metal layers (~6 in 180nm to10 in 50nm) further exacerbates problem of high interconnect temperatur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6487-C2CC-48CB-9CB2-6D8B3B421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Models for Thermal Estimation 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ermal effects have a significant impact on the performance, power, design, and reliability of interconnects because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connect lifetime (or reliability) has an exponential dependence on the inverse metal tempera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rmal effects put a limit on maximum allowed root mean square (RMS) current density through the interconne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connect metal resistivity is dependent on temperatur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.g., resistivity of Cu increases by 39% from 20°C to 120°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igher resistivity causes larger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RC delay that degrades performa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eakage power has a significant dependence on temperature, and can be order of magnitudes greater at high temperatu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rmally induced open circuit metal failure under short duration high peak currents including electrostatic discharge (ESD) can introduce latent electromagnetic (EM) dama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SD is the single largest cause of failures in IC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55CF-C3C3-4D13-A876-5BF7D65F2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Models for Thermal Estimation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tiriadis et al. [TVLSI 2002] proposed a model for the energy dissipated as heat on bus li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ergy drawn from the power supply consists of two par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nergy stored in the capacitances of the repeaters and b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nergy dissipated as he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ergy drawn by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he 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river on a bus, which is converted into heat during a transition, is given b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CDB1-9C53-4D7E-BBB9-86889047D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rcRect l="0" t="24669" r="0" b="25425"/>
          <a:stretch/>
        </p:blipFill>
        <p:spPr>
          <a:xfrm>
            <a:off x="3048120" y="4275000"/>
            <a:ext cx="2895480" cy="3812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"/>
          <p:cNvPicPr/>
          <p:nvPr/>
        </p:nvPicPr>
        <p:blipFill>
          <a:blip r:embed="rId2"/>
          <a:srcRect l="0" t="12537" r="0" b="12935"/>
          <a:stretch/>
        </p:blipFill>
        <p:spPr>
          <a:xfrm>
            <a:off x="1066680" y="4724280"/>
            <a:ext cx="3276720" cy="5335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"/>
          <p:cNvPicPr/>
          <p:nvPr/>
        </p:nvPicPr>
        <p:blipFill>
          <a:blip r:embed="rId3"/>
          <a:srcRect l="0" t="8314" r="0" b="16704"/>
          <a:stretch/>
        </p:blipFill>
        <p:spPr>
          <a:xfrm>
            <a:off x="1031760" y="5280120"/>
            <a:ext cx="4791240" cy="685800"/>
          </a:xfrm>
          <a:prstGeom prst="rect">
            <a:avLst/>
          </a:prstGeom>
          <a:ln w="0">
            <a:noFill/>
          </a:ln>
        </p:spPr>
      </p:pic>
      <p:sp>
        <p:nvSpPr>
          <p:cNvPr id="429" name="TextBox 8"/>
          <p:cNvSpPr/>
          <p:nvPr/>
        </p:nvSpPr>
        <p:spPr>
          <a:xfrm>
            <a:off x="4413600" y="4800600"/>
            <a:ext cx="48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tal energy drawn from power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573840" y="6095880"/>
            <a:ext cx="85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fference in energy stored in capacitances before and after 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Straight Arrow Connector 11"/>
          <p:cNvCxnSpPr/>
          <p:nvPr/>
        </p:nvCxnSpPr>
        <p:spPr>
          <a:xfrm flipH="1" flipV="1">
            <a:off x="4273200" y="5001840"/>
            <a:ext cx="4579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2" name="Straight Arrow Connector 12"/>
          <p:cNvCxnSpPr/>
          <p:nvPr/>
        </p:nvCxnSpPr>
        <p:spPr>
          <a:xfrm flipV="1">
            <a:off x="1294200" y="5790960"/>
            <a:ext cx="229320" cy="30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Models for Thermal Estimation 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066320" y="144756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heat0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presents heat generated when bus line is charg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t is also generated when a bus line is discharg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ergy converted into heat during bus line discharging i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tal energy dissipated as heat on driver and bus lines 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 = 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ill Sans MT"/>
              </a:rPr>
              <a:t>heat0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+ 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ill Sans MT"/>
              </a:rPr>
              <a:t>heat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40B4-6964-4087-BB24-7BD4BF5DF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5086440" cy="1523880"/>
          </a:xfrm>
          <a:prstGeom prst="rect">
            <a:avLst/>
          </a:prstGeom>
          <a:ln w="0">
            <a:noFill/>
          </a:ln>
        </p:spPr>
      </p:pic>
      <p:sp>
        <p:nvSpPr>
          <p:cNvPr id="438" name="TextBox 7"/>
          <p:cNvSpPr/>
          <p:nvPr/>
        </p:nvSpPr>
        <p:spPr>
          <a:xfrm>
            <a:off x="886680" y="4427640"/>
            <a:ext cx="85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fference in energy stored in capacitances before and after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9" name="Straight Arrow Connector 8"/>
          <p:cNvCxnSpPr/>
          <p:nvPr/>
        </p:nvCxnSpPr>
        <p:spPr>
          <a:xfrm flipV="1">
            <a:off x="2818440" y="4122360"/>
            <a:ext cx="229320" cy="30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Models for Thermal Estimation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ndaresan et al. [VLSID 2005] proposed another thermal model for bus li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eated equivalent electrical and thermal RC network for a 5 bit b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6579-AEBC-4A4F-9051-B7BD39B33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1017720" y="4822920"/>
            <a:ext cx="4952880" cy="19810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" descr=""/>
          <p:cNvPicPr/>
          <p:nvPr/>
        </p:nvPicPr>
        <p:blipFill>
          <a:blip r:embed="rId2"/>
          <a:srcRect l="8194" t="0" r="8194" b="0"/>
          <a:stretch/>
        </p:blipFill>
        <p:spPr>
          <a:xfrm>
            <a:off x="4876920" y="2698920"/>
            <a:ext cx="3962160" cy="2320920"/>
          </a:xfrm>
          <a:prstGeom prst="rect">
            <a:avLst/>
          </a:prstGeom>
          <a:ln w="0">
            <a:noFill/>
          </a:ln>
        </p:spPr>
      </p:pic>
      <p:sp>
        <p:nvSpPr>
          <p:cNvPr id="44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Models for Thermal Estimation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rmal capacit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rmal resistanc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D8D2-7066-4109-9C6A-388EF69B7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5" descr=""/>
          <p:cNvPicPr/>
          <p:nvPr/>
        </p:nvPicPr>
        <p:blipFill>
          <a:blip r:embed="rId1"/>
          <a:stretch/>
        </p:blipFill>
        <p:spPr>
          <a:xfrm>
            <a:off x="5181480" y="3962520"/>
            <a:ext cx="2743200" cy="6858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"/>
          <p:cNvPicPr/>
          <p:nvPr/>
        </p:nvPicPr>
        <p:blipFill>
          <a:blip r:embed="rId2"/>
          <a:stretch/>
        </p:blipFill>
        <p:spPr>
          <a:xfrm>
            <a:off x="2133720" y="1371600"/>
            <a:ext cx="5900760" cy="24382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"/>
          <p:cNvPicPr/>
          <p:nvPr/>
        </p:nvPicPr>
        <p:blipFill>
          <a:blip r:embed="rId3"/>
          <a:stretch/>
        </p:blipFill>
        <p:spPr>
          <a:xfrm>
            <a:off x="4241880" y="4495680"/>
            <a:ext cx="4444920" cy="19051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"/>
          <p:cNvPicPr/>
          <p:nvPr/>
        </p:nvPicPr>
        <p:blipFill>
          <a:blip r:embed="rId4"/>
          <a:stretch/>
        </p:blipFill>
        <p:spPr>
          <a:xfrm>
            <a:off x="1295280" y="5580000"/>
            <a:ext cx="2934000" cy="6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dels for Power Estimation of Wi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dels for Power Estimation of On-Chip Communication Architectu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dels for Thermal Estim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PVT variation-aware Power Estim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6C53-CC51-4307-BEED-471A8BC0F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VT Variation-aware Power Estimation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sub 100nm DSM technologies, Process, Voltage and Temperature (PVT) variability is being observed, due t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creasing leakage power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 of power-aware design methodologies (voltage islands, DVS/DF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VT variability making it hard to achieve safe desig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ults in significant fluctuations in power (and tim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 (and timing) estimates from early in the design flow no longer val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siderable effort required later in design flow to account for variability-induced fluctu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7D0F-D293-4376-86A7-652C28B51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VT Variation-aware Power Estimation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434960" y="1219320"/>
            <a:ext cx="7499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ditional (current) power-aware design methodolog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ithout taking PVT variations into account, early power exploration results can lead to erroneous assump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F97D-F580-4FD0-8139-C5382DD97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28"/>
          <p:cNvSpPr/>
          <p:nvPr/>
        </p:nvSpPr>
        <p:spPr>
          <a:xfrm>
            <a:off x="5715000" y="21193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9"/>
          <p:cNvSpPr/>
          <p:nvPr/>
        </p:nvSpPr>
        <p:spPr>
          <a:xfrm>
            <a:off x="5715000" y="29574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30"/>
          <p:cNvSpPr/>
          <p:nvPr/>
        </p:nvSpPr>
        <p:spPr>
          <a:xfrm>
            <a:off x="6324480" y="257796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131"/>
          <p:cNvSpPr/>
          <p:nvPr/>
        </p:nvSpPr>
        <p:spPr>
          <a:xfrm>
            <a:off x="5867280" y="234936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32"/>
          <p:cNvSpPr/>
          <p:nvPr/>
        </p:nvSpPr>
        <p:spPr>
          <a:xfrm>
            <a:off x="5708520" y="4896000"/>
            <a:ext cx="451080" cy="515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3"/>
          <p:cNvSpPr/>
          <p:nvPr/>
        </p:nvSpPr>
        <p:spPr>
          <a:xfrm>
            <a:off x="6046920" y="4826160"/>
            <a:ext cx="474480" cy="496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2" name="AutoShape 134"/>
          <p:cNvCxnSpPr>
            <a:stCxn id="469" idx="6"/>
            <a:endCxn id="470" idx="1"/>
          </p:cNvCxnSpPr>
          <p:nvPr/>
        </p:nvCxnSpPr>
        <p:spPr>
          <a:xfrm flipH="1">
            <a:off x="5694120" y="2387520"/>
            <a:ext cx="264240" cy="2767680"/>
          </a:xfrm>
          <a:prstGeom prst="curvedConnector5">
            <a:avLst>
              <a:gd name="adj1" fmla="val -81309"/>
              <a:gd name="adj2" fmla="val 22999"/>
              <a:gd name="adj3" fmla="val -81309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AutoShape 135"/>
          <p:cNvCxnSpPr>
            <a:stCxn id="468" idx="1"/>
            <a:endCxn id="471" idx="3"/>
          </p:cNvCxnSpPr>
          <p:nvPr/>
        </p:nvCxnSpPr>
        <p:spPr>
          <a:xfrm flipH="1" rot="16200000">
            <a:off x="5185440" y="3723840"/>
            <a:ext cx="2500920" cy="200880"/>
          </a:xfrm>
          <a:prstGeom prst="curvedConnector5">
            <a:avLst>
              <a:gd name="adj1" fmla="val 56939"/>
              <a:gd name="adj2" fmla="val 103411"/>
              <a:gd name="adj3" fmla="val 56939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Rectangle 136"/>
          <p:cNvSpPr/>
          <p:nvPr/>
        </p:nvSpPr>
        <p:spPr>
          <a:xfrm>
            <a:off x="4038480" y="1890720"/>
            <a:ext cx="2971800" cy="1219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37"/>
          <p:cNvSpPr/>
          <p:nvPr/>
        </p:nvSpPr>
        <p:spPr>
          <a:xfrm>
            <a:off x="4038480" y="3186000"/>
            <a:ext cx="2971800" cy="1219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8"/>
          <p:cNvSpPr/>
          <p:nvPr/>
        </p:nvSpPr>
        <p:spPr>
          <a:xfrm>
            <a:off x="4038480" y="4481640"/>
            <a:ext cx="2971800" cy="1218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39"/>
          <p:cNvSpPr/>
          <p:nvPr/>
        </p:nvSpPr>
        <p:spPr>
          <a:xfrm>
            <a:off x="4046040" y="196704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40"/>
          <p:cNvSpPr/>
          <p:nvPr/>
        </p:nvSpPr>
        <p:spPr>
          <a:xfrm>
            <a:off x="4105800" y="32767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41"/>
          <p:cNvSpPr/>
          <p:nvPr/>
        </p:nvSpPr>
        <p:spPr>
          <a:xfrm>
            <a:off x="4081680" y="45910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42"/>
          <p:cNvSpPr/>
          <p:nvPr/>
        </p:nvSpPr>
        <p:spPr>
          <a:xfrm>
            <a:off x="4433760" y="2652840"/>
            <a:ext cx="533520" cy="685800"/>
          </a:xfrm>
          <a:prstGeom prst="downArrow">
            <a:avLst>
              <a:gd name="adj1" fmla="val 50000"/>
              <a:gd name="adj2" fmla="val 3213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43"/>
          <p:cNvSpPr/>
          <p:nvPr/>
        </p:nvSpPr>
        <p:spPr>
          <a:xfrm>
            <a:off x="4419720" y="3948120"/>
            <a:ext cx="533160" cy="685800"/>
          </a:xfrm>
          <a:prstGeom prst="downArrow">
            <a:avLst>
              <a:gd name="adj1" fmla="val 50000"/>
              <a:gd name="adj2" fmla="val 3215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53"/>
          <p:cNvSpPr/>
          <p:nvPr/>
        </p:nvSpPr>
        <p:spPr>
          <a:xfrm>
            <a:off x="5638680" y="471168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54"/>
          <p:cNvSpPr/>
          <p:nvPr/>
        </p:nvSpPr>
        <p:spPr>
          <a:xfrm>
            <a:off x="5638680" y="554976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55"/>
          <p:cNvSpPr/>
          <p:nvPr/>
        </p:nvSpPr>
        <p:spPr>
          <a:xfrm>
            <a:off x="6248520" y="5186520"/>
            <a:ext cx="7596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156"/>
          <p:cNvSpPr/>
          <p:nvPr/>
        </p:nvSpPr>
        <p:spPr>
          <a:xfrm>
            <a:off x="5791320" y="529272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57"/>
          <p:cNvSpPr/>
          <p:nvPr/>
        </p:nvSpPr>
        <p:spPr>
          <a:xfrm>
            <a:off x="5761080" y="1982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8"/>
          <p:cNvSpPr/>
          <p:nvPr/>
        </p:nvSpPr>
        <p:spPr>
          <a:xfrm>
            <a:off x="6346080" y="2257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59"/>
          <p:cNvSpPr/>
          <p:nvPr/>
        </p:nvSpPr>
        <p:spPr>
          <a:xfrm rot="10800000">
            <a:off x="5334120" y="2364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60"/>
          <p:cNvSpPr/>
          <p:nvPr/>
        </p:nvSpPr>
        <p:spPr>
          <a:xfrm rot="10800000">
            <a:off x="3142800" y="1752480"/>
            <a:ext cx="981000" cy="3810240"/>
          </a:xfrm>
          <a:custGeom>
            <a:avLst/>
            <a:gdLst>
              <a:gd name="textAreaLeft" fmla="*/ 131400 w 981000"/>
              <a:gd name="textAreaRight" fmla="*/ 849600 w 981000"/>
              <a:gd name="textAreaTop" fmla="*/ 666720 h 3810240"/>
              <a:gd name="textAreaBottom" fmla="*/ 2762640 h 381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61"/>
          <p:cNvSpPr/>
          <p:nvPr/>
        </p:nvSpPr>
        <p:spPr>
          <a:xfrm rot="10800000">
            <a:off x="5257440" y="497088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79"/>
          <p:cNvSpPr/>
          <p:nvPr/>
        </p:nvSpPr>
        <p:spPr>
          <a:xfrm rot="10800000">
            <a:off x="2695680" y="1872720"/>
            <a:ext cx="485280" cy="38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more time, cost, designer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83"/>
          <p:cNvSpPr/>
          <p:nvPr/>
        </p:nvSpPr>
        <p:spPr>
          <a:xfrm>
            <a:off x="5668920" y="4906800"/>
            <a:ext cx="4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84"/>
          <p:cNvSpPr/>
          <p:nvPr/>
        </p:nvSpPr>
        <p:spPr>
          <a:xfrm>
            <a:off x="6133320" y="4799160"/>
            <a:ext cx="4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9072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-chip communication architectures have a considerable impact on MPSoC power dissipation in DSM technolog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upling/parasitic capacitance increasingly domina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terconnect capacitance a large portion of chip capacitan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arge number of repeaters and vias to reduce wire delay in DSM technologies doubles power dissipation in interconnec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tate of the art communication architectures also have significant amounts of hardware logic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76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e.g., bridges, arbiters, decoders, buffers, etc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76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comparable to logic in embedded processors of moderate complexity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eed to create models for estimating power consumption of on-chip comm. architectures early in a design flow for MPSoC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2B8F-A494-42EC-B76F-59AA87922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VT Variation-aware Power Estimation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sricha et al. [VLSID 2008] presented several experimental results to motivate PVT variation aware power estimation at the system-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posed system level PVT corner analysis for more accurate power characterization of comm.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VT corners are library characterizations at design corners used by a foundry to communicate PVT variations to designer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late cell metrics (timing, power) to PVT vari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 until 130nm design tools relied on three corner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Typica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Wors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and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Bes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rners; +/- 20% variation among corn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gligible leakage;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ajor factor influencing power dissip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 sub-100nm UDSM, many more corners requir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ssential to analyze design across these corn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9743-863C-4C0C-A5E8-C11A3388A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VT Variation-aware Power Estimation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14264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pact of PVT variation on power dissipation of AMBA AHB bus matrix at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90n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gnificant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(as much as 10×) variation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power dissipation across PVT corners for on-chip comm.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5639-A15D-41B5-BB67-D0DE147B8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990720" y="2084400"/>
            <a:ext cx="8089920" cy="3581280"/>
          </a:xfrm>
          <a:prstGeom prst="rect">
            <a:avLst/>
          </a:prstGeom>
          <a:ln w="0">
            <a:noFill/>
          </a:ln>
        </p:spPr>
      </p:pic>
      <p:cxnSp>
        <p:nvCxnSpPr>
          <p:cNvPr id="503" name="Straight Arrow Connector 13"/>
          <p:cNvCxnSpPr/>
          <p:nvPr/>
        </p:nvCxnSpPr>
        <p:spPr>
          <a:xfrm flipH="1">
            <a:off x="6311520" y="2557440"/>
            <a:ext cx="2160" cy="22104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4" name="Straight Arrow Connector 14"/>
          <p:cNvCxnSpPr/>
          <p:nvPr/>
        </p:nvCxnSpPr>
        <p:spPr>
          <a:xfrm>
            <a:off x="5016960" y="3244320"/>
            <a:ext cx="11880" cy="15836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5" name="Straight Arrow Connector 15"/>
          <p:cNvCxnSpPr/>
          <p:nvPr/>
        </p:nvCxnSpPr>
        <p:spPr>
          <a:xfrm flipH="1">
            <a:off x="3733560" y="3673440"/>
            <a:ext cx="25920" cy="11548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6" name="Straight Arrow Connector 16"/>
          <p:cNvCxnSpPr/>
          <p:nvPr/>
        </p:nvCxnSpPr>
        <p:spPr>
          <a:xfrm>
            <a:off x="2498760" y="3852720"/>
            <a:ext cx="16560" cy="9756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VT Variation-aware Power Estimation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14264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pact of PVT variation on power dissipation of AMBA AHB bus matrix at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65n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gnificant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(as much as 10×) variation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power dissipation across PVT corners for on-chip comm.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69AA-C902-46B4-89A2-8996FD256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8077320" cy="3694320"/>
          </a:xfrm>
          <a:prstGeom prst="rect">
            <a:avLst/>
          </a:prstGeom>
          <a:ln w="0">
            <a:noFill/>
          </a:ln>
        </p:spPr>
      </p:pic>
      <p:cxnSp>
        <p:nvCxnSpPr>
          <p:cNvPr id="512" name="Straight Arrow Connector 11"/>
          <p:cNvCxnSpPr/>
          <p:nvPr/>
        </p:nvCxnSpPr>
        <p:spPr>
          <a:xfrm>
            <a:off x="6629400" y="2514600"/>
            <a:ext cx="15120" cy="20376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13" name="Straight Arrow Connector 17"/>
          <p:cNvCxnSpPr/>
          <p:nvPr/>
        </p:nvCxnSpPr>
        <p:spPr>
          <a:xfrm>
            <a:off x="5257800" y="3276720"/>
            <a:ext cx="16560" cy="1365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14" name="Straight Arrow Connector 18"/>
          <p:cNvCxnSpPr/>
          <p:nvPr/>
        </p:nvCxnSpPr>
        <p:spPr>
          <a:xfrm flipH="1">
            <a:off x="3915720" y="3739680"/>
            <a:ext cx="1080" cy="10501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15" name="Straight Arrow Connector 19"/>
          <p:cNvCxnSpPr/>
          <p:nvPr/>
        </p:nvCxnSpPr>
        <p:spPr>
          <a:xfrm>
            <a:off x="2538360" y="4135320"/>
            <a:ext cx="8640" cy="7200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804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VT Variation-aware Power Estimation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295280" y="1066680"/>
            <a:ext cx="7639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posed PVT-aware power exploration design methodolog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VT variation-aware early power exploration improves design reliability and reduces design time, cost and effor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6D4B-0363-426F-8AC7-2FEC3EE24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45"/>
          <p:cNvSpPr/>
          <p:nvPr/>
        </p:nvSpPr>
        <p:spPr>
          <a:xfrm>
            <a:off x="3444840" y="1827360"/>
            <a:ext cx="2971800" cy="1218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46"/>
          <p:cNvSpPr/>
          <p:nvPr/>
        </p:nvSpPr>
        <p:spPr>
          <a:xfrm>
            <a:off x="3444840" y="3122640"/>
            <a:ext cx="2971800" cy="1219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47"/>
          <p:cNvSpPr/>
          <p:nvPr/>
        </p:nvSpPr>
        <p:spPr>
          <a:xfrm>
            <a:off x="3444840" y="4417920"/>
            <a:ext cx="2971800" cy="1219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48"/>
          <p:cNvSpPr/>
          <p:nvPr/>
        </p:nvSpPr>
        <p:spPr>
          <a:xfrm>
            <a:off x="3452040" y="190332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49"/>
          <p:cNvSpPr/>
          <p:nvPr/>
        </p:nvSpPr>
        <p:spPr>
          <a:xfrm>
            <a:off x="3512160" y="3213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50"/>
          <p:cNvSpPr/>
          <p:nvPr/>
        </p:nvSpPr>
        <p:spPr>
          <a:xfrm>
            <a:off x="3488040" y="452772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51"/>
          <p:cNvSpPr/>
          <p:nvPr/>
        </p:nvSpPr>
        <p:spPr>
          <a:xfrm>
            <a:off x="3840120" y="2589120"/>
            <a:ext cx="533520" cy="685800"/>
          </a:xfrm>
          <a:prstGeom prst="downArrow">
            <a:avLst>
              <a:gd name="adj1" fmla="val 50000"/>
              <a:gd name="adj2" fmla="val 3213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52"/>
          <p:cNvSpPr/>
          <p:nvPr/>
        </p:nvSpPr>
        <p:spPr>
          <a:xfrm>
            <a:off x="3825720" y="3884760"/>
            <a:ext cx="533520" cy="685800"/>
          </a:xfrm>
          <a:prstGeom prst="downArrow">
            <a:avLst>
              <a:gd name="adj1" fmla="val 50000"/>
              <a:gd name="adj2" fmla="val 3213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62"/>
          <p:cNvSpPr/>
          <p:nvPr/>
        </p:nvSpPr>
        <p:spPr>
          <a:xfrm>
            <a:off x="5143680" y="20574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63"/>
          <p:cNvSpPr/>
          <p:nvPr/>
        </p:nvSpPr>
        <p:spPr>
          <a:xfrm>
            <a:off x="5143680" y="28954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64"/>
          <p:cNvSpPr/>
          <p:nvPr/>
        </p:nvSpPr>
        <p:spPr>
          <a:xfrm>
            <a:off x="5753160" y="251604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65"/>
          <p:cNvSpPr/>
          <p:nvPr/>
        </p:nvSpPr>
        <p:spPr>
          <a:xfrm>
            <a:off x="5295960" y="228744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66"/>
          <p:cNvSpPr/>
          <p:nvPr/>
        </p:nvSpPr>
        <p:spPr>
          <a:xfrm>
            <a:off x="5184720" y="4865760"/>
            <a:ext cx="254160" cy="190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67"/>
          <p:cNvSpPr/>
          <p:nvPr/>
        </p:nvSpPr>
        <p:spPr>
          <a:xfrm>
            <a:off x="5521320" y="5057640"/>
            <a:ext cx="374760" cy="184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AutoShape 168"/>
          <p:cNvCxnSpPr>
            <a:stCxn id="531" idx="6"/>
            <a:endCxn id="532" idx="1"/>
          </p:cNvCxnSpPr>
          <p:nvPr/>
        </p:nvCxnSpPr>
        <p:spPr>
          <a:xfrm flipH="1">
            <a:off x="5169960" y="2325600"/>
            <a:ext cx="216720" cy="2635920"/>
          </a:xfrm>
          <a:prstGeom prst="curvedConnector5">
            <a:avLst>
              <a:gd name="adj1" fmla="val -30116"/>
              <a:gd name="adj2" fmla="val 24450"/>
              <a:gd name="adj3" fmla="val -3011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5" name="AutoShape 169"/>
          <p:cNvCxnSpPr>
            <a:stCxn id="530" idx="1"/>
            <a:endCxn id="533" idx="3"/>
          </p:cNvCxnSpPr>
          <p:nvPr/>
        </p:nvCxnSpPr>
        <p:spPr>
          <a:xfrm flipH="1" rot="16200000">
            <a:off x="4518720" y="3758400"/>
            <a:ext cx="2637360" cy="146520"/>
          </a:xfrm>
          <a:prstGeom prst="curvedConnector5">
            <a:avLst>
              <a:gd name="adj1" fmla="val 50197"/>
              <a:gd name="adj2" fmla="val 123152"/>
              <a:gd name="adj3" fmla="val 5019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6" name="Line 170"/>
          <p:cNvSpPr/>
          <p:nvPr/>
        </p:nvSpPr>
        <p:spPr>
          <a:xfrm>
            <a:off x="5067360" y="464976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71"/>
          <p:cNvSpPr/>
          <p:nvPr/>
        </p:nvSpPr>
        <p:spPr>
          <a:xfrm>
            <a:off x="5067360" y="54878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72"/>
          <p:cNvSpPr/>
          <p:nvPr/>
        </p:nvSpPr>
        <p:spPr>
          <a:xfrm>
            <a:off x="5676840" y="509256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173"/>
          <p:cNvSpPr/>
          <p:nvPr/>
        </p:nvSpPr>
        <p:spPr>
          <a:xfrm>
            <a:off x="5267160" y="494352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74"/>
          <p:cNvSpPr/>
          <p:nvPr/>
        </p:nvSpPr>
        <p:spPr>
          <a:xfrm>
            <a:off x="5189400" y="1762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75"/>
          <p:cNvSpPr/>
          <p:nvPr/>
        </p:nvSpPr>
        <p:spPr>
          <a:xfrm>
            <a:off x="5981040" y="1994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76"/>
          <p:cNvSpPr/>
          <p:nvPr/>
        </p:nvSpPr>
        <p:spPr>
          <a:xfrm rot="10800000">
            <a:off x="4762080" y="230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77"/>
          <p:cNvSpPr/>
          <p:nvPr/>
        </p:nvSpPr>
        <p:spPr>
          <a:xfrm rot="10800000">
            <a:off x="4686480" y="490896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78"/>
          <p:cNvSpPr/>
          <p:nvPr/>
        </p:nvSpPr>
        <p:spPr>
          <a:xfrm rot="10800000">
            <a:off x="6321600" y="1920600"/>
            <a:ext cx="723600" cy="3314520"/>
          </a:xfrm>
          <a:custGeom>
            <a:avLst/>
            <a:gdLst>
              <a:gd name="textAreaLeft" fmla="*/ 96840 w 723600"/>
              <a:gd name="textAreaRight" fmla="*/ 626760 w 723600"/>
              <a:gd name="textAreaTop" fmla="*/ 681120 h 3314520"/>
              <a:gd name="textAreaBottom" fmla="*/ 2301840 h 331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78" stAng="-5400000" swAng="-5400000"/>
                <a:lnTo>
                  <a:pt x="0" y="10562"/>
                </a:lnTo>
                <a:arcTo wR="21600" hR="8878" stAng="10800000" swAng="-3630442"/>
                <a:lnTo>
                  <a:pt x="16709" y="21369"/>
                </a:lnTo>
                <a:lnTo>
                  <a:pt x="21600" y="18598"/>
                </a:lnTo>
                <a:lnTo>
                  <a:pt x="16709" y="15365"/>
                </a:lnTo>
                <a:lnTo>
                  <a:pt x="16709" y="17525"/>
                </a:lnTo>
                <a:arcTo wR="21600" hR="8878" stAng="7169558" swAng="3495895"/>
                <a:lnTo>
                  <a:pt x="97" y="9720"/>
                </a:lnTo>
                <a:arcTo wR="21600" hR="8878" stAng="-10665453" swAng="5265453"/>
                <a:close/>
              </a:path>
              <a:path fill="darkenLess" w="21600" h="21600">
                <a:moveTo>
                  <a:pt x="21600" y="0"/>
                </a:moveTo>
                <a:arcTo wR="21600" hR="8878" stAng="-5400000" swAng="-5400000"/>
                <a:lnTo>
                  <a:pt x="0" y="8878"/>
                </a:lnTo>
                <a:arcTo wR="21600" hR="8878" stAng="10800000" swAng="-134547"/>
                <a:lnTo>
                  <a:pt x="97" y="9720"/>
                </a:lnTo>
                <a:arcTo wR="21600" hR="8878" stAng="-10665453" swAng="5265453"/>
                <a:close/>
              </a:path>
            </a:pathLst>
          </a:custGeom>
          <a:solidFill>
            <a:srgbClr val="ffcc66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80"/>
          <p:cNvSpPr/>
          <p:nvPr/>
        </p:nvSpPr>
        <p:spPr>
          <a:xfrm>
            <a:off x="6982200" y="1812240"/>
            <a:ext cx="48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less time, cost, designer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81"/>
          <p:cNvSpPr/>
          <p:nvPr/>
        </p:nvSpPr>
        <p:spPr>
          <a:xfrm>
            <a:off x="5216400" y="2093760"/>
            <a:ext cx="335160" cy="338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82"/>
          <p:cNvSpPr/>
          <p:nvPr/>
        </p:nvSpPr>
        <p:spPr>
          <a:xfrm>
            <a:off x="5603760" y="2451240"/>
            <a:ext cx="392400" cy="315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85"/>
          <p:cNvSpPr/>
          <p:nvPr/>
        </p:nvSpPr>
        <p:spPr>
          <a:xfrm>
            <a:off x="5217840" y="4451400"/>
            <a:ext cx="4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86"/>
          <p:cNvSpPr/>
          <p:nvPr/>
        </p:nvSpPr>
        <p:spPr>
          <a:xfrm>
            <a:off x="5682240" y="4632480"/>
            <a:ext cx="4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VT Variation-aware Power Estimation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rom experimental results, it was determined that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ower consumption for a PVT corner scales almost linearly with freq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ower consumption numbers obtained for different PVT corners show an almost constant ratio relative to each oth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et power consumption of bus matrix comm. architecture for an implementation with PVT corner 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</a:rPr>
              <a:t>C1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be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Gill Sans MT"/>
              </a:rPr>
              <a:t>C1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</a:rPr>
              <a:t> = P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Gill Sans MT"/>
              </a:rPr>
              <a:t>L1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</a:rPr>
              <a:t> + P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Gill Sans MT"/>
              </a:rPr>
              <a:t>D1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</a:rPr>
              <a:t> × freq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;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L1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– leakage power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D1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– dynamic pow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en power consumption for an implementation under any other PVT corner 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</a:rPr>
              <a:t>C2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can be expressed as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Gill Sans MT"/>
              </a:rPr>
              <a:t>C2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</a:rPr>
              <a:t> = α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Gill Sans MT"/>
              </a:rPr>
              <a:t>1-2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</a:rPr>
              <a:t> × P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Gill Sans MT"/>
              </a:rPr>
              <a:t>L1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</a:rPr>
              <a:t> + β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Gill Sans MT"/>
              </a:rPr>
              <a:t>1-2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</a:rPr>
              <a:t> × P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Gill Sans MT"/>
              </a:rPr>
              <a:t>D1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</a:rPr>
              <a:t> × freq</a:t>
            </a:r>
            <a:r>
              <a:rPr b="0" i="1" lang="en-US" sz="22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; 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1-2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, 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1-2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are scaling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 rel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E3E1-C96F-4E01-A851-B96800F3C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VT Variation-aware Power Estimation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Values of scaling factors α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ill Sans MT"/>
              </a:rPr>
              <a:t>1-2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, β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ill Sans MT"/>
              </a:rPr>
              <a:t>1-2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found by decomposing total power into leakage and dynamic for PVT corn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s shown for 65 nm bus matrix cas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ess than 5% error for dynamic power and less than 10% error for leakage power in most cas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F278-8A2F-47CA-AA63-C08292FF5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1752480" y="2625840"/>
            <a:ext cx="6400800" cy="301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umma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 is increasingly becoming a first class design objecti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rmal effects of power essential to consider in today’s desig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ibution of on-chip communication architectures to the overall chip power is rapidly increasing as technology sca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ritical need for accurate estimation mode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sented an overview of several approaches to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wer consumption of bus wires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wer consumption of bus logic compon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rmal effects of signal propagation on interconne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VT vari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 of these models are most useful when incorporated into larger frameworks used for communication architecture design/synthesis in an ESL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6958-ED1B-47F1-AF2F-A0C1661E2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sp>
        <p:nvSpPr>
          <p:cNvPr id="56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2DF2-7B4C-4369-9434-9FE932D12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90360" y="1447560"/>
            <a:ext cx="3352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wer and thermal estimation models in a typical electronic system level (ESL) design flow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ed to be close to implementation to get accurate power and thermal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allenge: extrapolating information from lower levels in the design flow up to the system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4BDD-0D2B-467D-964B-ED15FF532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343400" y="457200"/>
            <a:ext cx="472428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Models for Power Estimation of Wi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dels for Power Estimation of On-Chip Communication Architectu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dels for Thermal Estim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VT variation-aware Power Estim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EB1C-9EEC-4C4D-8D1E-CCAA96C91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us Wire Power Mode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 consumption in CMOS logic gates can be expressed by the following general equa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ke logic gates, wires have a capacitance as we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presents charge to be added/removed to change electrical potenti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enever a data bit is transmitted on a bus wire, the charging and discharging of this wire capacitance results in power consump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urate modeling of wire capacitance is a non-trivial tas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ructure of a wire in contemporary integrated circuits (ICs) is 3-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pacitance of such a wire is a complex function of its shape, environment, distance to substrate, distance to surrounding wires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EE0D-077D-4186-9A36-A3A0B57DF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49611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us Wire Power Mode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rly work expressed bus wire power consumption 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r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tran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mming distance for a 16 bit wide bu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ord on the bus at time t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100010001100110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ord on the bus at time t +1 is 1001100110001000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en                         is the number of bit-flips = 4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A359-D9D4-4FEA-A472-473102DBB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3505320" cy="1042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2743200" y="3276720"/>
            <a:ext cx="4114800" cy="1092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"/>
          <p:cNvPicPr/>
          <p:nvPr/>
        </p:nvPicPr>
        <p:blipFill>
          <a:blip r:embed="rId3"/>
          <a:stretch/>
        </p:blipFill>
        <p:spPr>
          <a:xfrm>
            <a:off x="2500200" y="5665680"/>
            <a:ext cx="16909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sudeep</cp:lastModifiedBy>
  <dcterms:modified xsi:type="dcterms:W3CDTF">2008-05-02T01:30:16Z</dcterms:modified>
  <cp:revision>331</cp:revision>
  <dc:subject/>
  <dc:title>On Chip Communication Architectures</dc:title>
</cp:coreProperties>
</file>