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BCF44-86EA-4B22-8CEF-3A09694D7C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59E35-C6D1-4202-9107-3FCFF66DCE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1D49D-C807-4AFD-97D0-FD6B55C9B7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DB5B4-D48D-4814-8017-EEB19C4B4E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41449-E324-47ED-8A27-6FC45D8666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FAECCC-1102-4007-B54A-C73589C1C7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6C9A4-8550-4468-8A81-BB3B013875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A02210-F89F-44B4-96D8-66ACB5C8DA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E2B3B5-D6DD-4432-965E-387F3E2095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AC914C-AFC7-4A4F-957F-D5F729A54C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30E2B0-B855-4996-84BF-F01CAFCEAD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83333-DA9C-434A-BD60-C4D5637918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E0D19-E45B-4DE8-AD13-89B069DEF1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4658FE-89BB-4360-A43B-8DECC52576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F51D0-97EB-46F2-9593-02124EC3BA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34DFA-CF74-47C3-9D3D-3CD9E53DC8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320869-EDE2-4B9E-B166-DE3A1DB7D9E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8B9480-C102-4E2E-AA57-CBD59A128EE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767D40-C92E-4F6B-8B9C-7C45B0A3774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139E8A-25F0-40FC-B69C-73639A519C3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71D03-F18C-4C98-BF55-36018279A81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652E4-5018-403F-9F6B-E389EB9658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3C66D-A2D0-4A68-AA88-581DA9E8253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FBC75-0E21-4441-91F9-3DBC1F136A9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9DAA9-8B07-48EA-85C9-25F4103C26B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60BBC-F952-4EB7-B2C6-E1DD745AF8E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35DAF-EDB7-44DE-B3D6-E82FA744BBE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7ABF0-556B-4F2C-91D9-DBD8833906F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F0A75-EED7-4923-A48F-B3CC8742C92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3DEB37-20B7-4C1A-B891-3D46C2DA415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3CF76E-D134-457A-838D-E0C62C367D1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EDC257-2A20-4E94-9B1E-08000D789DA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03B490-ABEA-49C8-A8F2-B260B382E3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70533-8694-4B3D-874B-0B226C0980A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6A73C9-EFCF-4C7F-8009-98214A1F3BC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2EA7C6-599A-486A-815B-E5B433B7B94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A43D9C-178B-47E6-8CA2-5307729A26E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5D3AFC-8D4E-4974-95F7-847E74AA664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B794F8-69D6-4358-8B94-82905B1EA04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1CEDE4-2441-4AD9-B2DE-C127E00D9E1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2B20CC-F23E-4119-B928-30A4A8F1541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4AFC4F-31C1-4C91-A8B2-633D513F9B1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B5BA40-D9FD-4CA0-A6A2-25EFBA457C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64D9F-A920-4B9C-9C17-273FBC4FB7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89190-B0DF-456B-B400-8D4F6FDE3C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79A8A-E792-442A-BD2A-50B22F2D89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E9A43-7259-45D7-8C2B-FA06647FCF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5B128-50B7-48CD-A127-314591448B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02B4-B6CA-4999-AF85-98ACA69B8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0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5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5508B-67CA-47CF-95C2-73A7350F2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6908-1662-4467-A4FE-2606310D3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48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C54E-7527-4AB9-8DD0-1D5DF0FA3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On-Chip Communication Architectur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0e04"/>
                </a:solidFill>
                <a:latin typeface="Gill Sans MT"/>
              </a:rPr>
              <a:t>Networks-on-Chip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ICS 295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Sudeep Pasricha and Nikil Dut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Slides based on book chapter 12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4" name="Picture 5" descr=""/>
          <p:cNvPicPr/>
          <p:nvPr/>
        </p:nvPicPr>
        <p:blipFill>
          <a:blip r:embed="rId1"/>
          <a:stretch/>
        </p:blipFill>
        <p:spPr>
          <a:xfrm>
            <a:off x="6000840" y="1828800"/>
            <a:ext cx="3143160" cy="3143160"/>
          </a:xfrm>
          <a:prstGeom prst="rect">
            <a:avLst/>
          </a:prstGeom>
          <a:ln w="0">
            <a:noFill/>
          </a:ln>
        </p:spPr>
      </p:pic>
      <p:sp>
        <p:nvSpPr>
          <p:cNvPr id="195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6F1B-F83D-4E3B-B9EA-5D9C92763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ooter Placeholder 6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oC Topolog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06632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rus topology, also called a k-ary n-cube, is an n-dimensional grid with k nodes in each dimens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k-ary 1-cube (1-D torus) is essentially a ring network with k nod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imited scalability as performance decreases when more nod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k-ary 2-cube (i.e., 2-D torus) topology i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milar to a regular mesh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xcept that nodes at the edges are connecte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o switches at the opposite edge via wrap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round channel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ong end-around connections can, however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ead to excessive delay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ECD3-3B38-457B-9FF1-D737F14D5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C:\work\comm_arch_book_06\book ppt\image116.png"/>
          <p:cNvPicPr/>
          <p:nvPr/>
        </p:nvPicPr>
        <p:blipFill>
          <a:blip r:embed="rId1"/>
          <a:stretch/>
        </p:blipFill>
        <p:spPr>
          <a:xfrm>
            <a:off x="3352680" y="3087720"/>
            <a:ext cx="2791080" cy="7984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C:\work\comm_arch_book_06\book ppt\image117.png"/>
          <p:cNvPicPr/>
          <p:nvPr/>
        </p:nvPicPr>
        <p:blipFill>
          <a:blip r:embed="rId2"/>
          <a:stretch/>
        </p:blipFill>
        <p:spPr>
          <a:xfrm>
            <a:off x="6448320" y="4114800"/>
            <a:ext cx="25434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oC Topolog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lding torus topology overcomes the long link limitation of a 2-D toru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inks have the same siz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hes and tori can be extended by adding bypass links to increase performance at the cost of higher are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4275-D56B-4E84-A758-9C0F58EFB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2" descr="C:\work\comm_arch_book_06\book ppt\image118.png"/>
          <p:cNvPicPr/>
          <p:nvPr/>
        </p:nvPicPr>
        <p:blipFill>
          <a:blip r:embed="rId1"/>
          <a:stretch/>
        </p:blipFill>
        <p:spPr>
          <a:xfrm>
            <a:off x="3648240" y="2666880"/>
            <a:ext cx="27828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oC Topolog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066320" y="1447560"/>
            <a:ext cx="7867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ctagon topology is another example of a direct networ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essages being sent between any 2 nodes require at most two hop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ore octagons can be tiled together to accommodate larger desig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y using one of the nodes is used as a bridge nod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8B5C-590A-4CCB-8265-17B0DAEA7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3" descr="C:\work\comm_arch_book_06\book ppt\image119.png"/>
          <p:cNvPicPr/>
          <p:nvPr/>
        </p:nvPicPr>
        <p:blipFill>
          <a:blip r:embed="rId1"/>
          <a:stretch/>
        </p:blipFill>
        <p:spPr>
          <a:xfrm>
            <a:off x="3276720" y="3419640"/>
            <a:ext cx="312408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oC Topolog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direct Topolog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ach node is connected to an external switch, and switches have point-to-point links to other switch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witches do not perform any information processing, and correspondingly nodes do not perform any packet switch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.g. SPIN, crossbar topologie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at tree topolog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odes are connected only to the leaves of the tre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ore links near root, where bandwidth requirements are high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0C1E-2388-4002-B778-C2DACF527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C:\work\comm_arch_book_06\book ppt\image120.png"/>
          <p:cNvPicPr/>
          <p:nvPr/>
        </p:nvPicPr>
        <p:blipFill>
          <a:blip r:embed="rId1"/>
          <a:stretch/>
        </p:blipFill>
        <p:spPr>
          <a:xfrm>
            <a:off x="3533760" y="4800600"/>
            <a:ext cx="30956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oC Topolog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-ary n-fly butterfly networ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locking multi-stage network – packets may be temporarily blocked or dropped in the network if contention occu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nodes, and n stages of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n-1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k x k crossba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.g.  2-ary 3-fly butterfly networ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B269-02E5-4873-8638-06CEFD363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3" descr="C:\work\comm_arch_book_06\book ppt\image121.png"/>
          <p:cNvPicPr/>
          <p:nvPr/>
        </p:nvPicPr>
        <p:blipFill>
          <a:blip r:embed="rId1"/>
          <a:stretch/>
        </p:blipFill>
        <p:spPr>
          <a:xfrm>
            <a:off x="2819520" y="3300480"/>
            <a:ext cx="339084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oC Topolog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066320" y="1447560"/>
            <a:ext cx="7867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m, n, r) symmetric Clos networ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ree-stage network in which each stage is made up of a number of crossbar switch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 is the no. of middle-stage switch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 is the number of input/outpu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odes on each input/output switc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 is the number of input and outpu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witch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.g. (3, 3, 4) Clos networ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on-blocking networ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xpensive (several full crossbar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8B18-114A-453B-9DAC-C5269FCEC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" descr="C:\work\comm_arch_book_06\book ppt\image122.png"/>
          <p:cNvPicPr/>
          <p:nvPr/>
        </p:nvPicPr>
        <p:blipFill>
          <a:blip r:embed="rId1"/>
          <a:stretch/>
        </p:blipFill>
        <p:spPr>
          <a:xfrm>
            <a:off x="5715000" y="2362320"/>
            <a:ext cx="316224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oC Topolog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066320" y="1447560"/>
            <a:ext cx="7867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enes networ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arrangeable network in which paths may have to be rearranged to provide a connection, requiring an appropriate controll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os topology composed of 2 x 2 switch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.g. (2, 2, 4) re-arrangeable Clos network constructed using two (2, 2, 2) Clos networks with 4 x 4 middle switch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49C9-2F53-4A3D-B308-A2462BB92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C:\work\comm_arch_book_06\book ppt\image123.png"/>
          <p:cNvPicPr/>
          <p:nvPr/>
        </p:nvPicPr>
        <p:blipFill>
          <a:blip r:embed="rId1"/>
          <a:stretch/>
        </p:blipFill>
        <p:spPr>
          <a:xfrm>
            <a:off x="2819520" y="3733920"/>
            <a:ext cx="403848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oC Topolog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142640" y="1447560"/>
            <a:ext cx="7791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rregular or ad hoc network topolog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ustomized for an applic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sually a mix of shared bus, direct, and indirect network topologi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.g.  reduced mesh, cluster-based hybrid topolog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8BF9-D490-4A22-B482-A2502CB4D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C:\work\comm_arch_book_06\book ppt\image124.png"/>
          <p:cNvPicPr/>
          <p:nvPr/>
        </p:nvPicPr>
        <p:blipFill>
          <a:blip r:embed="rId1"/>
          <a:stretch/>
        </p:blipFill>
        <p:spPr>
          <a:xfrm>
            <a:off x="1295280" y="3276720"/>
            <a:ext cx="3095640" cy="31431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3" descr="C:\work\comm_arch_book_06\book ppt\image125.png"/>
          <p:cNvPicPr/>
          <p:nvPr/>
        </p:nvPicPr>
        <p:blipFill>
          <a:blip r:embed="rId2"/>
          <a:stretch/>
        </p:blipFill>
        <p:spPr>
          <a:xfrm>
            <a:off x="5486400" y="3505320"/>
            <a:ext cx="305748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utli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066320" y="12949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C Topolog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Switching strategi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outing algorith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low control schem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ocking schem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C Architecture Examp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atus and Open Proble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D586-38EB-4CC6-9CF7-AA14CEC85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witching strategi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06632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termine how data flows through routers in the networ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e granularity of data transfer and applied switching techniqu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hit is a unit of data that is transferred on a link in a single cyc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ypically, phit size = flit siz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AFE4-1614-42E4-8C3A-D25E916DB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2" descr="C:\work\comm_arch_book_06\book ppt\image126.png"/>
          <p:cNvPicPr/>
          <p:nvPr/>
        </p:nvPicPr>
        <p:blipFill>
          <a:blip r:embed="rId1"/>
          <a:stretch/>
        </p:blipFill>
        <p:spPr>
          <a:xfrm>
            <a:off x="2286000" y="3581280"/>
            <a:ext cx="5195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utli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066320" y="12949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C Topolog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witching strategi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outing algorith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low control schem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ocking schem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C Architecture Examp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atus and Open Proble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7F32-BC51-4E70-BFF1-EB08BADE2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witching strategi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wo main modes of transporting flits in a NoC are circuit switching and packet switch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hysical path between the source and the destination is reserved prior to the transmission of dat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essage header flit traverses the network from the source to the destination, reserving links along the wa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dvantage: low latency transfers, once path is reserv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isadvantage: pure circuit switching does not scale well with NoC siz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everal links are occupied for the duration of the transmitted data, even when no data is being transmitted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r instance in the setup and tear down phase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7346-ABD1-42C6-AECC-04E53BA6E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witching strategi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irtual circuit switch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reates virtual circuits that are multiplexed on link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umber of virtual links (or virtual channels (VCs)) that can be supported by a physical link depends on buffers allocated to lin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ossible to allocate either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ne buffer per virtual link or one buffer per physical lin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llocating one buffer per virtual lin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depends on how virtual circuits are spatially distributed in the NoC, routers can have a different number of buffer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an be expensive due to the large number of shared buffer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ultiplexing virtual circuits on a single link also requires scheduling at each router and link (end-to-end schedule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onflicts between different schedules can make it difficult to achieve bandwidth and latency guarante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4F77-8FF9-40E4-9E9D-76545738B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witching strategi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142640" y="1447560"/>
            <a:ext cx="7791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llocating one buffer per physical lin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virtual circuits are time multiplexed with a single buffer per link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ses time division multiplexing (TDM) to statically schedule the usage of links among virtual circuit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lits are typically buffered at the NIs and sent into the NoC according to the TDM schedul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global scheduling with TDM makes it easier to achieve end-to-end bandwidth and latency guarante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ess expensive router implementation, with fewer buffer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FFBF-667A-4D31-B6FC-B0A21A78B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witching strategi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ackets are transmitted from source and make their way independently to receiv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7040" indent="-20556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ossibly along different routes and with different delay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zero start up time, followed by a variable delay due to contention in routers along packet pat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QoS guarantees are harder to make in packet switching than in circuit switch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ree main packet switching scheme varian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F switch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acket is sent from one router to the next only if the receiving router has buffer space for entire packe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uffer size in the router is at least equal to the size of a packe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isadvantage: excessive buffer requiremen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ECAF-FBCD-4346-AD33-D0868605B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witching strategi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06632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CT Switch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duces router latency over SAF switching by forwarding first flit of a packet as soon as space for the entire packet is available in the next rout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f no space is available in receiving buffer, no flits are sent, and the entire packet is buffer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ame buffering requirements as SAF switch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 switch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lit from a packet is forwarded to receiving router if space exists for that fli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arts of the packet can be distributed among two or more rout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uffer requirements are reduced to one flit, instead of an entire packe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ore susceptible to deadlocks due to usage dependencies between link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85EF-9270-4CA6-856F-CD4EBD7BC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utli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1066320" y="12949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C Topolog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witching strategi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Routing algorith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low control schem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ocking schem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C Architecture Examp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atus and Open Proble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5B30-7251-4DC1-8EFC-D6172118D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outing algorithm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14264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ponsible for correctly and efficiently routing packets or circuits from the source to the destin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oice of a routing algorithm depends on trade-offs between several potentially conflicting metric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inimizing power required for rout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inimizing logic and routing tables to achieve a lower area footpri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creasing performance by reducing delay and maximizing traffic utilization of the networ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mproving robustness to better adapt to changing traffic need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outing schemes can be classified into several categor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tatic or dynamic rout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istributed or source rout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inimal or non-minimal rout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4C76-A749-4ED2-BD19-457600F5E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outing algorithm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434960" y="1294920"/>
            <a:ext cx="7499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tic and dynamic rou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tatic routing: fixed paths are used to transfer data between a particular source and destin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3680" indent="-2124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does not take into account current state of the network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dvantages of static routing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3680" indent="-2124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asy to implement, since very little additional router logic is required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23680" indent="-2124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n-order packet delivery if single path is used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ynamic routing: routing decisions are made according to the current state of the networ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3680" indent="-2124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onsidering factors such as availability and load on link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ath between source and destination may change over tim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3680" indent="-2124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s traffic conditions and requirements of the application chang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ore resources needed to monitor state of the network and dynamically change routing path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ble to better distribute traffic in a networ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7CE3-F2C3-4C69-B4D1-336ED7698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outing algorithm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066320" y="12949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stributed and source rou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tatic and dynamic routing schemes can be further classified depending on where the routing information is stored, and where routing decisions are mad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istributed routing: each packet carries the destination addres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.g., XY co-ordinates or number identifying destination node/route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routing decisions are made in each router by looking up the destination addresses in a routing table or by executing a hardware func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ource routing: packet carries routing inform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re-computed routing tables are stored at a nodes’ NI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routing information is looked up at the source NI and routing information is added to the header of the packet (increasing packet size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hen a packet arrives at a router, the routing information is extracted from the routing field in the packet header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does not require a destination address in a packet, any intermediate routing tables, or functions needed to calculate the rout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E984-3E1B-4BA0-8230-DF618BEA5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outing algorithm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06632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inimal and non-minimal rou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inimal routing: length of the routing path from the source to the destination is the shortest possible length between the two nod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.g. in a mesh NoC topology (where each node can be identified by its XY co-ordinates in the grid) if source node is at (0, 0) and destination node is at (i, j), then the minimal path length is |i| + |j|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ource does not start sending a packet if minimal path is not availabl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on-minimal routing: can use longer paths if a minimal path is not availab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y allowing non-minimal paths, the number of alternative paths is increased, which can be useful for avoiding conges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disadvantage: overhead of additional power consump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0930-CFE4-401C-8EA3-7499D3107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troduc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volution of on-chip communication architectur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F416-C4EC-49F2-A354-4DF133789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C:\work\comm_arch_book_06\book ppt\image113.png"/>
          <p:cNvPicPr/>
          <p:nvPr/>
        </p:nvPicPr>
        <p:blipFill>
          <a:blip r:embed="rId1"/>
          <a:stretch/>
        </p:blipFill>
        <p:spPr>
          <a:xfrm>
            <a:off x="1219320" y="2286000"/>
            <a:ext cx="76597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outing algorithm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219320"/>
            <a:ext cx="7499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outing algorithm must ensure freedom from deadloc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mmon in WH switch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.g. cyclic dependency shown below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reedom from deadlocks can be ensured by allocating additional hardware resources or imposing restrictions on the rout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sually dependency graph of the shared network resources is built and analyzed either statically or dynamicall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CB74-649F-4702-B936-4B4676F3D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2" descr="C:\work\comm_arch_book_06\book ppt\image127.png"/>
          <p:cNvPicPr/>
          <p:nvPr/>
        </p:nvPicPr>
        <p:blipFill>
          <a:blip r:embed="rId1"/>
          <a:stretch/>
        </p:blipFill>
        <p:spPr>
          <a:xfrm>
            <a:off x="3409920" y="2438280"/>
            <a:ext cx="314316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outing algorithm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294920"/>
            <a:ext cx="7499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outing algorithm must ensure freedom from liveloc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ivelocks are similar to deadlocks, except that states of the resources involved constantly change with regard to one another, without making any progres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88400" indent="-2034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ccurs especially when dynamic (adaptive) routing is used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788400" indent="-2034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.g. can occur in a deflective “hot potato” routing if a packet is bounced around over and over again between routers and never reaches its destina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ivelocks can be avoided with simple priority rul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outing algorithm must ensure freedom from starv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nder scenarios where certain packets are prioritized during routing, some of the low priority packets never reach their intended destin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n be avoided by using a fair routing algorithm, or reserving some bandwidth for low priority data packe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788400" indent="-2034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B531-6F88-4A5E-A2C5-523429EC3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utli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066320" y="12949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C Topolog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witching strategi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outing algorith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Flow control schem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ocking schem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C Architecture Examp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atus and Open Proble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A327-0AE6-4D2E-A993-2DE29913F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Flow control schem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142640" y="12193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oal of flow control is to allocate network resources for packets traversing a No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n also be viewed as a problem of resolving contention during packet traversa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t the data link-layer level, when transmission errors occur, recovery from the error depends on the support provided by the flow control mechanis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.g. if a corrupted packet needs to be retransmitted, flow of packets from the sender must be stopped, and request signaling must be performed to reallocate buffer and bandwidth resourc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st flow control techniques can manage link conges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t not all schemes can (by themselves) reallocate all the resources required for retransmission when errors occu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ither error correction or a scheme to handle reliable transfers must be implemented at a higher lay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0EBB-144E-4379-9A2B-19C7FA0D1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Flow control schem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142640" y="12193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LL/G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w overhead schem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quires only two control wir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ne going forward and signaling data availabilit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e other going backward and signaling either a condition of buffers filled (STALL) or of buffers free (GO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n be implemented with distributed buffering (pipelining) along lin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good performance – fast recovery from conges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oes not have any provision for fault handl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igher level protocols responsible for handling flit interrup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518B-A3C0-409A-92CD-34FA10F0B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2" descr="C:\work\comm_arch_book_06\book ppt\image128.png"/>
          <p:cNvPicPr/>
          <p:nvPr/>
        </p:nvPicPr>
        <p:blipFill>
          <a:blip r:embed="rId1"/>
          <a:stretch/>
        </p:blipFill>
        <p:spPr>
          <a:xfrm>
            <a:off x="1981080" y="1295280"/>
            <a:ext cx="546732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Flow control schem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9144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-Err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ore aggressive scheme that can detect fault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y making use of a second delayed clock at every buffer stag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layed clock re-samples input data to detect any inconsistenci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en emits a VALID control signa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synchronization stage added between end of link and receiving switc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o handle offset between original and delayed clock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iming budget can be used to provide greater reliability by configuring links with appropriate spacing and frequenc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oes not provide a thorough fault handling mechanis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4253-5644-439D-BBEB-D8E5A60C8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3" descr="C:\work\comm_arch_book_06\book ppt\image129.png"/>
          <p:cNvPicPr/>
          <p:nvPr/>
        </p:nvPicPr>
        <p:blipFill>
          <a:blip r:embed="rId1"/>
          <a:stretch/>
        </p:blipFill>
        <p:spPr>
          <a:xfrm>
            <a:off x="1905120" y="1752480"/>
            <a:ext cx="638172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Flow control scheme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9144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K/NAC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hen flits are sent on a link, a local copy is kept in a buffer by send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hen ACK received by sender, it deletes copy of flit from its local buff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hen NACK is received, sender rewinds its output queue and starts resending flits, starting from the corrupted o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mplemented either end-to-end or switch-to-switc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nder needs to have a buffer of size 2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N + 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7040" indent="-20556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N is number of buffers encountered between source and destina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797040" indent="-20556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k depends on latency of logic at the sender and receive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verall a minimum of 3N + k buffers are requir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ault handling support comes at cost of greater power, area overhea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B540-B5D4-4941-B254-F734E412F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2" descr="C:\work\comm_arch_book_06\book ppt\image130.png"/>
          <p:cNvPicPr/>
          <p:nvPr/>
        </p:nvPicPr>
        <p:blipFill>
          <a:blip r:embed="rId1"/>
          <a:stretch/>
        </p:blipFill>
        <p:spPr>
          <a:xfrm>
            <a:off x="2133720" y="1495440"/>
            <a:ext cx="544824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Flow control schem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9144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and Transport-Layer 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low Control without Resource Reserv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88400" indent="-2034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echnique #1: drop packets when receiver NI ful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975960" indent="-154080">
              <a:spcBef>
                <a:spcPts val="45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mproves congestion in short term but increases it in long ter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788400" indent="-2034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echnique #2: return packets that do not fit into receiver buffers to sende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975960" indent="-154080">
              <a:spcBef>
                <a:spcPts val="45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o avoid deadlock, rejected packets must be accepted by sende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788400" indent="-2034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echnique #3: deflection routing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975960" indent="-154080">
              <a:spcBef>
                <a:spcPts val="45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hen packet cannot be accepted at receiver, it is sent back into network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975960" indent="-154080">
              <a:spcBef>
                <a:spcPts val="45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acket does not go back to sender, but keeps hopping from router to router till it is accepted at receive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low Control with Resource Reserv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88400" indent="-2034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redit-based flow control with resource reserva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788400" indent="-2034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redit counter at sender NI tracks free space available in receiver NI buffer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788400" indent="-2034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redit packets can piggyback on response packet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788400" indent="-2034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nd-to-end or link-to-link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CF98-DF88-474F-9026-FD4BF8416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utli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066320" y="12949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C Topolog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witching strategi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outing algorith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low control schem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Clocking schem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C Architecture Examp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atus and Open Proble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B4AC-1A5B-4332-B421-FD3D50AD2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ocking schem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434960" y="1219320"/>
            <a:ext cx="7499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ully synchronou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ngle global clock is distributed to synchronize entire chi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88400" indent="-2034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ard to achieve in practice, due to process variations and clock skew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ochronou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cal clocks are derived from a global cloc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ot sensitive to clock skew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hase between clock signals in different modules may differ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88400" indent="-2034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deterministic for regular topologies (e.g. mesh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788400" indent="-2034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non-deterministic for irregular topologi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975960" indent="-15408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synchronizers needed between clock domain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leisochronou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ock signals are produced locall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ocks do not have to be present at al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4E9E-5654-41EA-835C-0A58F3E24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troduc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06632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Network-on-chip (NoC) is a packet switched on-chip communication network designed using a layered methodolog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outes packets, not wires”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NoCs use packets to route data from the source to the destination PE via a network fabric that consists of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witches (routers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nterconnection links (wires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6414-6C64-4951-AE3F-AB8642F82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C:\work\comm_arch_book_06\book ppt\image111.png"/>
          <p:cNvPicPr/>
          <p:nvPr/>
        </p:nvPicPr>
        <p:blipFill>
          <a:blip r:embed="rId1"/>
          <a:stretch/>
        </p:blipFill>
        <p:spPr>
          <a:xfrm>
            <a:off x="2286000" y="3962520"/>
            <a:ext cx="50022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utli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066320" y="12949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C Topolog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witching strategi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outing algorith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low control schem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ocking schem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Q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C Architecture Examp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atus and Open Proble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0AA9-E12C-45E5-86B3-295F8215E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Quality of Service (QoS)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066320" y="12952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QoS refers to the level of commitment for packet delive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fers to bounds on performance (bandwidth, delay, and jitter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ree basic categor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est effort (BE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32680" indent="-21456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nly correctness and completion of communication is guaranteed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32680" indent="-21456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sually packet switched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32680" indent="-21456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orst case times cannot be guaranteed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guaranteed service (G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32680" indent="-21456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akes a tangible guarantee on performance, in addition to basic guarantees of correctness and completion for communica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32680" indent="-21456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sually (virtual) circuit switched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ifferentiated servi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32680" indent="-21456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rioritizes communication according to different categori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32680" indent="-21456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NoC switches employ priority based scheduling and allocation polici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32680" indent="-21456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annot provide strong guarante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8A67-50B5-48FE-9F9E-A35CB2598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utli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066320" y="12949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C Topolog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witching strategi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outing algorith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low control schem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ocking schem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NoC Architecture Examp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atus and Open Proble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7B1B-1CD2-4407-B398-A47A32B4D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Ætherea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434960" y="1219320"/>
            <a:ext cx="7499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veloped by Philip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ynchronous indirect networ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 switch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ention-free source routing based on TD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T as well as BE Qo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T slots can be allocated statically at initialization phase, or dynamically at run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E traffic makes use of non-reserved slots, and any unused reserved slo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lso used to program GT slots of the rout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nk-to-link credit-based flow control scheme between BE buffer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 avoid loss of flits due to buffer overflow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17C1-7390-48F6-9F6D-636583813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HERM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371600" y="1447560"/>
            <a:ext cx="7562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veloped at the Faculdade de Informática PUCRS, Brazi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rect networ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-D mesh topolog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 switching with minimal XY routing algorith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8 bit flit size; first 2 flits of packet contain hea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der has target address and number of flits in the pa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rameterizable input queu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 reduce the number of switches affected by a blocked packe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less: cannot provide any form of bandwidth or latency G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1C42-C608-49A4-826A-063B36434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MANG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90720" y="1219320"/>
            <a:ext cx="79437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-passing Asynchronous Network-on-chip providing GS over open core protocol (OCP) interfa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veloped at the Technical University of Denmar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ockless NoC that provides BE as well as GS servi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Is (or adapters) convert between the synchronous OCP domain and asynchronous domai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outers allocate separate physical buffers for VC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r simplicity, when ensuring G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E connections are source rou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E router uses credit-based buffers to handle flow contro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ength of a BE path is limited to five hop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tic scheduler gives link access to higher priority channe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dmission controller ensures low priority channels do not starv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5DB7-7E0F-4E9F-8E7D-16CEAD1C4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Nostrum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066320" y="121896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veloped at KTH in Stockhol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rect network with a 2-D mesh topolog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F switching with hot potato (or deflective) rou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pport fo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witch/router load distribu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guaranteed bandwidth (GB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ulticast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B is realized using looped contain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mplemented by VCs using a TDM mechanis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ntainer is a special type of packet which loops around VC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ulticast: simply have container loop around on VC having recipien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witch load distribution requires each switch to indicate its current load by sending a stress value to its neighb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CFD6-5052-476F-85EB-F0A2F3CC9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Octag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990720" y="1294920"/>
            <a:ext cx="79437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veloped by STMicroelectronic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rect network with an octagonal topolog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8 nodes and 12 bidirectional lin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ny node can reach any other node with a max of 2 hop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 operate in packet switched or circuit switched mo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des route a packet in packet switched mode according to its destination fiel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ode calculates a relative address and then packet is routed either left, right, across, or into the nod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 be scaled if more than 8 nodes are requir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piderg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16D6-63A4-4304-85A4-B563F9AC6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QNoC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990720" y="12193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veloped at Technion in Isra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rect network with an irregular mesh topolog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 switching with an XY minimal routing sche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nk-to-link credit-based 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ffic is divided into four different service class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gnaling, real-time, read/write, and block-transf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gnaling has highest priority and block transfers lowest priorit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very service level has its own small buffer (few flits) at switch inpu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cket forwarding is interleaved according to QoS rul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igh priority packets able to preempt low priority packe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rd guarantees not possible due to absence of circuit switch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stead statistical guarantees are provid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8319-C276-4CF5-BCE9-07D78AB71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SOCBU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142640" y="1447560"/>
            <a:ext cx="7791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veloped at Linköping Univers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ochronous clocking with signal retiming is us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ircuit switched, direct network with 2-D mesh topolog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inimum path length routing scheme is us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ircuit switched scheme i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adlock fre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quires simple routing hardwar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very little buffering (only for the request phas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sults in low latenc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rd guarantees are difficult to give because it takes a long time to set up a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A04F-F69E-4796-BB9D-804204F5D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troduc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Cs are an attempt to scale down the concepts of largescale networks, and apply them to the embedded system-on-chip (SoC) domai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C Propert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gular geometry that is scalab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lexible QoS guarante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igher bandwidt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usable componen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26080">
              <a:lnSpc>
                <a:spcPct val="90000"/>
              </a:lnSpc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uffers, arbiters, routers, protocol stack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o long global wires (or global clock tre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26080">
              <a:lnSpc>
                <a:spcPct val="90000"/>
              </a:lnSpc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No problematic global synchroniza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26080">
              <a:lnSpc>
                <a:spcPct val="90000"/>
              </a:lnSpc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GALS: Globally asynchronous, locally synchronous desig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liable and predictable electrical and physical properti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41CE-DE41-4D4C-A17C-9DC590BA4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SPI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14264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calable programmable integrated network (SPI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at-tree topology, with two one-way 32-bit link data path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 switching, and deflection rou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irtual socket interface alliance (VSIA) virtual component interface (VCI) protocol to interface between P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its of size 4 byt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rst flit of packet is hea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rst byte has destination address (max. 256 node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ast byte has checksu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nk level 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andom hiccups can be expected under high loa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GS is not support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90E0-8352-4732-9CD4-B43B54795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Xpip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990720" y="14475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veloped by the Univ. of Bologna and Stanford Univers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urce-based routing, WH switch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pports OCP standard for interfacing nodes with No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pports design of heterogeneous, customized (possibly irregular) network topolog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o-back-N retransmission strategy for link level error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rrors detected by a CRC (cycle redundancy check) block running concurrently with the switch oper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XpipesCompiler and NetChip compil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ols to tune parameters such as flit size, address space of cores, max. number of hops between any two network nodes, etc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generate various topologies such as mesh, torus, hypercube, Clos, and butterfl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0D5D-8B3E-4A7F-AEFA-5D5E16EBD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utli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066320" y="12949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C Topolog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witching strategi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outing algorith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low control schem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ocking schem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C Architecture Examp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Status and Open Proble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55C7-2045-40F5-A303-DDA3875C0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tatus and Open Problem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1066320" y="1447560"/>
            <a:ext cx="7867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mplex NI and switching/routing logic blocks are power hungr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ral times greater than for current bus-based approach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dditional delay to packetize/de-packetize data at NI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low/congestion control and fault tolerance protocol overhead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lays at the numerous switching stages encountered by packe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ven circuit switching has overhead (e.g. SOCBU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ags behind what can be achieved with bus-based/dedicated wir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ack of tools and benchmar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mulation spe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GHz clock frequencies, large network complexity, greater number of PEs slow down simul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3D877-1564-4800-8BD9-196035C7D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rend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106632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ove towards hybrid interconnection fabric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C-bus bas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ustom, heterogeneous topologi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ew interconnect paradigm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ptic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irele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rbon nanotub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B003-6ADB-4E16-8247-5E840557D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sp>
        <p:nvSpPr>
          <p:cNvPr id="43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6BD7-B4F8-46E5-A1F7-8DF88780A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troduc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ill Sans MT"/>
              </a:rPr>
              <a:t>ISO/OSI network protocol stack mod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2D0E-1E87-425B-9C29-52EB5CA70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C:\work\comm_arch_book_06\book ppt\image112.png"/>
          <p:cNvPicPr/>
          <p:nvPr/>
        </p:nvPicPr>
        <p:blipFill>
          <a:blip r:embed="rId1"/>
          <a:stretch/>
        </p:blipFill>
        <p:spPr>
          <a:xfrm>
            <a:off x="2286000" y="1981080"/>
            <a:ext cx="541512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utli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066320" y="12949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NoC Topolog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witching strategi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outing algorith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low control schem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ocking schem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C Architecture Examp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atus and Open Proble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534D-6FF6-499A-A97D-3AE107ED1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oC Topolog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rect Topolog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ach node has direct point-to-point link to a subset of other nodes in the system called neighboring nod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odes consist of computational blocks and/or memories, as well as a NI block that acts as a rout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.g. Nostrum, SOCBUS, Proteo, Octag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s the number of nodes in the system increases, the total available communication bandwidth also increas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undamental trade-off is between connectivity and cos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E65D-7946-43C2-9856-5730172DD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C:\work\comm_arch_book_06\book ppt\image114.png"/>
          <p:cNvPicPr/>
          <p:nvPr/>
        </p:nvPicPr>
        <p:blipFill>
          <a:blip r:embed="rId1"/>
          <a:stretch/>
        </p:blipFill>
        <p:spPr>
          <a:xfrm>
            <a:off x="3429000" y="4724280"/>
            <a:ext cx="20289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oC Topolog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142640" y="1447560"/>
            <a:ext cx="7791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st direct network topologies have an orthogonal implementation, where nodes can be arranged in 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-dimensional orthogonal spa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outing for such networks is fairly simp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.g. n-dimensional mesh, torus, folded torus, hypercube, and octag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D mesh is most popular topolog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ll links have the same lengt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3680" indent="-2124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ases physical desig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rea grows linearly with the numbe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f nod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ust be designed in such a way as 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oid traffic accumulating in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enter of the mes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5D0B-214C-4E95-B6C6-62BD9461B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Sudeep Pasricha  &amp; Nikil D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3" descr="C:\work\comm_arch_book_06\book ppt\image115.png"/>
          <p:cNvPicPr/>
          <p:nvPr/>
        </p:nvPicPr>
        <p:blipFill>
          <a:blip r:embed="rId1"/>
          <a:stretch/>
        </p:blipFill>
        <p:spPr>
          <a:xfrm>
            <a:off x="6019920" y="3505320"/>
            <a:ext cx="2895480" cy="28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sudeep</cp:lastModifiedBy>
  <dcterms:modified xsi:type="dcterms:W3CDTF">2008-05-29T06:53:33Z</dcterms:modified>
  <cp:revision>558</cp:revision>
  <dc:subject/>
  <dc:title>On Chip Communication Architectures</dc:title>
</cp:coreProperties>
</file>