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AD75-69E4-427C-B510-CB0576D00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1541-6ACC-4B3C-A8C9-EED9DF10D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E5D1-1B47-43FF-83AD-EB6B973C5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E38F-B6AD-4EF6-B739-575C0783A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8962E-1228-4C69-B5AD-B33319732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A972-B0EB-4B48-BF44-1E8B501A3C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A0D48-4C66-466D-86C1-2F6DE86A4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92E91-F417-48B5-B8DE-910F96FA9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FBEA5-0135-4F77-800D-4AFC15A84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E4FB0-52A6-401E-907B-AC1FC16D7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A12D2-8BA5-4CBA-8505-960FD1F27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EBE3-449A-43C8-ABF8-D533DCFAF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B1AE4-C891-4F8D-A9B9-F387C1080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2942E-9E19-4B39-AA71-E121A555A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B58B7-2D22-4D8D-A9EF-38A07749D9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03458-1A46-4010-995A-69037B1C9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7448E-4C41-4264-8544-80B8AEB0C7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C5CA3-43F2-46D2-84C0-B839FEDDA8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7C38-1287-4090-9179-6FD4791CA7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843F-33EB-4026-A55E-E5E11A2271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85E06-B3E1-4859-8DBC-81B7CBDC2C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5E453-114E-42E0-A077-A76D35548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1510-EB54-4F9D-8FE9-5019A62266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F406E-BE1C-465A-B70A-1F68D0D89C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53CF-5F88-45B5-B0A9-3879190D67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4C97B-B98C-41A0-8432-0C42ED2947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77FE6-2E8E-4B9E-B9CC-9E022CC9A1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6ABFC-D1B9-4137-9BEF-17820CE31F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C8B00-7973-45FC-A275-60F3744284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341B8-6F75-46B4-B8D6-86B542A317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06EE8-4D62-40C4-8E1B-142729291E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53813-90F5-413E-930E-40C3E662CE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8B184-AA04-4BE3-B107-9B3F8A524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0E2D-50FE-4419-942F-E5F2E91153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D2E75-4079-4B33-8EE2-19C0197792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30170-2CE7-460B-96BD-212E321C20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64D2F-B3FA-425C-ACC2-D0F3DEB3E4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B96C0-07D7-49CB-B600-97B7B40663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B3FE4-1960-4023-BAAC-1853CEF472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1FD5F-A6ED-45D8-8B1A-9C35555632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DDEDE-522A-4446-9317-AB4920DFA9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71965-4D53-431D-9760-5ABA098F3F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796E2-AAB7-40E2-8AE0-EF99F3886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1A7F-BA69-4DC6-BF42-C0A435045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56F1-55EC-4FC3-BF74-40B48466D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75C9-A3DE-4719-B031-764048872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0D45-3366-419A-ACE2-84199A745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4621-41ED-4AD7-9C2D-2BB2D233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73D-D7C0-4E31-8829-895A8B2D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8EDE-270B-4802-8FBA-34908229D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A2D-7A31-4ACE-AAB3-4D3AA049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761F-9F61-4E4A-8AE1-A659E8DD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Emerging On-C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Interconnec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0e04"/>
                </a:solidFill>
                <a:latin typeface="Gill Sans MT"/>
              </a:rPr>
              <a:t>Technolog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lides based on book chapter 1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5ED-9378-4D6D-BA1F-F7CB98D37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dulator dri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ists of a series of inverter stages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rive the modulator ’s capacitive loa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783-9E20-47F2-9032-1E681373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370560" y="923760"/>
            <a:ext cx="268308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693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vegu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th through which light is ro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ractive index of waveguide material h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significant impact on bandwidth, latency, and area of an O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promising alternatives for waveguide material that trade-off propagation speed and band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licon (Si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wer propagation speed, but low area footprint (higher bandwidth density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lyme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igher propagation speed but greater area (reduced bandwidth density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6F0-AABB-4974-8F28-77372492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370560" y="923760"/>
            <a:ext cx="2683080" cy="1371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276720" y="4724280"/>
            <a:ext cx="3124080" cy="17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onsible for converting the optical sig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ack to an electrical sign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hoto-dete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ust have high value for quantum efficienc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wer losses when converting optical information into an electrical for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interdigitated metal–semiconductor–metal (MSM) receiv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ast response and excellent quantum efficienc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ve selective filt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tional – only used when(WDM) is us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lects among different wavelength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-impedance amplifier (TIA) stag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verts photo-detector current to a voltage which is thresholded by subsequent stages to digital lev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425-423C-49B3-8707-BC1CD677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370560" y="923760"/>
            <a:ext cx="2683080" cy="1371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5803920" y="4038480"/>
            <a:ext cx="3265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Is possess an intrinsic advantage of low signal propagation delay in wavegu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 to the absence of RLC imped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6F99-DF60-4B07-8ABE-C308F3EE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438280" y="2620800"/>
            <a:ext cx="480060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42640" y="1294920"/>
            <a:ext cx="7791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Is require an electrical signal to be first converted into an optical signal and then back into an electrical sig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version delay independent of interconnect leng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Is will have a delay advantage over EIs only if waveguide propagation delay dominates overall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31A-5BB1-46B5-A196-0109DBFF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33840" y="3276720"/>
            <a:ext cx="435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66320" y="1294920"/>
            <a:ext cx="7867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pitch between two adjacent waveguides is determined by crosstalk consid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fixed pitch, if waveguide is too wide, then crosstalk is high due to proximity between sides of adjacent wavegui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waveguide is too narrow, optical mode becomes less confined, causing a higher crosstalk due to larger overlap between adjacent optical mo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8E2-C4C1-433D-A682-CC953F76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rcRect l="0" t="0" r="49617" b="0"/>
          <a:stretch/>
        </p:blipFill>
        <p:spPr>
          <a:xfrm>
            <a:off x="2971800" y="3809880"/>
            <a:ext cx="3581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e-off between waveguide density and propagation delay per unit length for a 10 mm interconnect and a maximum allowed crosstalk of 2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7D87-9879-4D02-A50E-D3048097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51231" t="0" r="0" b="0"/>
          <a:stretch/>
        </p:blipFill>
        <p:spPr>
          <a:xfrm>
            <a:off x="2362320" y="2682720"/>
            <a:ext cx="4724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ison of projected bandwidth density for delay-optimize EIs and optical wavegu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cal bandwidth density increases due solely to the higher bit rate through waveguides with a fixed pi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Is exploit more efficient repeaters – leads to higher growth in bandwidth dens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32FC-860D-417D-BE6C-3F86F005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743200" y="3416400"/>
            <a:ext cx="41148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wavelength OI is inferior to a delay-optimized EI in terms of bandwidth dens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would anyone use OI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velength division multiplexing (WDM) can improve bandwidth density for OIs over E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050-30C8-48C0-96DB-667B02E7D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810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: Resear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663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ew research efforts have studied how on-chip optical networks can be used for clock-tre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reduce clock distribution skew on chip in multi-GHz ran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l researchers have claimed that WDM can enable optics to achieve high bandwidth, low latency for global sign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this requires efficient high speed, low capacitance CMOS-compatible modulators, detectors, and practical WDM sche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n et al. [TED 2004] argued that there is no significant skew and power advantages in using an optical s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most of skew, power of clk signaling arises in local clk distrib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land et al. [CICC 2005] showed that an optical clock tree scales better than an H-tree electrical clock networ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solution might be a hybrid tree network, with optical front end and backend with small electrical tr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8210-F802-4FE3-9CE7-AF4AC4AB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cal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/Wireless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NT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175-3304-4A2F-9B39-921B641E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: Resear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ew recent works have proposed using optical links in an on-chip network-on-chip (ONo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’Connor [SLIP 2004] and Briere et al. [RSP 2005] gave a high level overview of a 4x4 2D mesh based optical N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cham et al. [DAC 2007] described a 2-D folded torus optical N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theoretically result in high bandwidth, low power intra-chip com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irman et al. [MICRO 2006] proposed an optical loop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 waveguide on dedicated lay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pport for WDM to improve bandwidth dens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ever ONoCs have a few drawb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power overhead of electrical routers and opto-electric/electro-optic conversion at the interface of each compon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ck of availability of wideband photonic switching 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0263-998D-475E-AAA9-14E32C7D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: Resear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ntly, Pasricha et al. [ASPDAC 2008] proposed the ORB (optical ring bus) on-chip communication archite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l opto-electric communication architecture that uses an ORB as a global interconnect between computation clus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serves standard protocol interface (e.g., AMBA AXI) for inter- and intra-cluster commun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ybrid Mach-Zehnder interferometer/microresonator-based P-I-N diode modulato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ing-shaped low refractive index polymer wavegui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WD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wn to dissipate significantly lower power (more than a 10x less) and improve overall performance (more than 2x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ared to traditional pipelined, all-electrical global interconnects, across the 65–22 nm CMOS technology nod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D47-64CA-4CB0-8937-DC050252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ptical Interconnects: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pen Probl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icient transmitter and receiver compon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speed, low power, and small feature-size electro-optical modulators and photo-detector receivers need to be develop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grated on-chip light sour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ch as the Indium Phosphide Hybrid Silicon Laser from Intel and UCSB [2008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lymer wavegu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hibitive manufacturing cost and complex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 suitable modulato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eratur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Is sensitive to temperature vari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 or passive optical control method required to maintain stable device ope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F5F7-724E-4BEE-AB1B-9DE7C3EC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cal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F/Wireless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NT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5A7-E12A-4D8B-88FE-62461F5B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4264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ace on-chip wires with integrated on-chip antennas communicating via electromagnetic wa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s converted from baseband (i.e., digital) to RF/microwave signals and transmitted through free space or guided mediu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ee space signal broadcasting and reception is a common practice in modern wireless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 to low cost implementation and excellent channeling capabil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ever, free space transmission and reception of RF/microwave signals requires an antenna size that is comparable to its waveleng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 at near 100 GHz operating and cut-off frequencies in the future the aperture size of the antenna = 1 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hich is too la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6CB-E619-4928-8FCE-E3B5DCC6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4264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rowave transmission in guided mediums such as microstrip transmission line (MTL) or coplanar waveguide (CPW) is a more viable alternative to free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 attenuation up to at least 200 GHz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a smaller antenna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ion results have shown that a 1cm long CPW experiences extremely low loss (1.6 dB at 100 GHz), and low dispersion (less than 2 dB for 50–150 GHz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Is have 60 and 115 dB loss per cm at 100 GHz, and a freq dispersion of 30–40 dB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 microwave transmission over MTL or CPW has a clear advantage over conventional EI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ally for global interconnects operating in multi-GHz ran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C7D-4EC4-4897-B210-82B035BC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/wireless interconn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ple transmitters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acitive couplers as near-field anten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 circuits for trans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form and homogeneous MTL or CPW channel as a shared bidirectional broadcasting medi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483-C525-473F-90C4-11AF965E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7780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90720" y="1294920"/>
            <a:ext cx="794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taneous communications in RF/wireless interconnects possible using frequency division multiple access (FDM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 modulated frequency bands can improve data bandwidth by transmitting data over multiple frequency ban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quency bands of I/O channels can be allocated between 5–105 GHz with a bandwidth of approximately 5–40 Gbps in each chann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Is only occupy lowest frequency band (baseban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1B8-55A7-4800-959B-2C8D390A7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866960" y="3886200"/>
            <a:ext cx="6210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lanced or double balanced active mixers, such as the Gilbert cell, may be used for modulation and demod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loss and high selective BPFs needed in FDMA interconnects require tunable and high Q indu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ch are hard to realize due to their high energy loss to the conductive silicon subst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be partially resolved by using a transformer type inductor desig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re lost energy is recovered via a secondary inductor with delayed phase angles to attain high inductance and tunabil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nt progress in MEMS (microelectromechanical systems) has shown promise for high Q silicon resonators and fil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micrometer wave frequenc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062B-AB64-44CD-B5F4-D021C4C7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taneous communications in RF/wireless interconnects possible using code division multiple access (CDM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stream from a transmitter is first converted into a spread spectrum signal by orthogonal Walsh codes (or PN cod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sequently modulated with RF sinusoidal carri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ulting signal from transmitters are capacitively coupled into a superposed multilevel signal on the shared CPW (or MT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9F36-8B13-46A9-AF2D-8B611B3D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917720" y="3848040"/>
            <a:ext cx="62294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66320" y="137124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ern on-chip electrical interconnects (EIs) are realized using copper wir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-chip EIs can be classified into two catego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interconnects: used for short distance communication and have a delay of less than a clock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interconnects: which are fewer in number, used for long distance communication and have a delay spanning multiple cyc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global EIs typically have high RC const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ch results in greater propagation delay, transition time, and crosstalk noi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eater insertion and increasing wire width can reduce the propagation delay somewh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 is still quite large in DSM technolog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F12E-0573-444D-A4D9-C077CB0F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like hardware-oriented FDMA interconnect, the CDMA interconnect can be easily reconfigured by changing spreading codes through software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E62-67B3-459E-8686-6E49B353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-chip antennas fabricated on substrates are categorized as printed antenn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crostrip, dipole, and loop anten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me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ig-zag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fold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bining different antenna structures such as folded and meander can provide a higher power gain and a more compact on-chip antenna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1F7-6FD6-4A95-9C51-3EEFD8E1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260440" y="2666880"/>
            <a:ext cx="5207040" cy="685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4857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recent research has focused on using on-chip silicon substrate/dielectric layer as a transmission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ead of using off-chip and in-package CPW or MTL guided mediu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24 GHz, wavelength of EM waves in silicon is 3.7 m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quarter wave antenna needs to be only about 0.9 mm in silic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onjunction with increased chip sizes of 2 cm x 2 cm, has made the integration of antennas for wireless on-chip communication feasi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3E62-F95E-4347-BA80-A60AFD7A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ths formed b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sage through ai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raction through the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yer and reflection at the interface between the silicon substrate and the underlying dielectric layer (A1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raction through the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dielectric layers, and reflection by the metal chuck that emulates a heat sink in the back of a di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CD7-FBE6-4828-9D4F-AA1FBD63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26708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F/Wireless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als propagating on these multiple paths constructively and destructively interfe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was found by O et al. [ICCAD 2005] that by increasing the AIN thickness, destructive signal interference is significantly reduc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ech et al. [IECON 2006] conducted a similar feasibility study and found tha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er resistivity substrates are better suited for wireless commun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wed that antennas on lower resistivity silicon substrate present gains of  30 d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ontrast, antennas on SOI (silicon on insulator) substrates of higher resistivity present gains of 15 d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t frequencies around 30 GHz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000-DC8B-45AE-B45F-8BC0F795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F/Wireless Interconnects: Resear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1447560"/>
            <a:ext cx="7943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reless interconnects may not only reduce the wires in integrated circuits, but can also be used to replace I/O pi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 et al. [GMAC 1999] proposed RF/wireless interconnects for clock networks to reduce signal sk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st chips have been created to demonstrate the feasibility of RF/wireless on-chip interconnects and their use in clock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o et al. [SVLSI 2002] showed that a 15 GHz transmitted signal 2.2 cm away from a clock receiver with an on-chip antenna was successfully picked up by receiver and used to generate digital outp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oyd et al. [ISSCC 2000] presented another wireless clock implementation at 7.4 GHz frequen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nsmitting and receiving antenna placed 3.3 mm from each ot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341C-9225-4E5F-9B7D-131A4ED3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F/Wireless Interconnects: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pen Probl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aging and interference iss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tal structures near antennas can change input impedances and phase of received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ference effects between the transmitted/received signal and switching noise of nearby circui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ltra-high frequency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ntenna sizes to be feasible for on-chip fabrication, RF circuits must operate in the ultra-high frequency domain (i.e., ~100 GHz rang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suitable for applications in the very near fu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be feasible by 2015 if scaling trends contin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over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transceiver has its own dedicated RF and CDR circui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eavy circuit overhead as well as large power consump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05F1-2539-4716-9D1B-D9F4A1D5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F/Wireless Interconnects: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pen Probl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-chip antenn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t of research on fabricating antennas on lossless or lower loss substrates such as polytetrafluoroethylene (PTFE), quartz, duroid, and GaAs in the millimeter wave ran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been sufficient research in the area of fabricating printed antennas on silicon substrat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uch more lossy than other types of substra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duces the antenna efficiency, requiring possibly greater pow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ference crystal oscil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d for FD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not be easily implemented on-chip - has a large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/wireless interconnects may be susceptible to hack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9AC-8457-4962-877F-F458534D4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cal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/Wireless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NT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C4C-B325-40F7-8FAC-2D6CDB84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NT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6632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bon nanotubes are CNTs are sheet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phite rolled into cylinders of diamet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ying from 0.6 to about 3 n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monstrate either metallic or semiconducting 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pending on direction in which they are rolled (chiralit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NTs are promising candidates as on-chip interconn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mechanical and thermal st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thermal conductiv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current carrying capac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ly resistant to electromigration and other sources of breakd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ch better conductivity properties than C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ue to longer electron mean free path (MFP) lengths in the micrometer range, compared to nanometer range MFP lengths for C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9F4-551B-43A8-9114-C6E8EB7F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391520" y="762120"/>
            <a:ext cx="1590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SM technologies, it is becoming increasingly harder for a copper-based electrical interconnect (EI) to satisfy design requirem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, power, bandwidth, delay uncertain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stance of copper interconnects, in current and imminent technologies is increasing rapidly du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hanced grain boundary scatte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rface scatte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sence of a highly resistive diffusion barrier lay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eep rise in parasitic resistance and capacitance of copper interconnects poses serious challenges f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delay (especially at the global leve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dissip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reli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AB4-DF44-4ABA-A0D5-18D90383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NT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predicted that isolated CNTs can replace Cu at the local interconnect leve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cause of their much lower lateral capacitance which improves latency for very short dist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ever, for longer on-chip interconnections a bundle of CNTs conducting current in parallel are more sui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cause of high intrinsic resistance of an isolated CNT (&gt; 6.45 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bundle of CNTs consists of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tallic nanotubes that contribute to current conduction,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miconducting nanotubes that do not contribute to current conduction in an interconn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NTs broadly classified i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CNT: isolated (single walled) C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WCNT: multi-walled CNT, made up of concentric SWC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9A6-B9AC-472E-A248-22DA2122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it Parameters for SWC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ndamental resistance </a:t>
            </a:r>
            <a:r>
              <a:rPr b="0" i="1" lang="pt-BR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Gill Sans MT"/>
              </a:rPr>
              <a:t>F</a:t>
            </a:r>
            <a:r>
              <a:rPr b="0" i="1" lang="pt-BR" sz="2000" spc="-1" strike="noStrike">
                <a:solidFill>
                  <a:srgbClr val="000000"/>
                </a:solidFill>
                <a:latin typeface="Gill Sans MT"/>
              </a:rPr>
              <a:t> = h/4e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6.45k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lengths less than MF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FP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 is of electrons is distance across which no scattering occu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 SWCNTS, practical value of MFP is about 1µ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lengths less than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the resistance of a SWCNT is independent of leng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lengths larger than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resistance increases with length, and this can be expressed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SWC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. (L/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additional source of resistance in SWCNTs is due to presence of imperfect metal-nanotube cont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resistance for SWCNTs (sum of fundamental, scattering and contact) can be extremely high for longer interconnect leng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refore isolated SWCNTs more suitable as local interconn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A96-FCF7-4B11-8C15-C232FF6B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it Parameters for SWC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07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static capaci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 = SWCNT diame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 = distance from ground pla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y &gt; 2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quantum capacit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 = Planck’s consta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= Fermi veloc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WCNT has four conducting channe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effective quantum capacitance due to four parallel capacitances is 4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9BB9-82C3-4304-A1F6-A919CA6F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1683000" cy="1067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2"/>
          <a:stretch/>
        </p:blipFill>
        <p:spPr>
          <a:xfrm>
            <a:off x="5791320" y="4191120"/>
            <a:ext cx="13716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it Parameters for SWC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920"/>
            <a:ext cx="749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uctan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gnetic induc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inetic induc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 parallel conducting channels in a CNT give rise to an effective kinetic inductance of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,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&gt;&gt;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902A-EFC3-43BC-8AC2-6AF0681D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1879560" cy="800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137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ircuit Parameters for SWCNT Bund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07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WCNT bundles have lower resistance than SWC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 bundle, each SWCNT is surrounded by six immediate neighbors, with their centers separated by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nsely packed bundle with x = d is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reality, not all SWCNTs of a bundle are metalli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there are non-metallic SWCNTs that do not contribute to current conducti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their presence is taken into account by considering a “sparsely” populated SWCNT bundle model, where x &gt; d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tallic density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of an SWCNT bundle refers to the probability that an SWCNT in the bundle is metallic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≈ 1/3 toda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31B6-B3C8-43F3-B5E6-62D2CC07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30271" t="0" r="0" b="0"/>
          <a:stretch/>
        </p:blipFill>
        <p:spPr>
          <a:xfrm>
            <a:off x="2514600" y="4800600"/>
            <a:ext cx="481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ircuit Parameters for SWCNT Bund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720" y="1447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4520" indent="-193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static capacitance arises mainly from SWCNTs lying at edges of bundle that are capacitively coupled with adjacent interconnects (left and right neighbors) as well as the subst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uc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EBF3-E0F0-44C9-8FD7-623F9759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rcRect l="0" t="11765" r="0" b="0"/>
          <a:stretch/>
        </p:blipFill>
        <p:spPr>
          <a:xfrm>
            <a:off x="3657600" y="1905120"/>
            <a:ext cx="2362320" cy="326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4433760" cy="533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3"/>
          <a:stretch/>
        </p:blipFill>
        <p:spPr>
          <a:xfrm>
            <a:off x="6372360" y="4038480"/>
            <a:ext cx="2314440" cy="366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4"/>
          <a:stretch/>
        </p:blipFill>
        <p:spPr>
          <a:xfrm>
            <a:off x="3733920" y="5638680"/>
            <a:ext cx="2732040" cy="838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2765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arison between Copper and SWCNT-Bund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stance and capacitance of Cu and CNT bundle interconnects for local interconnect leng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4C9-83D5-4C5C-93D4-413A7234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723888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arison between Copper and SWCNT-Bund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ion delay for local interconnects (dense bund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 for densely packed CNT bundles is higher than that with Cu interconnects across all technology gen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ven if contacts are perfect and an MFP as large as 10 µm is achie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er capacitance of dense CNT bundles and high resistance of minimum sized drivers at the local interconnect level overshadow advantage from low CNT bundle resist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24E-B75F-4A71-8CD1-B979BB56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1562040" y="3995640"/>
            <a:ext cx="71247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arison between Copper and SWCNT-Bund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295280" y="14475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ion delay for local interconnects (sparse bund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formance of CNT bundles with perfect contacts becomes better than Cu wires if the distance between adjacent metallic CNTs forming a bundle is increased (i.e., sparse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with realistic (i.e., imperfect) contacts, delay is still higher than Cu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D0C-835B-4061-9CA2-12296F84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523880" y="3700440"/>
            <a:ext cx="69343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arison between Copper and SWCNT-Bund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ion delay for local-intermediate length interconn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yond a certain minimum length, performance of dense CNT bundle interconnects at this level is better than Cu w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technology scaling, this minimum length decreases while the improvement in performance increa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C3D-CA6A-4ACE-919E-387423D7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7537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294920"/>
            <a:ext cx="794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per interconnects also constitute up to 70% of total on-chip capaci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jor sources of power dissip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ording to the International Technology Roadmap for Semiconductors (ITRS), interconnect innovation with new technologies is vit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atisfy performance, reliability, power requirements in long te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ultra-high data rates (greater than 100 Gbps/p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 scalable enough to support tens to hundreds of concurrent communication strea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E838-3BA4-445A-A7E8-1F70C370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arison between Copper and SWCNT-Bund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ion delay for global interconn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interconnects implemented with dense CNT bundles can achieve significantly better performance than copp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 this performance improvement depends on CNT MF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E60-4C74-4420-9F64-F6868D03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363680" y="3276720"/>
            <a:ext cx="7323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-Wall Carbon Nanotubes (MWCNT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907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WCNTs may have diameters in a wide range varying from a few to hundreds of nano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CNTs have diameters in the few nanometer ran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WCNT made up of SWCNTs with varying di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ve many of the properties of SWC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properly connected to contacts, all MWCNT shells can condu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ductance of a SWCNT graphene shell in a MWCNT increases as the diameter of a shell becomes larg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shells is given 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= 0.34 is spacing between concentric sh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tio of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out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n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as been observed to vary from 0.35 to 0.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EA6-D886-482C-9C19-9F07285F8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7" descr=""/>
          <p:cNvPicPr/>
          <p:nvPr/>
        </p:nvPicPr>
        <p:blipFill>
          <a:blip r:embed="rId1"/>
          <a:stretch/>
        </p:blipFill>
        <p:spPr>
          <a:xfrm>
            <a:off x="5638680" y="4800600"/>
            <a:ext cx="309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ulti-Wall Carbon Nanotubes (MWCNT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liminary results indicate that for long lengths (hundreds of micrometers) MWCNTs can have conductivities several times larger than that of Cu or SWCNT bund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CD58-F35F-42AE-87B3-82E113F8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7242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arbon Nanotube Interconnect: Open Probl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fficient metal-nanotube conta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kes propagation delay with CNT interconnects higher than with Cu interconnec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MFP length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FP lengths need to be increased to reduce CNT propagat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nsity of nanotube bundl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eded for global CNT interconnects that perform better than Cu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uctive effects at high frequen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ently inductive effects are ignored but expected to become significant at very high frequenc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F7A2-9A1E-4754-9333-B4DA46FD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mm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434960" y="1371240"/>
            <a:ext cx="7499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u interconnects have high resistivity, low reliability, and high susceptibility to electromig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vel on-chip interconnection schemes need to be explored for future high frequency electronic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iewed three of the most promising emerging interconnect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cal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/wireless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rbon nanotube interconn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of these technologies have several issues that must be resolved before they can be adopted as on-chip interconnect fabr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ements in fabrication technology need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F43-3B67-44D6-B91A-37BAC585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45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037-D7FA-4A11-BC34-D08E49B4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Optical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/Wireless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NT Interconn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AE1-081B-443B-990C-75424F15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cal interconnects (OIs) have potential to overcome communication bottleneck by replacing electrical wires with optical wavegu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Is offer many advantages over traditional electrical (copper-based) interconn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support enormous intrinsic data bandwidths in the order of several Gbps using only simple on–off modulation sche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atively immune to electrical interference due to crosstalk, and parasitic capacitances and induct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dissipation is completely independent of transmission distance at the chip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ing and placement is simplified since it is possible to physically intersect light beams with minimal crosstal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ce a path is acquired, transmission latency of the optical data is very small, depending only on the group velocity of light in the wavegui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0566-1235-487B-BC33-E352A8D5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42640" y="1447560"/>
            <a:ext cx="779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board-to-board and chip-to-chip OIs have been proposed and are actively under development, feasibility of on-chip OIs is an open research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speed, electrically driven, on-chip monolithic light source still remains to be realiz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1166-8D7B-423F-8F0E-6EFBA1171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57400" y="2678040"/>
            <a:ext cx="57913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tical Interconn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Off-chip) laser 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vides light to modula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-optical modula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ransduces electrical data supplied from electrical driver into a modulated optical sign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veral high speed electro-optical modulators have been propos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at change refractive index or absorption coefficient of an optical path when an electrical signal is inject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ch-Zehnder interferometer-based silicon modulato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igher modulation speeds (several GHz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arge power consump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ater silicon footprint (around 10 mm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icroresonator-based P-I-N diode type modulato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mpact in size (10–30 mm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w power consump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w modulation speeds (several MHz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2D74-C920-46F5-9814-A68EB215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370560" y="923760"/>
            <a:ext cx="2683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6-05T07:05:10Z</dcterms:modified>
  <cp:revision>570</cp:revision>
  <dc:subject/>
  <dc:title>On Chip Communication Architectures</dc:title>
</cp:coreProperties>
</file>