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B2B69-8DBF-4AA3-9350-670AF30D7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E0455-091C-4C78-9FF8-818A397D0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91C6E-5B67-4C68-B804-D5F7ECAC3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1E719-9CC6-4C47-8592-FFCC58C8B4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89E95-9FF8-42F2-B159-6C5B93A298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48797-7CCA-43BF-A86E-EE5DF1F466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D528F-003E-4667-8EAF-36E028F016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B9BAB-A6C8-4705-A54A-2395DE1B5B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F59E8-7508-4F58-88A9-0DC36BAE8D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F02E7-525F-47CE-B13E-8F15668C83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ABB8E-1C71-437B-8C6B-E57933664E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4E031-C1A6-45A8-8DA3-42D356807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8A06B-2B4A-40F2-B6DC-500C411935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26BCE-D3D6-4B87-BC0E-DC0C4B4A64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7E6B3-1A5A-4385-A026-628887CAF9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5E1DC-E9D7-4ED1-8572-46ADECF3D6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D8AA6-35FA-44A3-ADB6-3490BDB46D6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83DA8-B3A9-47F7-8764-CD9ED52C6E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A8FCC-CC11-4C8B-BA99-9CE8A3D4CD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FB764-A3DD-4496-A726-0BF661A51B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A3C1F-41A9-474D-B895-B4FBC39E27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7F2C6-504D-40C2-BE4C-3B8542CD5E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8276-FBBB-4963-969E-DAFAF2809A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F8871-63F9-4FE5-AB00-9E56AB0C27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CB400-B9A9-429A-A9F4-CD844A2CA5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C345B-A7AE-4AEE-BF8B-051B7BC985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1D821-5EAE-4C7D-A3C1-96A9648F173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26F35-7263-4D52-A91D-88407CFF4DF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06FB0-A491-40A2-BDB9-BF47C68437C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C1B06-47B3-4547-82F5-27F3D9E9037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E14E68-C4A7-482E-A687-B698275EE28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EB300D-09E8-4912-BE5C-F58D31FA7E5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0B7869-6564-40F9-B7FF-D40FB8D06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3C653-3955-4F91-AC66-36410441175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3744D5-79CE-41C3-9250-9E7311CE0F7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507D7C-3D58-4AA1-8E37-7A3AEEB25C7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D39099-38A0-4134-95C6-9EDD55D7D5B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6001D0-2F92-49E9-8D21-6C52B7D0B58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1B366D-04F7-46CB-AF0F-5441476E064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536CCB-B7AC-4BC6-B89E-8B76DB32625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238ECC-8FF4-4D2B-A82A-AB1B9C10BDF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9B3AD1-E912-41D4-B54F-220343D9C6B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216B83-EF82-46B7-A321-125E8EF02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289E-99E3-475F-AF9F-C69B35709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1891-9354-4A82-9DE0-E98CF139A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4D4E7-C343-485D-A6F8-B56ABE1C5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3C74A-B7D7-4F61-A67F-7344791A8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23C5B-7977-432A-99D0-CB278A25C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E9F6-B868-4B38-B879-490B13973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0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5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7065-DB1B-4C58-B260-9796901E3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C063-DEF1-4F82-9957-735529E57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48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6E86-F8BE-4DC7-BC2A-EB343D8D9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On-Chip Communication Architectur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20e04"/>
                </a:solidFill>
                <a:latin typeface="Gill Sans MT"/>
              </a:rPr>
              <a:t>On-Chip Communicatio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20e04"/>
                </a:solidFill>
                <a:latin typeface="Gill Sans MT"/>
              </a:rPr>
              <a:t>Architecture Refinemen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20e04"/>
                </a:solidFill>
                <a:latin typeface="Gill Sans MT"/>
              </a:rPr>
              <a:t>and Interface Synthesi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ICS 29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Sudeep Pasricha and Nikil Du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Figures from book chapter 9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6000840" y="1828800"/>
            <a:ext cx="3143160" cy="3143160"/>
          </a:xfrm>
          <a:prstGeom prst="rect">
            <a:avLst/>
          </a:prstGeom>
          <a:ln w="0">
            <a:noFill/>
          </a:ln>
        </p:spPr>
      </p:pic>
      <p:sp>
        <p:nvSpPr>
          <p:cNvPr id="195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F195-1984-4691-AD57-A42AE526E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A628-F55D-49D0-8A37-74F3BE6F2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C:\Documents and Settings\sudeep\Desktop\book images\images008.png"/>
          <p:cNvPicPr/>
          <p:nvPr/>
        </p:nvPicPr>
        <p:blipFill>
          <a:blip r:embed="rId1"/>
          <a:stretch/>
        </p:blipFill>
        <p:spPr>
          <a:xfrm>
            <a:off x="1838160" y="1766880"/>
            <a:ext cx="54676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6C08-C4EE-4422-80D4-CCFC5E4AF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C:\Documents and Settings\sudeep\Desktop\book images\images009.png"/>
          <p:cNvPicPr/>
          <p:nvPr/>
        </p:nvPicPr>
        <p:blipFill>
          <a:blip r:embed="rId1"/>
          <a:stretch/>
        </p:blipFill>
        <p:spPr>
          <a:xfrm>
            <a:off x="2143080" y="1619280"/>
            <a:ext cx="48578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A1B8-265E-4AAC-8634-634A65FAC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C:\Documents and Settings\sudeep\Desktop\book images\images010.png"/>
          <p:cNvPicPr/>
          <p:nvPr/>
        </p:nvPicPr>
        <p:blipFill>
          <a:blip r:embed="rId1"/>
          <a:stretch/>
        </p:blipFill>
        <p:spPr>
          <a:xfrm>
            <a:off x="2400480" y="1943280"/>
            <a:ext cx="4343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4AD1-EC47-4DED-ABE9-42002F7CB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C:\Documents and Settings\sudeep\Desktop\book images\images011.png"/>
          <p:cNvPicPr/>
          <p:nvPr/>
        </p:nvPicPr>
        <p:blipFill>
          <a:blip r:embed="rId1"/>
          <a:stretch/>
        </p:blipFill>
        <p:spPr>
          <a:xfrm>
            <a:off x="1643040" y="2071800"/>
            <a:ext cx="58579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5780-2A55-4923-B77C-755DF3B38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C:\Documents and Settings\sudeep\Desktop\book images\images012.png"/>
          <p:cNvPicPr/>
          <p:nvPr/>
        </p:nvPicPr>
        <p:blipFill>
          <a:blip r:embed="rId1"/>
          <a:stretch/>
        </p:blipFill>
        <p:spPr>
          <a:xfrm>
            <a:off x="1662120" y="1662120"/>
            <a:ext cx="5819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F1D4-8E22-440C-BC9B-BB357C9F2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C:\Documents and Settings\sudeep\Desktop\book images\images013.png"/>
          <p:cNvPicPr/>
          <p:nvPr/>
        </p:nvPicPr>
        <p:blipFill>
          <a:blip r:embed="rId1"/>
          <a:stretch/>
        </p:blipFill>
        <p:spPr>
          <a:xfrm>
            <a:off x="2324160" y="2414520"/>
            <a:ext cx="44956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D471-24F2-4BA1-9F80-5AC03CB10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C:\Documents and Settings\sudeep\Desktop\book images\images014.png"/>
          <p:cNvPicPr/>
          <p:nvPr/>
        </p:nvPicPr>
        <p:blipFill>
          <a:blip r:embed="rId1"/>
          <a:stretch/>
        </p:blipFill>
        <p:spPr>
          <a:xfrm>
            <a:off x="1619280" y="1324080"/>
            <a:ext cx="590544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D51C-FE2F-4054-8207-D954333CC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C:\Documents and Settings\sudeep\Desktop\book images\images015.png"/>
          <p:cNvPicPr/>
          <p:nvPr/>
        </p:nvPicPr>
        <p:blipFill>
          <a:blip r:embed="rId1"/>
          <a:stretch/>
        </p:blipFill>
        <p:spPr>
          <a:xfrm>
            <a:off x="2476440" y="2085840"/>
            <a:ext cx="419112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BE2D-F709-49A6-ADBC-DFD962900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C:\Documents and Settings\sudeep\Desktop\book images\images001.png"/>
          <p:cNvPicPr/>
          <p:nvPr/>
        </p:nvPicPr>
        <p:blipFill>
          <a:blip r:embed="rId1"/>
          <a:stretch/>
        </p:blipFill>
        <p:spPr>
          <a:xfrm>
            <a:off x="2495520" y="1681200"/>
            <a:ext cx="41529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F61D-026F-4980-87C7-49ABDF9CC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C:\Documents and Settings\sudeep\Desktop\book images\images002.png"/>
          <p:cNvPicPr/>
          <p:nvPr/>
        </p:nvPicPr>
        <p:blipFill>
          <a:blip r:embed="rId1"/>
          <a:stretch/>
        </p:blipFill>
        <p:spPr>
          <a:xfrm>
            <a:off x="1671480" y="1871640"/>
            <a:ext cx="58010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E2F7-9AC7-4810-869C-75B620374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C:\Documents and Settings\sudeep\Desktop\book images\images003.png"/>
          <p:cNvPicPr/>
          <p:nvPr/>
        </p:nvPicPr>
        <p:blipFill>
          <a:blip r:embed="rId1"/>
          <a:stretch/>
        </p:blipFill>
        <p:spPr>
          <a:xfrm>
            <a:off x="1528920" y="1228680"/>
            <a:ext cx="60861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938B-4F7B-4493-A8D6-0FED6496C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C:\Documents and Settings\sudeep\Desktop\book images\images004.png"/>
          <p:cNvPicPr/>
          <p:nvPr/>
        </p:nvPicPr>
        <p:blipFill>
          <a:blip r:embed="rId1"/>
          <a:stretch/>
        </p:blipFill>
        <p:spPr>
          <a:xfrm>
            <a:off x="3029040" y="2571840"/>
            <a:ext cx="30859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8337-ABAB-4594-87F1-76160B565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C:\Documents and Settings\sudeep\Desktop\book images\images005.png"/>
          <p:cNvPicPr/>
          <p:nvPr/>
        </p:nvPicPr>
        <p:blipFill>
          <a:blip r:embed="rId1"/>
          <a:stretch/>
        </p:blipFill>
        <p:spPr>
          <a:xfrm>
            <a:off x="1800360" y="2390760"/>
            <a:ext cx="55432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2A5A-D4B5-48C5-B803-38CEBBE37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C:\Documents and Settings\sudeep\Desktop\book images\images005.png"/>
          <p:cNvPicPr/>
          <p:nvPr/>
        </p:nvPicPr>
        <p:blipFill>
          <a:blip r:embed="rId1"/>
          <a:stretch/>
        </p:blipFill>
        <p:spPr>
          <a:xfrm>
            <a:off x="1800360" y="2390760"/>
            <a:ext cx="55432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A35F-6356-4F84-A91F-F5F585F96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C:\Documents and Settings\sudeep\Desktop\book images\images006.png"/>
          <p:cNvPicPr/>
          <p:nvPr/>
        </p:nvPicPr>
        <p:blipFill>
          <a:blip r:embed="rId1"/>
          <a:stretch/>
        </p:blipFill>
        <p:spPr>
          <a:xfrm>
            <a:off x="2395440" y="1738440"/>
            <a:ext cx="435312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51AE-4517-4D2D-9148-16374E414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C:\Documents and Settings\sudeep\Desktop\book images\images007.png"/>
          <p:cNvPicPr/>
          <p:nvPr/>
        </p:nvPicPr>
        <p:blipFill>
          <a:blip r:embed="rId1"/>
          <a:stretch/>
        </p:blipFill>
        <p:spPr>
          <a:xfrm>
            <a:off x="1852560" y="1981080"/>
            <a:ext cx="54388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Sudeep Pasricha</cp:lastModifiedBy>
  <dcterms:modified xsi:type="dcterms:W3CDTF">2009-02-11T18:17:33Z</dcterms:modified>
  <cp:revision>574</cp:revision>
  <dc:subject/>
  <dc:title>On Chip Communication Architectures</dc:title>
</cp:coreProperties>
</file>